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5.png" ContentType="image/png"/>
  <Override PartName="/ppt/media/image8.jpeg" ContentType="image/jpeg"/>
  <Override PartName="/ppt/media/image2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17.jpeg" ContentType="image/jpeg"/>
  <Override PartName="/ppt/media/image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5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13.xml.rels" ContentType="application/vnd.openxmlformats-package.relationships+xml"/>
  <Override PartName="/ppt/slideLayouts/_rels/slideLayout3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66.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9.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761.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778.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6.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25.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Lst>
  <p:sldIdLst>
    <p:sldId id="256" r:id="rId70"/>
    <p:sldId id="257" r:id="rId71"/>
    <p:sldId id="258" r:id="rId72"/>
    <p:sldId id="259" r:id="rId73"/>
    <p:sldId id="260" r:id="rId74"/>
    <p:sldId id="261" r:id="rId75"/>
    <p:sldId id="262" r:id="rId76"/>
    <p:sldId id="263" r:id="rId77"/>
    <p:sldId id="264" r:id="rId78"/>
    <p:sldId id="265" r:id="rId79"/>
    <p:sldId id="266" r:id="rId80"/>
    <p:sldId id="267" r:id="rId81"/>
    <p:sldId id="268" r:id="rId82"/>
    <p:sldId id="269" r:id="rId83"/>
    <p:sldId id="270" r:id="rId84"/>
    <p:sldId id="271" r:id="rId85"/>
    <p:sldId id="272" r:id="rId86"/>
    <p:sldId id="273" r:id="rId87"/>
    <p:sldId id="274" r:id="rId88"/>
    <p:sldId id="275" r:id="rId89"/>
    <p:sldId id="276" r:id="rId90"/>
    <p:sldId id="277"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 Target="slides/slide1.xml"/><Relationship Id="rId71" Type="http://schemas.openxmlformats.org/officeDocument/2006/relationships/slide" Target="slides/slide2.xml"/><Relationship Id="rId72" Type="http://schemas.openxmlformats.org/officeDocument/2006/relationships/slide" Target="slides/slide3.xml"/><Relationship Id="rId73" Type="http://schemas.openxmlformats.org/officeDocument/2006/relationships/slide" Target="slides/slide4.xml"/><Relationship Id="rId74" Type="http://schemas.openxmlformats.org/officeDocument/2006/relationships/slide" Target="slides/slide5.xml"/><Relationship Id="rId75" Type="http://schemas.openxmlformats.org/officeDocument/2006/relationships/slide" Target="slides/slide6.xml"/><Relationship Id="rId76" Type="http://schemas.openxmlformats.org/officeDocument/2006/relationships/slide" Target="slides/slide7.xml"/><Relationship Id="rId77" Type="http://schemas.openxmlformats.org/officeDocument/2006/relationships/slide" Target="slides/slide8.xml"/><Relationship Id="rId78" Type="http://schemas.openxmlformats.org/officeDocument/2006/relationships/slide" Target="slides/slide9.xml"/><Relationship Id="rId79" Type="http://schemas.openxmlformats.org/officeDocument/2006/relationships/slide" Target="slides/slide10.xml"/><Relationship Id="rId80" Type="http://schemas.openxmlformats.org/officeDocument/2006/relationships/slide" Target="slides/slide11.xml"/><Relationship Id="rId81" Type="http://schemas.openxmlformats.org/officeDocument/2006/relationships/slide" Target="slides/slide12.xml"/><Relationship Id="rId82" Type="http://schemas.openxmlformats.org/officeDocument/2006/relationships/slide" Target="slides/slide13.xml"/><Relationship Id="rId83" Type="http://schemas.openxmlformats.org/officeDocument/2006/relationships/slide" Target="slides/slide14.xml"/><Relationship Id="rId84" Type="http://schemas.openxmlformats.org/officeDocument/2006/relationships/slide" Target="slides/slide15.xml"/><Relationship Id="rId85" Type="http://schemas.openxmlformats.org/officeDocument/2006/relationships/slide" Target="slides/slide16.xml"/><Relationship Id="rId86" Type="http://schemas.openxmlformats.org/officeDocument/2006/relationships/slide" Target="slides/slide17.xml"/><Relationship Id="rId87" Type="http://schemas.openxmlformats.org/officeDocument/2006/relationships/slide" Target="slides/slide18.xml"/><Relationship Id="rId88" Type="http://schemas.openxmlformats.org/officeDocument/2006/relationships/slide" Target="slides/slide19.xml"/><Relationship Id="rId89" Type="http://schemas.openxmlformats.org/officeDocument/2006/relationships/slide" Target="slides/slide20.xml"/><Relationship Id="rId90" Type="http://schemas.openxmlformats.org/officeDocument/2006/relationships/slide" Target="slides/slide21.xml"/><Relationship Id="rId91" Type="http://schemas.openxmlformats.org/officeDocument/2006/relationships/slide" Target="slides/slide22.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327E4-E027-4C75-B7DC-7E48623BD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79FDE-406E-402E-96C2-862C7716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2D019-F13C-429E-8CAB-5BF401428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C8EE66-52A3-4E77-9E3C-C8697CB417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874DD2-9B81-4DA6-8ED5-AB30A95B0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225657-ED1E-4BD6-AFD3-7C6235BA0C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1374D-12AA-4160-94F7-558AA9C9A1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9095C-CCE8-4B15-B2BE-392B11B36E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7BE095-4949-40FC-B3A3-8EAD1ADCAF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BFEAE3-64F9-40B2-97FB-6C1B0A6EDD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0D1AF4-D05A-4E96-9DFB-C4962CC4AD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911461-4001-4E32-B659-E1CB7B61F4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732E4-9CB5-4428-BA13-D93017C52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929102-8858-40B1-A6F0-0696615887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E5FDDA-CF25-4540-8BEC-E8B39DF816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A14D83-6C9A-4EAD-86DC-86AFA33A20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238F50-DE9B-4D26-B21B-B22A45C1B0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1B0F73-B008-4F0B-BB40-FB2B1B5B66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FEB0A2-7B16-46F4-A62A-4D693F7A95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DA999F-BEBB-4C25-AD90-D273ECB201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FE1BDB-CC38-486C-802B-555CF66E40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DB7F4D-CA2B-4C59-BECB-E7FC5A157A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ADAA25-D077-47CE-8E2A-6F1BDAF754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1FA3B-2AD7-4D11-9F03-ED70EEBC3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78FF72-E5EC-4FAC-A5B1-3626E56F7D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83E6AA-B798-475B-AF39-6703A8613A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F14868-FD3F-4BF4-9330-D7FB775CB3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558F9B-1CCC-49A8-BC90-5DB8C8C18F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DE9D84-F77F-498F-95C3-DA3287C6BC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7CCAC4-3F46-4DF0-B7D1-70F9380789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BA8DE3-3EFA-4751-8704-1DB0D413EA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692B1C-4BDD-4465-A35E-BB8B3D876F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DE33B2-EE2A-4D73-95E8-C87F48B2B6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50714-EC1B-4F0E-8C3D-42FAE84F7F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2CC55-D40B-4E58-A350-B329C91A3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68532A-A4A5-4C0A-97D1-7C46C7E29D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CC0D00-23DF-42B1-A03D-D70AC3E101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427BB2-8D01-4178-AE0E-9EA645ACA8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00FD6B0-7134-4AE6-9541-D332D1D63F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D3EB21-BB5F-4101-991C-218E573117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0FC870-546F-4067-8E3A-913FF400E2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A9375F-C3B2-49E0-924B-F6BDF7058E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706AD2-C82E-405A-AE5F-8F099B0309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BD676A-DA6C-4D8B-9B62-9DFBFBA995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8AF32E-CB60-4ECC-8C6C-F9552869CD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31CCE-9660-4260-8A6C-9B19168EE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368C2E-C7AB-4227-92CD-1D7B6DB55D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701AEB-33DF-4E01-BE32-87FD0D896C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22AEE5-85B7-4691-8561-28B185194B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866076-2EA0-4A12-8F71-FB6388D422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DD27C4-6FDD-4D92-8A6B-D7265807EA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E736506-D69B-475D-8B67-0D3E2A0332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B5925E-3B40-47BF-A7DA-71ADFDF982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2D0648-D1CD-4514-BA96-761443D100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D55C00-4E86-4FB3-ABF8-57AA3438DD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FA6E06-EBD1-4830-9839-75BF00EE9E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390BF-66F5-48C5-A210-E3AAD7C3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0FCEA7-D5B9-451B-BCA2-3A355E4ABC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6ED16B-4A8F-4605-8E56-272D017956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278F9F-C528-43A5-996D-8C035905F3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F65BA0-F3AD-47E2-B326-7A42D03F01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DBCD63-9676-4A8F-8F00-0FAAA76640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39997C-9051-4FB6-A4C7-3360143E02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83773D-0462-4DAE-A1B9-A26CAA579A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22C68F0-A759-4ABB-8A8C-9C6529D406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FEC33B-042F-4D74-8EED-36DFDCD84D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A76226-8817-4EA7-A45B-037E62C4B6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A1303-C411-4062-9827-789894F63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F6C833-2353-4305-BF52-36F76D941D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C43D325-2ACC-4067-9690-6D579B605E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55A376-B188-4012-8094-5D3FDF7614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0B8E45-FAE9-4B4B-A8E5-BBB1E9AF28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78F798-8CF6-4301-BB46-0ED52ABDA2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199B074-A62D-4718-972B-0FCA64B267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47EE76-A209-4AD3-AE65-80B07B5A4C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88720F-FDD3-43E5-90A4-A99F15515C3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21B3F9-07D4-46D5-A375-B97344C7DB9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471C1FF-F65E-4E81-9E6B-F8E22C9549D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CFD4A-C028-4821-A1B3-98CD17AE6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FD0576-3C30-4E66-AFF9-1AE0BE764B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6EFBB1-AE10-4062-8353-49FE95FCC2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D03360-3990-4147-98C7-F7CFB9CD64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DFAFE8-9E92-4507-8A40-7615B77DE7E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6BE794-9937-466A-B737-AF6DD4A42D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CB2D42-EDB0-44B8-9507-A164369E7E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C04773-9FD5-48F5-8139-BF536EC90F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D6C050-4E98-4829-9762-8714D80D3C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A9F7A9-3B26-4FB3-877B-0EF56453BA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679D57E-D01F-4891-935A-EDEE08DC137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0ADCC-403C-4206-97F2-2DA1EFB4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34B940-0599-4CF4-8B37-698E50BEA1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A59A381-BC56-47B8-B36A-584EE9B57A6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834159-9583-4243-8EB0-50C10453C2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42940C-0B08-405F-BFA4-2EFEF8A3EC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3E7B77-55BA-4709-BA2C-86FD475294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FA9C36-6C9D-4AA2-830D-5AEC5808172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9370F4-151A-434D-845A-7B20FB71CD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8C17F8-DEA7-41A3-81DB-3899312851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069C36-3A14-440B-A00E-C1EE56F0DB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16D9AA-3984-484E-B724-5F66164CA5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2F50F-C797-4941-ABA9-5BD858544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BB9420-37FD-4E46-97E1-741D135474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028C0E-EB61-486F-8282-62012A0C3BE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24BC250-08AE-42F2-842C-2CE2EF2AF56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EC88727-016A-43DC-A3DE-88BA9C06650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6430E9-1948-43B0-8252-1851F53D52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D4D71B-49B3-48CB-8E11-3659D8AB26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F273E8A-7E4B-4299-A6EB-6F2BE9685E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3A925F-754C-47D4-84F4-C77CFF5E06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0761BF-4A17-44F1-B03E-23366E44FC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87A71DC-1E7A-420B-B044-CF2C7D0FAA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EEEF-F958-437F-B666-B50CCE5A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BC858-C16F-418B-AEE3-2CABC6734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9B5E9B-0CD6-421E-BAC8-3357003A66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AA1EE8-335E-4B4B-8C7D-5BC9F7FB9B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25DE59-7205-4DBA-B96E-B2802E4CA4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347C37-F4F3-4068-A5E6-B40D501FE18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F6C062B-DDF6-49AE-A202-01D5FB7DC81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8BD9F3C-7B5E-4CBA-9F3C-EABB12FB1AE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646206-CCC6-43A1-B92E-B3E8FC48C9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88DFD5-9CF0-43DA-8DDE-7A785F0A075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D909155-BB93-4DC0-BA45-2E028C2AB5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3EC16C-ABBA-419A-A731-3E8999B302F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D23B-8923-44CE-B519-E84EFA70E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6DA000B-AEBE-44DE-B63D-845ED79C77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38ACBEF-0793-413C-8E03-D3E2737A30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E9FF91-0512-4657-BD5A-E6D063E3D81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F3C111-5F5C-4D75-A330-D024B623A7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FFF25B-8C80-42CB-BFF2-616FB3E9350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ED504B-F261-425C-9772-E4E86D61028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0B78E74-8BC4-4FAB-8387-AB636AED58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624C112-FED7-47EC-9F10-10F7B10F9BB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78ECED9-A1A3-4768-92F0-D7B1615C42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083C1F8-2B08-41F8-9A67-0B394EE79AD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4F8A4-1DFA-4C61-ADF5-45D80E9D4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7ED611B-484B-4168-94EA-CFCC2FEAF0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083937-4FCF-46EC-ADD1-3E7ED46AE83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2C9688-5E27-4B97-B54D-F5FFC926E3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C2541B-BD8B-4195-8F45-7A7F50A503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0F3C09-2E75-4A0E-9533-8A20A5CF71F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7D4B64-06AA-4D39-8BF3-919BC83612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8DBA6F2-56A4-43A5-A722-CB5041DAD8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B0BE5F7-76C7-4BB0-9265-01E5CB0A6E3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72F970F-7D78-41A9-8FA8-A5C8BE34D49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4DBE8CE-2F34-430E-8510-952A3C03E51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3F0F6-34A5-4D93-AB86-1DCC2538B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056F3BC-2407-4142-96F7-C3D4565B395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BC6A42D-5689-4507-BB82-9143BBBE0F0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1E8AE5D-7AB5-42EF-910A-5789D953833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F70AD2E-60EA-4317-BA93-D3FDB4EE6E5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1EA71BC-5BD9-47F3-8D68-F02361716AC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1E579C7-D6DD-4624-841B-1A21ABBECA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DB58E6-FFFA-49CB-8073-EAC25B9D854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18B7277-73CA-4A20-A4C0-A4F13736EB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25C06B8-0965-4C7C-917E-049F6ABD58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A026436-40BA-4B27-A0FD-A8C59F5ABC3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03958-8441-4CC6-8284-3A1F5379E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8E3EE8E-6631-4F1C-B6B3-EB6EEA346A6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BCD8412-782F-459E-8D4A-767EE84861C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C026569-B925-4232-9391-4C8806660D4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53B0A38-407D-45E2-B104-B274A8CF98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458E64B-491A-433C-9B5D-B30B7AAB596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142F28B-330F-441D-A4EA-A5CADA8D674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ACAEBCE-3C4C-4C70-A534-B4AAAFA712D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8DD00D-E05D-4382-88AC-583981184BE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853565-16BB-45B4-94B4-64F7585DED4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50FB4D5-A265-440A-B58D-D64CECB56F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309811-D573-4BDE-8857-931E02614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9BFA907-EA42-4A5E-9876-0EA00391B48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43CF17A-5127-4430-8D46-A36F0E4110B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1FE241C-F313-452C-8533-98D8295E1C9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8C9EF97-AE77-4C64-8B43-6A8ED4DC6E1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CF28A98-7831-48DD-A2F1-2922F7E6616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9C016C5-6F08-4DC9-9131-70AD98CF645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D5955A-8C5B-4952-8E22-99C2CB45E6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96D3929-9EAB-41DD-9A5C-7E6227E1F19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0AFAC47-9AC4-43A7-9DAA-DEC72CD04CD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E1369E-92EF-4C61-BD94-1A4684F67C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79FAC-4E94-4020-B8A6-80FEFD4CF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F66A850-0C80-4063-8883-9679D51181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DFFF8E-4362-433B-BD78-4998174DA53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68E909-D272-4FF5-AB52-C7BD7A22938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3B3CB5B-FD7F-4A0C-8D30-B23F93AA5A4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FDF5F66-216F-4866-8BA4-176B19A817D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A5E9E58-7557-4399-AFC3-DD051340C2A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60A03E2-4C91-406E-83F2-25EE64AECED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E095552-0427-4802-BCAE-C59EF28DFE6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31DFF13-CD97-4929-805A-19AC5645692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AAEB174-4D1D-43D7-94D7-BC6A6B53132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E1D4F-4119-4C96-83D2-D0205BE8D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8B4D66A-42BC-4900-8E99-DB5672BFAC1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CC4BE7-07E3-4184-829F-B272776C2C2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10A0061-9A05-4F05-9EBB-705CE92AADD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7C2B4F2-E907-4409-8CE6-5F049A60D5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D92E0CF-30F1-4236-9653-07A0A2C2057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3956165-B2B5-4A88-87E9-8C45D4CF821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9802274-8B2C-400A-8291-22851BE96CE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BBCC775-01B4-40F7-A377-87081E1400C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E783769-932B-48F2-9DB6-880612F3B8B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8406DC3-E60A-4AEE-B3C0-AC5FEBBCA1D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6CC8C-D11B-4763-9248-42507ABCD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85EBC68-CBED-4B13-8CC0-F0C68BBD9FF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E94372A-71C3-448C-9DDD-05E7F5AEC96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5D8AB3C-2C9B-4BFD-8154-9626DE432C0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6325E5-E73C-4262-BE69-6925E8D8A5B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C68F8C4-3BAC-4D86-9395-4D0A78B486B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201E0C-A775-4744-8E2A-C1EE73756C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A894AF0-9856-4712-B640-B458D2F3C88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3DC165A-A5CE-4FA1-AAF0-25DD2887C6D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4D95A70-8DD2-4A56-A1CE-5662E920669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454D6B5-8D2B-4A2B-A348-CBBD60FC4EF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11262-41AB-43BB-89E2-EC74A0418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CDF5910-8A41-4AB8-AA52-A11B75EAFD6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B2605FA-1A72-4CAC-B240-9A828CE4514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EF84486-C4EC-414E-88B5-48180037458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2738B4-4E1C-42A6-86F4-DF7E9044BEC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9C07F66-BFD8-4F23-BE93-747AB028622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ADB329A-EDD1-4129-9D8A-BCE8D9E136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86B902D-DFFF-45F7-BA2E-2CC65ACF97D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63C10CD-1044-461B-9AA1-90524B1188D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AB2BCE8-DF4C-4E74-A6A9-045FAF64557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2FD6D12-E4FD-4F03-953C-04C723552F2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18F75-64A5-497D-88F2-C3AA686AA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DAD58-20D8-40CA-94A3-069064A5E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9EE2028-1083-4838-9C01-3525190980C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40988C6-384E-4419-BF78-D5675F54171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9DBFB8F-54A6-4418-AE30-246F78004D4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EDEAAAA-7545-44C1-BBB3-8FB5E10F5BE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CB81F9B-31DE-4559-A775-8C274A59A2B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AC255D7-B183-4D09-A4F9-1A9A702DB51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2DECD8D-50ED-409E-B047-E746653724C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D4CC2A9-F475-4767-8579-18A8C2B79C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0E6546B-E7E3-498B-9A07-C205002AF70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D2ABB13-6115-4266-956F-E643F60401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D54E8-79DA-4534-ACE0-5617323CB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3C96F70-58B8-4AD6-A012-65E10F0680E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BB42E8C-D2BB-40D7-8699-5E721A5C7B9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2EF34AD-3524-4C4B-85D9-DFB9FBA72A9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9CB43B3-1961-4CCB-AABA-0AEFF585038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721E0B4-AB12-4DD2-ABE1-837D6FB9E0C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DCCA333-ED86-4D15-8511-F9163F398E3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791685-D66C-4826-B756-D6311955547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50FB9E2-3D02-4EA7-BA39-06FC09995A0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50ED010-E215-4011-B1A4-F71D2752339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48783FC-53C2-4187-B646-3BB18299D42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42387-3DD6-476A-AA67-ED28A47EE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4E87F58-86AE-4D18-B6C8-1CF7C590A36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4D50EAE-5A37-46FD-8519-F900D84E143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23E13C6-A9E1-468D-BE32-D992921FB82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F7CE5CF-A152-401C-BFCA-630076ABE0B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E16CF1FF-8F71-49FE-A2B1-B5AB0ECDD796}"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B40400B-A21F-49E3-B0CD-42C742C2EF3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E8A8591-5893-42CE-B564-622264E068A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906BD16-DEA1-4FC8-B3A1-2E01DA15BEF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EDE879D-2B35-43E4-9547-88196010DC2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1186D1E-2365-410F-9686-AE474D4DBF0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06585-19E8-4E02-9E82-A6977E406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FFEB7E7-F482-4BA7-8B9B-BCB39843753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931E313-400E-4594-8F76-1E812FA38E7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5564B7-E762-4330-B9E5-4B369122C9B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9BFC106-9130-4ABA-95FB-94A065333C4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D4E185-F600-4A67-88F2-5544D6800DA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B4BC59B-8CBC-4436-A3B6-B2D6B97E389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03C91BE-FA1B-4559-BF4E-3610D69063D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B57D81F-F706-4F47-A9C7-2462CF2DAA6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9B4FE0A-86D4-4A2D-B2FD-CCB441EA53F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54C8FFA-3E16-473E-B97A-3FB15FB0537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86E012-EFFE-41AC-9980-F7D55664E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A58E532-E3AB-441D-86A7-BE6F942A56D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346544D-5FBC-424E-863D-70C6D6C3585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E3DF624-D285-422A-8467-38116A756F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65FF6EF-30AE-4A5D-ADFE-10E4BCB4A81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B1A0863-4A9B-42A3-B2FC-AC6A3ADBBDE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6160BE9-BA33-4DFA-9E04-C6073503024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C9168FF-38A7-4B76-B375-E0144BFDAA8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6508698-1CFF-4555-A506-EF06ED2449A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D440972-7C62-400E-A8F9-8D4556C278D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F35CB76-E8A5-4915-9591-8654D136C9D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1FCF1-E97A-40DB-AF2B-AF7A31AD2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7945905-4226-4458-A7D8-79D554D4C08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10C67EA-3489-4A6C-84EE-9FCB0957598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366ABBE-2556-4EF2-B3E9-A83BE68DFB5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406F492-B17C-4148-9E62-D9815C8A157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DB2F70E-3173-404E-A60E-2AFDD191810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9CBA590-D700-42C1-8F07-C24EC49E0F8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8411753-ED9E-4A02-B08F-3A7B126CDF3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1CA959C-BA1F-408A-B37E-94472C98AB8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6B5BEEC-8551-491D-B6E4-08C10EC18D8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0B021A3-1359-4B91-A89B-68D125FFA4F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8935BF-CD0F-45F5-A24D-50796BCDF2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7991ABC-BB24-49FA-8173-314ED768850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53A6954-CCAA-42F7-A45F-E32880A4A24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A79315C-F362-42AD-9D2A-24CA70A3DAF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845DB9F-28C6-4B0C-AC2B-C51958BFFCE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C88E5B7-7EE5-445B-A0D1-8E45C47CF27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9BCE457-1513-4C9D-AD89-579FC9073E8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06D382E-71EE-4115-B756-2C716436F52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75B3679-55A1-4E1E-99DE-B4B6BE89E8A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77167B7-E87C-4806-BF22-F8B29E78887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EB659C2-98FE-487F-84F4-55EE08E7F06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A3D94-B73A-4489-B05F-D09100833C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1F9DA13-301C-4E0E-A29F-C1170D01DF3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80CF8B7-BAA0-40F4-B6E1-B3ED672B7E40}"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F5BF966-BC06-4AB8-B047-D933DFA0BCE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E8B9474-B4DB-4C40-BF26-E2FF2C860A4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48866D1-5E8A-4BE7-BF18-3A313B2DB0E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1E3464E-494E-4FC0-B677-9981C87CBFC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3AB08FD-6D70-4F27-AE1E-31F4F87050B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CB9E31B-F9AD-44F1-B7F2-F55B99BF30F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1CEC281-1347-4404-9C53-7A3C7675C06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A01C8DC-E4E5-4D7E-B6BD-A8B8BBD1328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15A62-5474-44B6-9617-95E91C2B0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FA8D996-0543-4DD1-82A4-BAF574D4218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CE1A30C-CC84-41D7-83B4-22515D780DB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38CD727-C38D-4C71-82BE-0202CC68CC9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ECD034E-C5C0-4DEC-A9FC-175F9BA26358}"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773DCBB-05B2-49F0-B691-6EC643CA4D7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704D5A2-E03E-44F2-9933-FE821DADD56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F997CE3-7E5D-4FEA-AC4E-799C5FD853A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66DFA14-8CC3-4DF5-8326-BE5A1371E1E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42FED7D-43C3-4836-802B-CD391137FC7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470187F-5225-494C-9CA7-95ECC5B67B0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330EE7-D2DC-4B48-9F37-53365D7A6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94A05D26-A717-4378-9191-27DB03E3842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75B9FF7-1A85-4D58-B217-375E9C32874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0F52382-830B-4AEF-9881-604E73C0038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CECDD52-9D25-439E-B3C6-EFDB0BFCC06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91A2AFB-7969-4DAD-803A-7A00B199E73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8FA90E6-F03D-4209-B96C-66B4F1E9635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0F36183-11B9-480F-B3E8-18DD4F88A82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815325E-0235-4AE1-8D71-6CC002C5D4C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E08EB66-409C-4C58-BAC7-D8CAC28C6D3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6970ACE-6F8B-4C75-A306-3729A1BEE08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F2258-609E-42EB-ADAF-17E33298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71881-2AE0-4969-B487-992D56954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EC770EB-0BA7-43A5-A048-905727F28DA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25578AB-F68E-4DE1-A1C7-95B71733F2B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1E648DD-1059-4307-A4F2-7357BD4C45B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9FFC445-3B0A-4ECC-8EE2-4D5D25FA435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4B00A8D-EC69-4A70-BD2A-D1FF234E42F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D463FFB-4578-4DC1-AD2E-2F2E070D5C3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FC1B69D-0602-4E2A-9D14-EEB8509D905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426840A-E030-467C-B037-9A432266FFF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8D414D8-25B5-4F7E-B301-357869657F8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D688E2F-69FA-4153-BC69-730FDC4EF5A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E457C-2E57-4244-B605-FE3B6E197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A21D9E2-F66F-49BB-AD73-6A49D6B1AD5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A25D73D-CFB8-41FA-A1F6-035C49EC190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43221E4-04B9-4B77-BC40-2A40172AED8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2BC0103-3B2D-45AA-838F-039C50E6859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67C5F66-B226-430B-9BF7-C660430EE01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BCF97E9-422A-4E2B-B1CA-BBB83ABB3FA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F2A19AA-51A1-4A13-BBA4-B4AFAA390EB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3C69325-C312-480C-9045-6D1587E496C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B2A8552-92D1-4014-9C9B-14D3CF42B67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A7B445C-0F30-48DF-82A3-4C868AD872B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202D7-8E53-472B-A29C-ECBD7332D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7929C05B-D955-4818-A805-29683B3756C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B33E1B2-B5A5-49CC-B73D-B4EAB2A6FE6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049C1D1-96A8-40BE-8109-4A7AE6208D8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B405B7C-5CFD-42AD-B9D1-F2061CFD28B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94ACA75-14CE-44FB-8D88-47689F27AE2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92176E9-B45E-4CD4-A261-3C5DC4EBBE9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E5E71FF-181F-4845-A307-AABB619DDB4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AF039A9-FB87-4AE2-9DDC-378845C87BE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7580010-ACF7-435A-8CA4-E6495A34BCF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F06E53D-D1E2-4561-B273-02E5BEB7D0B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8C9E3-7F03-4DE3-AF4B-BFB0436DF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C365232-85E2-4663-B7B7-F9F0C7A7880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11DCDAB-7319-4B4D-BB16-2537CB72D1E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2FF3BF8-0890-4C1C-A46D-C157900D11B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365E8C7-6E2B-4212-BA91-6A1B58C650E1}"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8116F59-FBA4-4E2C-A1B1-F0D3F259B5C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C444A77-20D5-4111-B3E9-F90365FD14A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A5409CB-0BAB-4FDC-91BC-D6E4CA6A1A2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8598BFF-B218-44A7-83A6-A08F24F764F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74138C3-FA38-443C-86B7-4310B7D1C32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99BEACC-D8BC-47E5-8A11-44FC88A7933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68A50-1E4B-495A-AF80-192140582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EE71F3F-ED2E-47D2-9CEC-0E550CDD82B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60C40F9-E3F0-42EF-BD95-E6D9192165B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BC485A9-356B-40EF-BA99-7871D72554A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8CB0EBA-C733-4FC1-8D04-15DB6E41A14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2880F2F-22EB-4C9E-B358-2BDA0105B95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76AE810-0A51-4E93-9651-7B914DED6A7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B51E5BF-E88D-458C-89CB-95208DF86FC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4421632-3608-412A-A0A8-2C444229586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4A4336E-7D09-4FCD-AF43-E53B234E0F4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B976DAD-C4A1-49CD-AB2F-9DC22D55E13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A3131-DDEE-4326-87AA-86ABF363C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82CAA0D-5196-490F-AAB6-840B4EBAB58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BB9C9D8-D65F-478F-A6BD-45603B426BD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C884A6A-F472-4F82-B037-9DE34F385D4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109675A-CFBC-4055-A2D8-BC5972E2E0A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B44DD8D-D519-421F-B4B8-FA48A61C3CD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4303751-5BC8-4B30-805A-BE4E3F658AB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D3876D1-D617-4555-B802-F5515775F56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2E44BCA-1D24-4DA9-811B-C405F8252D0B}"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F5EEB9E-1F10-41E8-91E1-0B3172595C2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6358726-0BF4-4319-AB00-04EE46B36C3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94656-8238-40AD-AA82-1E596B604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B043108-8493-4210-ABAA-C70F9EE62073}"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A413232-9528-45F3-932B-011FD7926C7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0936F55-912F-49FD-9DFB-89DCE9B38B3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0FB93C9-42BC-4128-BD17-22B75B48022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0E09FC4-3D45-47F1-855D-3909D697675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830EC3B-2497-40EE-8CE7-4D1CA9DA6E9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7F3D1AE-E9BD-4887-8107-E5DBDF858DA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3E7C5D05-5271-4B00-B6B2-3507702B086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559E659-4A56-48E8-A88A-427B5699ECA5}"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46242346-F4A0-46DF-8737-75E5FD9F5F2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6AAF0-E4B1-4461-9AE6-AE82FD1742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9154946-310A-4F91-A73D-5AF9CDC75B7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0D47990-6E53-455D-99C5-DF311A30DB1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BA7C44E-9BE0-4DDF-B057-60E03F1182D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9292300-B1C0-41DE-AFC1-63B6B81DC43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E524E30-60E8-44C1-9E27-67DBE953E03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2E49330-EC58-4629-A584-1D2831E3848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3A09073-4842-408D-9521-C935D2C4A98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C025A6C-6B22-4A9C-AE7C-60B0FA6D53F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CCC31E6-581D-467A-8E60-C8E7CE4FBB7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B2C35CB-5E0F-4CDA-BD02-6F9EB83D5846}"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CF6197-64B7-45F5-A84A-2B05196D95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5D8F90E-404E-43F7-9ADA-C9090DD86F8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D41A399-0A4D-448E-995F-6094970F38C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4A9D417-F8D0-41EF-A19A-C9DCE011075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488B19C-951B-4B76-80DF-C29D424FFCF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C043384-BC84-49D6-B781-86EEFDEE39D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F70AD2B-E89F-4BB7-8D1F-33C6595F71A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5EA3679-5EC0-435F-9DBA-B7892D6CCA6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0965E02-DC4A-421D-A9FB-E12E3D8F56E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0C81BC1-3E19-4A77-9AAA-70AABB11F76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EE9277F-FE18-46A2-98F3-EC16C391C56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0903FE-C9FE-45E2-B8AE-99324BFDC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F0CB2F2-4AF9-4837-9665-BB012B96ED3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38829B7-9EC5-483E-AB6B-68F5AEE471C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84E81B8-7345-4E5D-A1D8-CDE05CC8822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6C56108E-0E16-4090-9B55-CC524169DA1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BC9E736-FC24-4505-93B2-6C1EDF843AD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1BDB0A7-2A43-4C47-B710-64A88C5FC81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3944332-9096-4C47-90B5-965F77D5D88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8D50115-8FF3-4E92-A521-7F8C83072F4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493D982-D2C4-4261-8D1E-50528546B3F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9745075-6DC4-4D02-8BE9-B9671A7ACB9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CC4C4-5D9F-4DDA-B823-FE7619FA6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4B594-C2FF-431F-9E20-913A9F20C1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043FBA7-AF3D-483B-865F-4E8CF642BC0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E70C82E-2C49-4CA8-AABB-14D92AC1258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D8E8E18-8313-4257-963D-1E10CA81F2B7}"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5C0FB46-93C7-411C-8E90-4F1B1CD0D7D9}"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CB240EC-53FE-4845-AB2D-1797DA9CAD14}"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614E015E-1C48-437A-ADD1-AFF909318593}"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006458A-8344-40A1-AB10-3C90FA66B66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4E6E59B-37C5-4BA5-94BA-B5287691922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F7678E9-72F1-4121-8849-D15F8D31FF2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E48194D-B81B-4F27-AFBC-FDF8D92DA46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580D5-0FBE-41B4-8E56-0ABB340C6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53712E3-832E-4217-A96A-01D724C765D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B6E9B3E-6094-4348-B7D1-30995B3D799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97561D4-56B2-4C62-A676-1DFF8F1385A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E0648E8-90E5-4A70-ABA8-F7031017B44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5BDB683-BF27-4B72-8625-A69321268FB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AC679EC-D99C-4A68-ADC0-E3BBF96D5879}"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E2D940B-9D7A-48E0-8CDD-177563379C9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E50E603-BF6D-4B6C-AA8A-F86AC69BFD6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EFB8FB7-E804-4E2B-BDD2-2597DADE702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7D62E48-D57A-4300-9B04-D3A2774AE28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053A1-C039-4FD0-AE6C-090DB3498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9889CDE-F47C-4F68-B032-DE1A8B21105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35D79C6-0B9C-4B9D-B200-50AD27225FA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1817F8E-3CE3-436E-A67E-65C0BD0E97B5}"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C4165E4-AAAE-4A52-B7E3-294E881E31F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E1F49A0-09B4-483D-9CBE-014D51A03AC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9D3924B-80CE-4573-A7C5-6884117612A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50A57C4-2645-4527-AC71-AA9CE45EC7F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F70CB5B2-800C-46E4-83B6-F279730E8766}"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DED0CE0E-056E-474B-BBE6-81EC69FB16D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1CF4D14-8479-442A-A44A-10FECB6EA3C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9BF89-546A-47D0-A3E8-FFD1847FC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B6C84DB-802A-4EF3-AC12-29F2C47C4DC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40175A6-36A3-45E0-8397-EBDF9579E12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A1F6F77-9308-4717-BBC3-82B164DBC7B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D3D30CF-B99F-4FDF-BB93-C7FD8C66FD5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FDD67ED-C5CD-4AEE-94BD-6E5E593779A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7B42490-44F7-4B07-891B-030365BD5D0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747F927-F813-4A45-A37E-1734B7CCD21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CFCD8F8-6A3B-4DC2-BBCC-6ADDCACFA09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9B81162-CDD7-471E-88A5-9D05AA2CFE4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FF57D9F-166D-4773-8DEF-91168850D3B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3C89A-52A6-4251-AAD3-482912751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F2433F32-C2AC-4C4C-B3D2-5E7ABEB64526}"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E6F9F2E8-5B24-4B4A-B988-3AB5C064FB7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0A81C65-9B62-41E1-BA55-F3ECF3F680B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8D5938D-73F0-48DE-9CBB-0509A0F47B2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502E3BD-31EB-4B02-866C-72EC814FF82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D318FBD-6437-413F-9013-43070B13E7C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3B31BE6-9A55-4323-BA53-E23C4EDC467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89E5E6E-5E35-4B7E-8FAA-6DEC1E1EFF4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E05CFC6-003D-4E02-A035-C867B8ACBE3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DB7C6B1-CEAA-478D-8AD6-2E9B9F7F034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206C6-BAA0-42B2-B911-BBA57EAC30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4546770-44FE-4295-A237-EB4F42D85CF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97E2D4F3-22EE-4690-A9A5-1C46020B1A6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C922D33F-20A3-4440-9F9B-CED387ACD790}"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BD20C1E-C212-43F8-96CD-44D19FBB054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723D058-D7F4-42C5-B2BA-BAA50E33840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FF28B87-596B-425A-925E-7A34ACC73A2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834FB62-2E82-4435-AE7E-73588C204FC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C012F5C-5ABD-4441-A2BA-6F47D0035A6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9E76768-C954-4DF9-83C2-76B629E7DC2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DD01336-1A51-40B9-9590-A883EB61025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DF6C7-4841-4C4D-AA1B-9EDB4835E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9E8B40F-A823-475C-9BF8-A695CE0AFF0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061236A-60F6-4C72-A5F2-77CD74BF480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3422701-2D62-475F-A90B-3DBB2ECB50B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9225140-10C9-402B-85AA-0F225CF65EE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5F661102-A4EA-4C77-9CBB-87793C64F87E}"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3D2A11F-AC3E-417C-ADAE-AA6A117575F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60441E0-A4A0-4BFF-AC58-20AAB4AE9B1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A45A77A5-DD56-40AD-8B96-7A7690C0E2A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4625DA7-8376-4FA8-A658-32848976903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9FF7635-819D-4366-9F34-EC520E156A9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1318C-C699-4734-B12D-43866041E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7AD3336-9A0E-4857-A616-01DDB7969AF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17A3BD3-8888-44E8-A879-7987963D67F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E68E1BD-C091-4481-A91D-3759E429893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307B873-D5B2-4496-9F23-8B3560FE9D9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B4326E9-3395-4BE1-A1DC-725F7379B01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F93F2B4-7FF8-4F4A-9D66-13D0DB40B25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78BF302-7758-4CBE-9725-BFF81634A334}"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D81BB991-B74E-4969-9621-0B9B650C5CC3}"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E76A156-A4F6-49DF-9D3F-E427FE07095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0D181C25-03AA-4C91-9852-E3081DD7DC05}"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CC3277-77B0-4A10-AF44-5310D7E2A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54C44E11-B9FF-490C-812B-B7E9863BC32C}"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9B3F6FED-B58E-4C26-948A-4BD36F4B989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C9760F85-2751-45BD-9E36-93382AF5741E}"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3C3E0BDF-AAEB-4A23-A86F-3506D8CA9E5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4E2971A-F547-4D84-8D0D-FEF1A1A2ADF1}"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253A1147-33F1-4FA7-8EA4-06E164061A4E}"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004BC14A-F670-4160-A1D4-11F4C6FC5E1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A243452D-6BB6-4334-AD02-BEA6EEFAA64B}"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0099831D-54CB-45CB-A1EF-814977590B3F}"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D86FBA6-B2DF-41B3-89DF-0D65EDA52A48}"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B338D8-39CC-40A5-A2C9-B601CDD9E7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E2CD6551-C5E3-49C6-9992-8841589F280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B1B6749-39D9-4AC4-AF5B-6CEE5F24A95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31155FFE-C0FC-42AE-A250-80F503C3A8AD}"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6BF8D8C-8FC4-4F6A-87F4-7AEDD1693EB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56CCD82A-6573-41FD-AF52-359F1A05BA51}"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86F12EA-D91C-4BC8-99FA-9B03A3010034}"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FCD4B7C-D770-4515-8C6B-3D389B390AF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5FE5DD5-B974-479F-87E9-93CD96E2934A}"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24A006D1-A5A6-4A1C-8C52-B3FBF796B1CA}"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7D52BD87-ACB3-4B88-B8AC-D16937E117EB}"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D72E1-D016-4599-A847-EE8D7C48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62B7A4-FE20-4C57-9641-EF8A418DF9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5BD8F122-128E-4CB6-BD65-BD8ABD6FAC67}"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4C5A6C1C-B12A-4AAA-A1C2-2AEE3E5F5CDF}"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8F46226D-CB3A-4E1F-BD34-1DF27FFCC52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0DD9A643-5FCD-4C7A-90BA-62EC637823C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1C8905C-FD39-4AB9-8B4A-A23460CF497C}"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D586DEDB-2065-4655-9400-D09812DB5DD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C439098-0AE2-48AB-9D16-8E2E83BFC0CC}"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48A17B8-E8D9-4609-B31E-96D0FC364A8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2239338-E0E7-41C9-BD38-525233EAA02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5686038-064D-4D89-A4A1-94606CA79493}"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54B7F7-F37D-421D-91FC-EF38DBDED7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82FF49B-B00B-46FB-81F0-82731D83C10F}"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431EC078-C11A-4A6F-8601-593894A08B95}"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5B189652-6982-4452-8AB9-26AB850238F5}"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4032101D-F150-4AB8-B8E4-7D450303F70D}"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B44845F2-9244-4A38-8EF6-3B29F02E78CB}"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9A83C0BF-2524-49CF-98A2-BAD7C32CAAD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C289186-F669-4D7B-BE6A-269D25264CC2}"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73F5F8B9-C74F-4C6D-88BF-55C6F22EE52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1D4C7F37-1B4A-4644-B699-870D929549F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62F0D998-1AB9-4BA8-94CF-44429A5E0C2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362876-C9AC-4F8D-AD01-CDCBFA7A8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F8E5AE6B-5880-4375-B416-5315C49C8CD4}"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D4175DD-215E-4BD7-9AB2-E58C4172F2BE}"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E589EC0F-1974-4E3D-9BB3-4C605F4BE5AA}"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8A7CA943-464E-4D2E-AC69-C743817E05F1}"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322E1CB1-030C-4849-AB7C-9C7D48047EA8}"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2FCF6A43-8C74-4A42-ADF8-D053D8442AD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0204B08-CD69-4916-9AE1-135EDD4C410B}"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451D263C-63CE-4C7B-BCFC-1D3E449F534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41232E65-C819-4211-B94A-6C9B2B90FD8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7B8B78BD-8B2C-443F-8229-55B0E0F7AC8D}"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C3EB5-A880-429C-A7E9-19D91009F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F175BBDC-9170-4AD8-9404-D95BFA684A65}"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F17F22E-F3C2-4E3C-8C9D-830DD448016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3DCF51E-48D1-496C-9420-D957A87D958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8A7ADFD-CAC7-436B-9631-87061E78EA0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755371E1-025A-4506-AA51-E3B8F37229A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9AAF157D-BFC4-4C75-9C70-1B65E4607CE4}"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CBAB8776-82DF-47ED-91DA-C8512407C39D}"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F0223E7F-B52E-4CBC-9F20-9AB5683C7042}"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CF3CFA38-80ED-4C27-9385-F1F6E0B4DD43}"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E3901EE2-50EA-49C4-8019-DF9B02E623BD}"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FB999-20FB-41DE-A254-F593D1E0B8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34AB8AE-3D84-4681-A047-DBDFE4C19D87}"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3A90C8B-5CCB-4490-A050-A0DFFC4B99F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7766345-053E-4845-B1A2-01FF44139CE3}"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9E777BA4-E5DF-43C5-8C40-37F340EB7D6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414693BB-6A6A-4B3C-98CA-6A137A1135F0}"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576DE7E-6F29-4E04-B4F4-B3605813866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EAFA1126-6182-4946-8088-CBCAF4CCF6FC}"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F451354F-9909-4F7B-AA04-821DE0B24624}"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53E1A27D-7A1A-41E2-A658-BA6BB0793ABB}"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F00E9FBA-102E-48F7-943D-B08DE04D42F4}"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A81AC-67B2-411B-93B1-EA2A250BB0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376CA81E-220F-496C-AF3B-6B5C6477533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A26E3A5D-C98C-4B9F-88C3-847F9062B36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E21B24B-EA05-449C-B395-DECA92B631CD}"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48A1023-4F2E-4BFE-BAA1-D0118375BB81}"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BC6B82E2-2668-445D-A62E-4BD19FC6898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2F16DA4-E2C9-4B72-858E-153992AC6565}"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28EAF774-031A-4025-B0E7-7F8DAABE0B3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EF55B238-1FA2-4082-A8C7-40B229454B7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9E05CA0E-2938-40EC-B19A-8CE739D9BCA0}"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B33194A4-F268-40FC-B93B-DC6E8767A4B7}"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13E4D-28ED-45C0-BFB4-8F9961576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3888B8E3-C0C5-4F49-95CA-8E6FCE99F9DE}"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80990031-B424-4642-B37C-A4F39DA4692F}"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C96B4A1B-7A29-4BE4-8074-144FF769A5D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7615CE55-C380-4692-8B69-AD69F506A39D}"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BC4DDCB8-47CF-4455-84AF-BC6E57269F33}"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21E25751-611A-4256-82FD-22A8C745542C}"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72F56F63-512A-4DDC-AA92-5093F0685F7B}"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F09A546-ACB5-47E9-8181-41BB1F4F02CC}"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4EDFE56E-7611-4830-9E44-6BCD3DFE651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8F3E1AB-E121-4022-8C20-EFC285B467E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E8ADC-E6AF-41BD-A707-FC4B56079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B0FE9D5-86D6-4CE8-98C8-A75ABEC45F88}"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04CE3EEE-09BE-4989-8195-FEBB1C3DF66B}"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38EB789D-9081-4467-BF94-BC1A21EEE220}"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3C40550E-1E6B-4EBD-91A1-E62783792E76}"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79733072-1C2F-48B5-8E8B-99620E54EE35}"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2AF25B3C-359F-4B5B-BEC5-8EA0A250DA40}"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6B3F6FDA-97C7-4BDC-B064-A41CBB4C1D82}"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5D3C60A3-72C9-4DDA-BE19-343D6A077E00}"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5D332DF1-58EA-4F5E-982C-2248671CA5EE}"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57E653DE-22C1-4C58-9208-A04D7114D2C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A59A5-B7C5-4E59-80B9-D17CA939C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86932F90-B6B8-4D95-9068-C11E7906AF9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A0A6E9AC-0729-4F85-B9DD-1CFF524F966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61C4E7B7-58B3-4773-A91D-633481F7327A}"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8D20837F-D8F6-4469-AF2B-C677A5CF93CC}"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0D881B01-FA59-45B8-88AD-DA99AB2253D3}"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040C9319-BAD6-4200-8C56-68038CB21DD9}"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98D662FB-B788-4571-8E18-E83D879FA56A}"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9F01CEBA-66CD-49BD-AF11-1BFDA44CBAA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24E65B1C-743C-47B8-8214-D2F4C1D8CEA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76213B2B-75A6-41E5-A648-FD3F8C4894DF}"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1E7A5-1166-4EDF-8368-4C415F3B1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FF4160A5-80EB-4506-8EC2-46AC906576F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89FF467-D256-4B50-863E-94C6BC36789E}"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6C49CFF0-CFAD-44F2-A87E-4D19EE8C9DF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A9A452C-0AE4-40CB-ADF9-26D6E90FC38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F3671752-3139-442A-96F7-B005C62C6A96}"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CEF8DDCD-5CD8-44D0-A6E2-945D94CA920A}"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3BB8F8D0-0E47-48F6-9BDE-6A53A5025380}"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0EF16672-543A-400C-879D-32D390C10D7D}"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B143209C-EA1B-4B9C-9145-662483110EE8}"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413F5177-3B3A-4265-99FF-44928FB43F0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9B6B-2765-4236-80BA-CE6CA9A09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9CC3C2-C56B-4ED3-A237-DE8950081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3E63753F-7961-45EB-AACD-AFB4298C630E}"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3DBDD86F-D6B9-41FD-8885-6C683A3CBF90}"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EE6FA5D2-E844-4382-9A2F-2DA29AE30DD0}"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A9CBE2D7-F896-4046-A409-8A0718395C7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38BB7C2-051A-4C1F-90FD-1C809AD1A91D}"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A2F7E015-4623-46BC-8775-8BF4D486051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B29C1C8-F7BF-419F-A2BD-788AEFF1EB28}"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E764E10F-B1D5-4E5B-B611-F63D38C07F7C}"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BF1DFCFA-6EC3-4C27-939B-B2B52E38B83E}"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8DD7371E-595F-447B-9DA1-FF3EBA1AB909}"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8AA0CA-E471-4CD0-B8B6-9E57205820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618B1CE4-4031-4D33-9DDF-431D18B5E14E}"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657D11D4-3582-4980-9ABB-2AD6F25D1E84}"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FA6C798-28B4-4510-9475-61CA01D0784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1E2DF584-CC4B-4183-B017-902EB1A2F5A9}"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FCA74090-0A70-4723-8F2E-D8FEBCAC4905}"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8867ABD9-97CC-4DB7-9BDF-13DB9F9AA71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C76E969-DFAA-4F42-AB9E-BE18BB2F7938}"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2A39A04-31B9-423B-BF0F-1C6B0E9BAB1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41BBF65-259E-4F93-A7FF-D3DC2E70637E}"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9058F10B-9B43-4CE9-AAFD-54FA6953143F}"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16C67-03A1-4DAA-A493-007C604E29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4D8E7742-443A-4820-941F-29177C5F649D}"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6D4E16F2-B97B-444A-ADB5-83F06E7B13BD}"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075AFC4D-919B-4DF7-A94E-2FB2A57E3D7C}"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60091C50-F82A-4D99-8C19-94AA4D6EC3CC}"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F76F2C60-4D07-4E2D-B3AF-5F0B0AFD8ADE}"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C66892B-66AF-40E2-8241-E540CBBA4CE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6D3F4AF2-1042-4C40-9FC1-287F4C5D3D1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E58733DE-01F5-4E1F-AD9D-A903425520BF}"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579B059-CD7B-41D7-AA2D-1ABE9A36D388}"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5B2B3763-BBCF-44B0-9FE6-9FB4950E7012}"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15C609-0858-41AE-B591-CDE1433E99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A400BAC4-3E69-4E8D-9AD4-E3722D0A8C1A}"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AFA2711E-7809-428B-A715-417F41B04525}"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5FA5CAEF-247D-44A9-8B29-B7344A351D79}"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684210E7-5A0D-48CB-AF1E-054CA1A37D6E}"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D5AC7573-BE3A-4697-9ECC-59BA7D39F1E9}"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A0AC2FB3-E547-48D8-A803-AC69C79742B0}"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91115C5C-AED1-468C-B83B-59894247E108}"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612AB68E-D264-4DCA-92BB-7D1B8AB005CA}"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9739F8F4-CCF5-4AD7-9BD1-6ED6EB270145}"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EDAC8CA2-AB0A-4E66-9D30-EC59D40DC88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86407-3452-44F9-9C98-1A2AC58F9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5B39F4F-A095-42AC-9B8D-BC5FB6B2E643}"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86BA39B-1504-4B91-A90B-ABFE94ACFD0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421A29B6-F4E8-41FF-AAF6-DA175552D9F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69B3B87A-AE7E-4C6F-90A5-C4A29E19AAA0}"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7704E236-450F-4B17-A3C4-E95F46480296}"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4B28E16C-D325-4904-9EBB-A91FA85297F1}"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95855B3-50C1-4F8D-8B3E-5E3DA115669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A608F326-EAC7-4D36-8763-1A30A8B8191D}"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A8AA6BE3-5B5B-4D5E-9E0F-78D1C468F747}"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2EB69686-FA86-4499-B4D7-D4F4341EBDA0}"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08A8D-D20D-42DD-91D3-BB8C1533E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94FEF842-BF95-4C26-BD3F-4ECA375EB0B1}"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82A2349-C9A3-42E2-8D59-500466D0C68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F7A1DF1B-81EB-4F68-9649-72AF5BBF66D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AE2DEEA-F522-425C-938C-EC8024A9D28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D0A66D6-A975-4AF8-8F17-3B27DF9AA562}"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36608D7E-7C05-485A-84FD-52AF87DFB4E2}"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8BBC7D23-AB35-468D-9889-364E7166B0BD}"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5989227E-5C77-4269-BF82-11E2A2D1E8D1}"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E501B4DA-F596-441E-82C2-4CA54ED7A025}"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47629201-02B3-435A-B983-921232FBA303}"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35529-F3C8-49B4-9866-80666E077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CE254D90-1829-4230-831A-1353CA516CF8}"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47944D08-DCE3-40E3-A1FF-DC7ED1852AF4}"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111850ED-A477-4515-BEE0-BC51B6DBCA9C}"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259ACD6-C7D8-4805-94C9-7F5F6413F03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BA73A10-59FA-43F7-8181-716F34601F30}"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B8C9D91D-9413-49AB-A247-7EEF264A3FE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B2129F81-A7E3-4818-ABDE-505FA061D164}"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E8B9E51C-B4BD-47EB-9D51-BECB2B3BC766}"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46CDA86B-0FC1-4662-96E9-E44BB0A092D0}"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22E9A0BB-AAC2-4E2E-B18B-1FCC27822BB7}"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D48304-90CF-40A4-A2C1-25E5F37F3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0A65798-11AC-45D1-A225-43A5F2B6D34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7C371398-E9EF-47B7-B747-8273278588D3}"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0286984B-3389-4E4E-91B8-DB9CB40DAD7A}"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EE833327-DB42-40FC-8C96-186AC72A2D4C}"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A4FDD252-25B7-44E7-A2D7-A5568883221F}"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E0490852-4FBC-47CF-94B3-028067AA3558}"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540E73E4-311B-43CF-B9D1-7DFDE74D60D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A9C6AC8-F901-44BC-9671-926C14AE415A}"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68382874-A1CE-4585-B66F-7C5E9CC14EC8}"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91471D9D-47E1-46CD-9E3A-6DDC217873F9}"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FE75A-CAD5-4E82-9D0C-FA19C739E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39AD6E2B-A9AD-4570-B79D-D1D4AA814508}"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5E104D88-11D6-4753-A465-F39A4D5D6F3A}"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42BCE116-39C0-4CA2-8E81-DB94608F2B48}"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C0B10779-6E69-43A0-811E-B65B6679ED1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12864D1C-4A6D-4EC5-BAD1-7110C5665A61}"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0F3B4CB4-E780-4772-99DA-09646C016D7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EEBF825C-8B7A-415A-B205-ED61AA3B555A}"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DF580215-8557-4191-88FB-5DF346F46B1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F53AB9B-E32A-4E27-A55A-06642AD876F8}"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101F2E3-944D-4FFD-B7FB-8EF25E112DC4}"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8BC4F-E845-48BE-8E0F-9DA90B401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80A2EE66-3263-4002-9E68-FC4E1C883FA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EB4965BD-A452-444C-9555-A9DA292A9AB9}"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1D79CE03-FDDB-4ED2-AD92-E72DB46B2D17}"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6B79A9DB-2EFC-4E74-B195-B8AA106B6F1F}"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3B5483D7-4909-4615-8CF7-D1A1D52FC762}"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93A2D0E7-4A3A-4E6C-B199-B252BAC9006F}"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8DDC1A6E-585E-494B-8C22-248913F93D76}"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654ACEF5-031F-4747-8EFE-52B3160E456A}"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27A10029-8A49-42BE-8824-2707AF9E2603}"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EBF9280C-C539-4BB2-8068-36324A45C6C3}"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7770-6F81-4697-8286-B870861F1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799F2-214B-4B86-BF19-2B1CC878D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084ECD4-1A0D-4276-A085-8F94F24C4C6E}"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3BA5CA0-AB32-4B17-B59D-A1A3E4FA415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8EBAEB0-D4F0-4642-ABBD-47BCE6737271}"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D64FA21B-C688-4685-9EF9-0BEE8971046F}"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1EA4AE5D-3C62-487E-B15B-5491B3315898}"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A5EEB899-4D00-4581-86C2-0719EE1A1F32}"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DB2648F-C14D-4490-ADDE-5FE8C6D8AB80}"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D64B0E92-DBAE-443F-A5CB-7D141306BB98}"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B6F444B6-249F-476B-873C-1836F946B772}"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382C1733-A7EE-448A-B63C-6B395FAFB8FA}"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EEE9A-608B-45CC-B3E2-A6306421E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5C14146C-18FD-4CE0-8F81-6B20235DB50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BFF47F2-1165-4F3B-BD0E-C9360F43C7D5}"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1C95A68E-9688-47EF-8B25-0DE55C8D288E}"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5B2E28B5-CDC2-44D9-9766-D7FB125D25E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58A17191-B48F-4BC1-BF81-34A83C1CCCD9}"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5D2F5C3C-6311-41A0-8604-B0B38F20D80A}"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BFCEED54-A134-4585-AFF0-4E6703A951D2}"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1BCEB8-0DB7-4713-9736-B3A359F33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B0C24A-A31E-4CD9-A3D9-1F8013A09D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25221A-C77F-41C5-9987-E13416AD59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051E46-556A-4375-8C66-5D9970E3D1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AF1E6-E824-4D96-A9FA-14A615BA7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00C49F-F1FB-47B3-838A-9E7CBCFBAF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15F7B6-D0FA-445F-8FFF-52A7D1DEC5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00539-7C9B-4596-A87F-92FFB01DA2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BA5A-3E3C-4FA0-9900-AAC91BDEC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2F8D3-0AEA-45AC-A45A-4F8260A564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62B7F-4098-4B72-AB44-D918195356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8EFE5-53B3-4225-8220-E0A6BC25F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E0051-573F-46CF-A180-7D2BF931E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EDBFD8-7903-4A37-9690-FAED59A9A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729DA-A453-4E2B-8A65-6801D9FBD7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9A8DE-98AE-43D5-AB7D-20114CD72D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BFB3CB-1CDD-406D-B521-B4B014B6E3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E007DB-E4A5-4EBF-AEEA-C9D54B2EDA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BA35EC-9214-49A7-9FE1-AAA8C7990F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E681-DB61-48A4-8596-B55393409276}"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0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9DE4-75AA-4457-9480-2F684286FCBD}"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Right Triangle 13"/>
          <p:cNvGrpSpPr/>
          <p:nvPr/>
        </p:nvGrpSpPr>
        <p:grpSpPr>
          <a:xfrm>
            <a:off x="-6480" y="5791320"/>
            <a:ext cx="3402000" cy="1079280"/>
            <a:chOff x="-6480" y="5791320"/>
            <a:chExt cx="3402000" cy="1079280"/>
          </a:xfrm>
        </p:grpSpPr>
        <p:pic>
          <p:nvPicPr>
            <p:cNvPr id="450" name="Right Triangle 13" descr=""/>
            <p:cNvPicPr/>
            <p:nvPr/>
          </p:nvPicPr>
          <p:blipFill>
            <a:blip r:embed="rId3"/>
            <a:stretch/>
          </p:blipFill>
          <p:spPr>
            <a:xfrm>
              <a:off x="-6480" y="5791320"/>
              <a:ext cx="3402000" cy="1079280"/>
            </a:xfrm>
            <a:prstGeom prst="rect">
              <a:avLst/>
            </a:prstGeom>
            <a:ln w="0">
              <a:noFill/>
            </a:ln>
          </p:spPr>
        </p:pic>
        <p:sp>
          <p:nvSpPr>
            <p:cNvPr id="4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2" name="Straight Connector 14" descr=""/>
          <p:cNvPicPr/>
          <p:nvPr/>
        </p:nvPicPr>
        <p:blipFill>
          <a:blip r:embed="rId4"/>
          <a:stretch/>
        </p:blipFill>
        <p:spPr>
          <a:xfrm>
            <a:off x="-19080" y="5778360"/>
            <a:ext cx="3421080" cy="1098720"/>
          </a:xfrm>
          <a:prstGeom prst="rect">
            <a:avLst/>
          </a:prstGeom>
          <a:ln w="0">
            <a:noFill/>
          </a:ln>
        </p:spPr>
      </p:pic>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5"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56"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532F-4828-4DE8-9554-3CB79BAD77E6}"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F226-CFC4-43DF-B296-9B2B0DE7667E}"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Right Triangle 15"/>
          <p:cNvGrpSpPr/>
          <p:nvPr/>
        </p:nvGrpSpPr>
        <p:grpSpPr>
          <a:xfrm>
            <a:off x="-6480" y="5791320"/>
            <a:ext cx="3402000" cy="1079280"/>
            <a:chOff x="-6480" y="5791320"/>
            <a:chExt cx="3402000" cy="1079280"/>
          </a:xfrm>
        </p:grpSpPr>
        <p:pic>
          <p:nvPicPr>
            <p:cNvPr id="538" name="Right Triangle 15" descr=""/>
            <p:cNvPicPr/>
            <p:nvPr/>
          </p:nvPicPr>
          <p:blipFill>
            <a:blip r:embed="rId3"/>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Straight Connector 16" descr=""/>
          <p:cNvPicPr/>
          <p:nvPr/>
        </p:nvPicPr>
        <p:blipFill>
          <a:blip r:embed="rId4"/>
          <a:stretch/>
        </p:blipFill>
        <p:spPr>
          <a:xfrm>
            <a:off x="-19080" y="5778360"/>
            <a:ext cx="3421080" cy="1098720"/>
          </a:xfrm>
          <a:prstGeom prst="rect">
            <a:avLst/>
          </a:prstGeom>
          <a:ln w="0">
            <a:noFill/>
          </a:ln>
        </p:spPr>
      </p:pic>
      <p:sp>
        <p:nvSpPr>
          <p:cNvPr id="54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4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4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E796-BEB7-49A3-8A0F-81468DC0DA49}"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Group 1"/>
          <p:cNvGrpSpPr/>
          <p:nvPr/>
        </p:nvGrpSpPr>
        <p:grpSpPr>
          <a:xfrm>
            <a:off x="-19080" y="203040"/>
            <a:ext cx="9181080" cy="648000"/>
            <a:chOff x="-19080" y="203040"/>
            <a:chExt cx="9181080" cy="648000"/>
          </a:xfrm>
        </p:grpSpPr>
        <p:grpSp>
          <p:nvGrpSpPr>
            <p:cNvPr id="587" name="Freeform 11"/>
            <p:cNvGrpSpPr/>
            <p:nvPr/>
          </p:nvGrpSpPr>
          <p:grpSpPr>
            <a:xfrm>
              <a:off x="-19080" y="203040"/>
              <a:ext cx="9156600" cy="648000"/>
              <a:chOff x="-19080" y="203040"/>
              <a:chExt cx="9156600" cy="648000"/>
            </a:xfrm>
          </p:grpSpPr>
          <p:pic>
            <p:nvPicPr>
              <p:cNvPr id="588" name="Freeform 11" descr=""/>
              <p:cNvPicPr/>
              <p:nvPr/>
            </p:nvPicPr>
            <p:blipFill>
              <a:blip r:embed="rId2"/>
              <a:stretch/>
            </p:blipFill>
            <p:spPr>
              <a:xfrm>
                <a:off x="3960" y="203040"/>
                <a:ext cx="9133560" cy="648000"/>
              </a:xfrm>
              <a:prstGeom prst="rect">
                <a:avLst/>
              </a:prstGeom>
              <a:ln w="0">
                <a:noFill/>
              </a:ln>
            </p:spPr>
          </p:pic>
          <p:sp>
            <p:nvSpPr>
              <p:cNvPr id="5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Freeform 12"/>
            <p:cNvGrpSpPr/>
            <p:nvPr/>
          </p:nvGrpSpPr>
          <p:grpSpPr>
            <a:xfrm>
              <a:off x="-19080" y="248040"/>
              <a:ext cx="9181080" cy="561600"/>
              <a:chOff x="-19080" y="248040"/>
              <a:chExt cx="9181080" cy="561600"/>
            </a:xfrm>
          </p:grpSpPr>
          <p:pic>
            <p:nvPicPr>
              <p:cNvPr id="591" name="Freeform 12" descr=""/>
              <p:cNvPicPr/>
              <p:nvPr/>
            </p:nvPicPr>
            <p:blipFill>
              <a:blip r:embed="rId3"/>
              <a:stretch/>
            </p:blipFill>
            <p:spPr>
              <a:xfrm>
                <a:off x="-3240" y="248040"/>
                <a:ext cx="9165240" cy="561600"/>
              </a:xfrm>
              <a:prstGeom prst="rect">
                <a:avLst/>
              </a:prstGeom>
              <a:ln w="0">
                <a:noFill/>
              </a:ln>
            </p:spPr>
          </p:pic>
          <p:sp>
            <p:nvSpPr>
              <p:cNvPr id="5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5"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96"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4128-339D-4B21-888B-A815B781637F}" type="slidenum">
              <a:rPr b="0" lang="en-US"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1"/>
          <p:cNvGrpSpPr/>
          <p:nvPr/>
        </p:nvGrpSpPr>
        <p:grpSpPr>
          <a:xfrm>
            <a:off x="-19080" y="203040"/>
            <a:ext cx="9181080" cy="648000"/>
            <a:chOff x="-19080" y="203040"/>
            <a:chExt cx="9181080" cy="648000"/>
          </a:xfrm>
        </p:grpSpPr>
        <p:grpSp>
          <p:nvGrpSpPr>
            <p:cNvPr id="637" name="Freeform 11"/>
            <p:cNvGrpSpPr/>
            <p:nvPr/>
          </p:nvGrpSpPr>
          <p:grpSpPr>
            <a:xfrm>
              <a:off x="-19080" y="203040"/>
              <a:ext cx="9156600" cy="648000"/>
              <a:chOff x="-19080" y="203040"/>
              <a:chExt cx="9156600" cy="648000"/>
            </a:xfrm>
          </p:grpSpPr>
          <p:pic>
            <p:nvPicPr>
              <p:cNvPr id="638" name="Freeform 11" descr=""/>
              <p:cNvPicPr/>
              <p:nvPr/>
            </p:nvPicPr>
            <p:blipFill>
              <a:blip r:embed="rId2"/>
              <a:stretch/>
            </p:blipFill>
            <p:spPr>
              <a:xfrm>
                <a:off x="3960" y="203040"/>
                <a:ext cx="9133560" cy="648000"/>
              </a:xfrm>
              <a:prstGeom prst="rect">
                <a:avLst/>
              </a:prstGeom>
              <a:ln w="0">
                <a:noFill/>
              </a:ln>
            </p:spPr>
          </p:pic>
          <p:sp>
            <p:nvSpPr>
              <p:cNvPr id="6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Freeform 12"/>
            <p:cNvGrpSpPr/>
            <p:nvPr/>
          </p:nvGrpSpPr>
          <p:grpSpPr>
            <a:xfrm>
              <a:off x="-19080" y="248040"/>
              <a:ext cx="9181080" cy="561600"/>
              <a:chOff x="-19080" y="248040"/>
              <a:chExt cx="9181080" cy="561600"/>
            </a:xfrm>
          </p:grpSpPr>
          <p:pic>
            <p:nvPicPr>
              <p:cNvPr id="641" name="Freeform 12" descr=""/>
              <p:cNvPicPr/>
              <p:nvPr/>
            </p:nvPicPr>
            <p:blipFill>
              <a:blip r:embed="rId3"/>
              <a:stretch/>
            </p:blipFill>
            <p:spPr>
              <a:xfrm>
                <a:off x="-3240" y="248040"/>
                <a:ext cx="9165240" cy="561600"/>
              </a:xfrm>
              <a:prstGeom prst="rect">
                <a:avLst/>
              </a:prstGeom>
              <a:ln w="0">
                <a:noFill/>
              </a:ln>
            </p:spPr>
          </p:pic>
          <p:sp>
            <p:nvSpPr>
              <p:cNvPr id="6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45"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002D-821E-40B5-A048-26B74653BF5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Group 1"/>
          <p:cNvGrpSpPr/>
          <p:nvPr/>
        </p:nvGrpSpPr>
        <p:grpSpPr>
          <a:xfrm>
            <a:off x="-19080" y="203040"/>
            <a:ext cx="9181080" cy="648000"/>
            <a:chOff x="-19080" y="203040"/>
            <a:chExt cx="9181080" cy="648000"/>
          </a:xfrm>
        </p:grpSpPr>
        <p:grpSp>
          <p:nvGrpSpPr>
            <p:cNvPr id="687" name="Freeform 11"/>
            <p:cNvGrpSpPr/>
            <p:nvPr/>
          </p:nvGrpSpPr>
          <p:grpSpPr>
            <a:xfrm>
              <a:off x="-19080" y="203040"/>
              <a:ext cx="9156600" cy="648000"/>
              <a:chOff x="-19080" y="203040"/>
              <a:chExt cx="9156600" cy="648000"/>
            </a:xfrm>
          </p:grpSpPr>
          <p:pic>
            <p:nvPicPr>
              <p:cNvPr id="688" name="Freeform 11" descr=""/>
              <p:cNvPicPr/>
              <p:nvPr/>
            </p:nvPicPr>
            <p:blipFill>
              <a:blip r:embed="rId2"/>
              <a:stretch/>
            </p:blipFill>
            <p:spPr>
              <a:xfrm>
                <a:off x="3960" y="203040"/>
                <a:ext cx="9133560" cy="648000"/>
              </a:xfrm>
              <a:prstGeom prst="rect">
                <a:avLst/>
              </a:prstGeom>
              <a:ln w="0">
                <a:noFill/>
              </a:ln>
            </p:spPr>
          </p:pic>
          <p:sp>
            <p:nvSpPr>
              <p:cNvPr id="6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Freeform 12"/>
            <p:cNvGrpSpPr/>
            <p:nvPr/>
          </p:nvGrpSpPr>
          <p:grpSpPr>
            <a:xfrm>
              <a:off x="-19080" y="248040"/>
              <a:ext cx="9181080" cy="561600"/>
              <a:chOff x="-19080" y="248040"/>
              <a:chExt cx="9181080" cy="561600"/>
            </a:xfrm>
          </p:grpSpPr>
          <p:pic>
            <p:nvPicPr>
              <p:cNvPr id="691" name="Freeform 12" descr=""/>
              <p:cNvPicPr/>
              <p:nvPr/>
            </p:nvPicPr>
            <p:blipFill>
              <a:blip r:embed="rId3"/>
              <a:stretch/>
            </p:blipFill>
            <p:spPr>
              <a:xfrm>
                <a:off x="-3240" y="248040"/>
                <a:ext cx="9165240" cy="561600"/>
              </a:xfrm>
              <a:prstGeom prst="rect">
                <a:avLst/>
              </a:prstGeom>
              <a:ln w="0">
                <a:noFill/>
              </a:ln>
            </p:spPr>
          </p:pic>
          <p:sp>
            <p:nvSpPr>
              <p:cNvPr id="6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5"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84D0-9152-4577-83C4-1C3CBD1187E5}"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Group 1"/>
          <p:cNvGrpSpPr/>
          <p:nvPr/>
        </p:nvGrpSpPr>
        <p:grpSpPr>
          <a:xfrm>
            <a:off x="-19080" y="203040"/>
            <a:ext cx="9181080" cy="648000"/>
            <a:chOff x="-19080" y="203040"/>
            <a:chExt cx="9181080" cy="648000"/>
          </a:xfrm>
        </p:grpSpPr>
        <p:grpSp>
          <p:nvGrpSpPr>
            <p:cNvPr id="737" name="Freeform 11"/>
            <p:cNvGrpSpPr/>
            <p:nvPr/>
          </p:nvGrpSpPr>
          <p:grpSpPr>
            <a:xfrm>
              <a:off x="-19080" y="203040"/>
              <a:ext cx="9156600" cy="648000"/>
              <a:chOff x="-19080" y="203040"/>
              <a:chExt cx="9156600" cy="648000"/>
            </a:xfrm>
          </p:grpSpPr>
          <p:pic>
            <p:nvPicPr>
              <p:cNvPr id="738" name="Freeform 11" descr=""/>
              <p:cNvPicPr/>
              <p:nvPr/>
            </p:nvPicPr>
            <p:blipFill>
              <a:blip r:embed="rId2"/>
              <a:stretch/>
            </p:blipFill>
            <p:spPr>
              <a:xfrm>
                <a:off x="3960" y="203040"/>
                <a:ext cx="9133560" cy="648000"/>
              </a:xfrm>
              <a:prstGeom prst="rect">
                <a:avLst/>
              </a:prstGeom>
              <a:ln w="0">
                <a:noFill/>
              </a:ln>
            </p:spPr>
          </p:pic>
          <p:sp>
            <p:nvSpPr>
              <p:cNvPr id="7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Freeform 12"/>
            <p:cNvGrpSpPr/>
            <p:nvPr/>
          </p:nvGrpSpPr>
          <p:grpSpPr>
            <a:xfrm>
              <a:off x="-19080" y="248040"/>
              <a:ext cx="9181080" cy="561600"/>
              <a:chOff x="-19080" y="248040"/>
              <a:chExt cx="9181080" cy="561600"/>
            </a:xfrm>
          </p:grpSpPr>
          <p:pic>
            <p:nvPicPr>
              <p:cNvPr id="741" name="Freeform 12" descr=""/>
              <p:cNvPicPr/>
              <p:nvPr/>
            </p:nvPicPr>
            <p:blipFill>
              <a:blip r:embed="rId3"/>
              <a:stretch/>
            </p:blipFill>
            <p:spPr>
              <a:xfrm>
                <a:off x="-3240" y="248040"/>
                <a:ext cx="9165240" cy="561600"/>
              </a:xfrm>
              <a:prstGeom prst="rect">
                <a:avLst/>
              </a:prstGeom>
              <a:ln w="0">
                <a:noFill/>
              </a:ln>
            </p:spPr>
          </p:pic>
          <p:sp>
            <p:nvSpPr>
              <p:cNvPr id="7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45"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9BF4-8F62-4953-B510-C2CF9EA0F31A}"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Group 1"/>
          <p:cNvGrpSpPr/>
          <p:nvPr/>
        </p:nvGrpSpPr>
        <p:grpSpPr>
          <a:xfrm>
            <a:off x="-19080" y="203040"/>
            <a:ext cx="9181080" cy="648000"/>
            <a:chOff x="-19080" y="203040"/>
            <a:chExt cx="9181080" cy="648000"/>
          </a:xfrm>
        </p:grpSpPr>
        <p:grpSp>
          <p:nvGrpSpPr>
            <p:cNvPr id="787" name="Freeform 11"/>
            <p:cNvGrpSpPr/>
            <p:nvPr/>
          </p:nvGrpSpPr>
          <p:grpSpPr>
            <a:xfrm>
              <a:off x="-19080" y="203040"/>
              <a:ext cx="9156600" cy="648000"/>
              <a:chOff x="-19080" y="203040"/>
              <a:chExt cx="9156600" cy="648000"/>
            </a:xfrm>
          </p:grpSpPr>
          <p:pic>
            <p:nvPicPr>
              <p:cNvPr id="788" name="Freeform 11" descr=""/>
              <p:cNvPicPr/>
              <p:nvPr/>
            </p:nvPicPr>
            <p:blipFill>
              <a:blip r:embed="rId2"/>
              <a:stretch/>
            </p:blipFill>
            <p:spPr>
              <a:xfrm>
                <a:off x="3960" y="203040"/>
                <a:ext cx="9133560" cy="648000"/>
              </a:xfrm>
              <a:prstGeom prst="rect">
                <a:avLst/>
              </a:prstGeom>
              <a:ln w="0">
                <a:noFill/>
              </a:ln>
            </p:spPr>
          </p:pic>
          <p:sp>
            <p:nvSpPr>
              <p:cNvPr id="7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Freeform 12"/>
            <p:cNvGrpSpPr/>
            <p:nvPr/>
          </p:nvGrpSpPr>
          <p:grpSpPr>
            <a:xfrm>
              <a:off x="-19080" y="248040"/>
              <a:ext cx="9181080" cy="561600"/>
              <a:chOff x="-19080" y="248040"/>
              <a:chExt cx="9181080" cy="561600"/>
            </a:xfrm>
          </p:grpSpPr>
          <p:pic>
            <p:nvPicPr>
              <p:cNvPr id="791" name="Freeform 12" descr=""/>
              <p:cNvPicPr/>
              <p:nvPr/>
            </p:nvPicPr>
            <p:blipFill>
              <a:blip r:embed="rId3"/>
              <a:stretch/>
            </p:blipFill>
            <p:spPr>
              <a:xfrm>
                <a:off x="-3240" y="248040"/>
                <a:ext cx="9165240" cy="561600"/>
              </a:xfrm>
              <a:prstGeom prst="rect">
                <a:avLst/>
              </a:prstGeom>
              <a:ln w="0">
                <a:noFill/>
              </a:ln>
            </p:spPr>
          </p:pic>
          <p:sp>
            <p:nvSpPr>
              <p:cNvPr id="7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95"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A7B3-1758-4821-B231-08DA6F7468C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1"/>
          <p:cNvGrpSpPr/>
          <p:nvPr/>
        </p:nvGrpSpPr>
        <p:grpSpPr>
          <a:xfrm>
            <a:off x="-19080" y="203040"/>
            <a:ext cx="9181080" cy="648000"/>
            <a:chOff x="-19080" y="203040"/>
            <a:chExt cx="9181080" cy="648000"/>
          </a:xfrm>
        </p:grpSpPr>
        <p:grpSp>
          <p:nvGrpSpPr>
            <p:cNvPr id="837" name="Freeform 11"/>
            <p:cNvGrpSpPr/>
            <p:nvPr/>
          </p:nvGrpSpPr>
          <p:grpSpPr>
            <a:xfrm>
              <a:off x="-19080" y="203040"/>
              <a:ext cx="9156600" cy="648000"/>
              <a:chOff x="-19080" y="203040"/>
              <a:chExt cx="9156600" cy="648000"/>
            </a:xfrm>
          </p:grpSpPr>
          <p:pic>
            <p:nvPicPr>
              <p:cNvPr id="838" name="Freeform 11" descr=""/>
              <p:cNvPicPr/>
              <p:nvPr/>
            </p:nvPicPr>
            <p:blipFill>
              <a:blip r:embed="rId2"/>
              <a:stretch/>
            </p:blipFill>
            <p:spPr>
              <a:xfrm>
                <a:off x="3960" y="203040"/>
                <a:ext cx="9133560" cy="648000"/>
              </a:xfrm>
              <a:prstGeom prst="rect">
                <a:avLst/>
              </a:prstGeom>
              <a:ln w="0">
                <a:noFill/>
              </a:ln>
            </p:spPr>
          </p:pic>
          <p:sp>
            <p:nvSpPr>
              <p:cNvPr id="8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Freeform 12"/>
            <p:cNvGrpSpPr/>
            <p:nvPr/>
          </p:nvGrpSpPr>
          <p:grpSpPr>
            <a:xfrm>
              <a:off x="-19080" y="248040"/>
              <a:ext cx="9181080" cy="561600"/>
              <a:chOff x="-19080" y="248040"/>
              <a:chExt cx="9181080" cy="561600"/>
            </a:xfrm>
          </p:grpSpPr>
          <p:pic>
            <p:nvPicPr>
              <p:cNvPr id="841" name="Freeform 12" descr=""/>
              <p:cNvPicPr/>
              <p:nvPr/>
            </p:nvPicPr>
            <p:blipFill>
              <a:blip r:embed="rId3"/>
              <a:stretch/>
            </p:blipFill>
            <p:spPr>
              <a:xfrm>
                <a:off x="-3240" y="248040"/>
                <a:ext cx="9165240" cy="561600"/>
              </a:xfrm>
              <a:prstGeom prst="rect">
                <a:avLst/>
              </a:prstGeom>
              <a:ln w="0">
                <a:noFill/>
              </a:ln>
            </p:spPr>
          </p:pic>
          <p:sp>
            <p:nvSpPr>
              <p:cNvPr id="8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45"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6FB3-A468-4295-B5E4-56342F32361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B6EF-95DD-47DD-8FED-C07457B3F15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56600" cy="648000"/>
              <a:chOff x="-19080" y="203040"/>
              <a:chExt cx="9156600" cy="648000"/>
            </a:xfrm>
          </p:grpSpPr>
          <p:pic>
            <p:nvPicPr>
              <p:cNvPr id="56" name="Freeform 11" descr=""/>
              <p:cNvPicPr/>
              <p:nvPr/>
            </p:nvPicPr>
            <p:blipFill>
              <a:blip r:embed="rId2"/>
              <a:stretch/>
            </p:blipFill>
            <p:spPr>
              <a:xfrm>
                <a:off x="3960" y="203040"/>
                <a:ext cx="9133560" cy="648000"/>
              </a:xfrm>
              <a:prstGeom prst="rect">
                <a:avLst/>
              </a:prstGeom>
              <a:ln w="0">
                <a:noFill/>
              </a:ln>
            </p:spPr>
          </p:pic>
          <p:sp>
            <p:nvSpPr>
              <p:cNvPr id="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19080" y="248040"/>
              <a:ext cx="9181080" cy="561600"/>
              <a:chOff x="-19080" y="248040"/>
              <a:chExt cx="9181080" cy="561600"/>
            </a:xfrm>
          </p:grpSpPr>
          <p:pic>
            <p:nvPicPr>
              <p:cNvPr id="59" name="Freeform 12" descr=""/>
              <p:cNvPicPr/>
              <p:nvPr/>
            </p:nvPicPr>
            <p:blipFill>
              <a:blip r:embed="rId3"/>
              <a:stretch/>
            </p:blipFill>
            <p:spPr>
              <a:xfrm>
                <a:off x="-3240" y="248040"/>
                <a:ext cx="9165240" cy="561600"/>
              </a:xfrm>
              <a:prstGeom prst="rect">
                <a:avLst/>
              </a:prstGeom>
              <a:ln w="0">
                <a:noFill/>
              </a:ln>
            </p:spPr>
          </p:pic>
          <p:sp>
            <p:nvSpPr>
              <p:cNvPr id="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
          <p:cNvGrpSpPr/>
          <p:nvPr/>
        </p:nvGrpSpPr>
        <p:grpSpPr>
          <a:xfrm>
            <a:off x="-19080" y="203040"/>
            <a:ext cx="9181080" cy="648000"/>
            <a:chOff x="-19080" y="203040"/>
            <a:chExt cx="9181080" cy="648000"/>
          </a:xfrm>
        </p:grpSpPr>
        <p:grpSp>
          <p:nvGrpSpPr>
            <p:cNvPr id="887" name="Freeform 11"/>
            <p:cNvGrpSpPr/>
            <p:nvPr/>
          </p:nvGrpSpPr>
          <p:grpSpPr>
            <a:xfrm>
              <a:off x="-19080" y="203040"/>
              <a:ext cx="9156600" cy="648000"/>
              <a:chOff x="-19080" y="203040"/>
              <a:chExt cx="9156600" cy="648000"/>
            </a:xfrm>
          </p:grpSpPr>
          <p:pic>
            <p:nvPicPr>
              <p:cNvPr id="888" name="Freeform 11" descr=""/>
              <p:cNvPicPr/>
              <p:nvPr/>
            </p:nvPicPr>
            <p:blipFill>
              <a:blip r:embed="rId2"/>
              <a:stretch/>
            </p:blipFill>
            <p:spPr>
              <a:xfrm>
                <a:off x="3960" y="203040"/>
                <a:ext cx="9133560" cy="648000"/>
              </a:xfrm>
              <a:prstGeom prst="rect">
                <a:avLst/>
              </a:prstGeom>
              <a:ln w="0">
                <a:noFill/>
              </a:ln>
            </p:spPr>
          </p:pic>
          <p:sp>
            <p:nvSpPr>
              <p:cNvPr id="8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Freeform 12"/>
            <p:cNvGrpSpPr/>
            <p:nvPr/>
          </p:nvGrpSpPr>
          <p:grpSpPr>
            <a:xfrm>
              <a:off x="-19080" y="248040"/>
              <a:ext cx="9181080" cy="561600"/>
              <a:chOff x="-19080" y="248040"/>
              <a:chExt cx="9181080" cy="561600"/>
            </a:xfrm>
          </p:grpSpPr>
          <p:pic>
            <p:nvPicPr>
              <p:cNvPr id="891" name="Freeform 12" descr=""/>
              <p:cNvPicPr/>
              <p:nvPr/>
            </p:nvPicPr>
            <p:blipFill>
              <a:blip r:embed="rId3"/>
              <a:stretch/>
            </p:blipFill>
            <p:spPr>
              <a:xfrm>
                <a:off x="-3240" y="248040"/>
                <a:ext cx="9165240" cy="561600"/>
              </a:xfrm>
              <a:prstGeom prst="rect">
                <a:avLst/>
              </a:prstGeom>
              <a:ln w="0">
                <a:noFill/>
              </a:ln>
            </p:spPr>
          </p:pic>
          <p:sp>
            <p:nvSpPr>
              <p:cNvPr id="8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95"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6815-C473-496F-BC5E-A87F4DAB84F2}"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
          <p:cNvGrpSpPr/>
          <p:nvPr/>
        </p:nvGrpSpPr>
        <p:grpSpPr>
          <a:xfrm>
            <a:off x="-19080" y="203040"/>
            <a:ext cx="9181080" cy="648000"/>
            <a:chOff x="-19080" y="203040"/>
            <a:chExt cx="9181080" cy="648000"/>
          </a:xfrm>
        </p:grpSpPr>
        <p:grpSp>
          <p:nvGrpSpPr>
            <p:cNvPr id="937" name="Freeform 11"/>
            <p:cNvGrpSpPr/>
            <p:nvPr/>
          </p:nvGrpSpPr>
          <p:grpSpPr>
            <a:xfrm>
              <a:off x="-19080" y="203040"/>
              <a:ext cx="9156600" cy="648000"/>
              <a:chOff x="-19080" y="203040"/>
              <a:chExt cx="9156600" cy="648000"/>
            </a:xfrm>
          </p:grpSpPr>
          <p:pic>
            <p:nvPicPr>
              <p:cNvPr id="938" name="Freeform 11" descr=""/>
              <p:cNvPicPr/>
              <p:nvPr/>
            </p:nvPicPr>
            <p:blipFill>
              <a:blip r:embed="rId2"/>
              <a:stretch/>
            </p:blipFill>
            <p:spPr>
              <a:xfrm>
                <a:off x="3960" y="203040"/>
                <a:ext cx="9133560" cy="648000"/>
              </a:xfrm>
              <a:prstGeom prst="rect">
                <a:avLst/>
              </a:prstGeom>
              <a:ln w="0">
                <a:noFill/>
              </a:ln>
            </p:spPr>
          </p:pic>
          <p:sp>
            <p:nvSpPr>
              <p:cNvPr id="9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Freeform 12"/>
            <p:cNvGrpSpPr/>
            <p:nvPr/>
          </p:nvGrpSpPr>
          <p:grpSpPr>
            <a:xfrm>
              <a:off x="-19080" y="248040"/>
              <a:ext cx="9181080" cy="561600"/>
              <a:chOff x="-19080" y="248040"/>
              <a:chExt cx="9181080" cy="561600"/>
            </a:xfrm>
          </p:grpSpPr>
          <p:pic>
            <p:nvPicPr>
              <p:cNvPr id="941" name="Freeform 12" descr=""/>
              <p:cNvPicPr/>
              <p:nvPr/>
            </p:nvPicPr>
            <p:blipFill>
              <a:blip r:embed="rId3"/>
              <a:stretch/>
            </p:blipFill>
            <p:spPr>
              <a:xfrm>
                <a:off x="-3240" y="248040"/>
                <a:ext cx="9165240" cy="561600"/>
              </a:xfrm>
              <a:prstGeom prst="rect">
                <a:avLst/>
              </a:prstGeom>
              <a:ln w="0">
                <a:noFill/>
              </a:ln>
            </p:spPr>
          </p:pic>
          <p:sp>
            <p:nvSpPr>
              <p:cNvPr id="9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45"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9209-547D-45AA-90C5-46778CD6069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Group 1"/>
          <p:cNvGrpSpPr/>
          <p:nvPr/>
        </p:nvGrpSpPr>
        <p:grpSpPr>
          <a:xfrm>
            <a:off x="-19080" y="203040"/>
            <a:ext cx="9181080" cy="648000"/>
            <a:chOff x="-19080" y="203040"/>
            <a:chExt cx="9181080" cy="648000"/>
          </a:xfrm>
        </p:grpSpPr>
        <p:grpSp>
          <p:nvGrpSpPr>
            <p:cNvPr id="987" name="Freeform 11"/>
            <p:cNvGrpSpPr/>
            <p:nvPr/>
          </p:nvGrpSpPr>
          <p:grpSpPr>
            <a:xfrm>
              <a:off x="-19080" y="203040"/>
              <a:ext cx="9156600" cy="648000"/>
              <a:chOff x="-19080" y="203040"/>
              <a:chExt cx="9156600" cy="648000"/>
            </a:xfrm>
          </p:grpSpPr>
          <p:pic>
            <p:nvPicPr>
              <p:cNvPr id="988" name="Freeform 11" descr=""/>
              <p:cNvPicPr/>
              <p:nvPr/>
            </p:nvPicPr>
            <p:blipFill>
              <a:blip r:embed="rId2"/>
              <a:stretch/>
            </p:blipFill>
            <p:spPr>
              <a:xfrm>
                <a:off x="3960" y="203040"/>
                <a:ext cx="9133560" cy="648000"/>
              </a:xfrm>
              <a:prstGeom prst="rect">
                <a:avLst/>
              </a:prstGeom>
              <a:ln w="0">
                <a:noFill/>
              </a:ln>
            </p:spPr>
          </p:pic>
          <p:sp>
            <p:nvSpPr>
              <p:cNvPr id="9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Freeform 12"/>
            <p:cNvGrpSpPr/>
            <p:nvPr/>
          </p:nvGrpSpPr>
          <p:grpSpPr>
            <a:xfrm>
              <a:off x="-19080" y="248040"/>
              <a:ext cx="9181080" cy="561600"/>
              <a:chOff x="-19080" y="248040"/>
              <a:chExt cx="9181080" cy="561600"/>
            </a:xfrm>
          </p:grpSpPr>
          <p:pic>
            <p:nvPicPr>
              <p:cNvPr id="991" name="Freeform 12" descr=""/>
              <p:cNvPicPr/>
              <p:nvPr/>
            </p:nvPicPr>
            <p:blipFill>
              <a:blip r:embed="rId3"/>
              <a:stretch/>
            </p:blipFill>
            <p:spPr>
              <a:xfrm>
                <a:off x="-3240" y="248040"/>
                <a:ext cx="9165240" cy="561600"/>
              </a:xfrm>
              <a:prstGeom prst="rect">
                <a:avLst/>
              </a:prstGeom>
              <a:ln w="0">
                <a:noFill/>
              </a:ln>
            </p:spPr>
          </p:pic>
          <p:sp>
            <p:nvSpPr>
              <p:cNvPr id="9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3"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9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6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D167-FC36-4D4F-AD75-8E05BDEA89D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3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
          <p:cNvGrpSpPr/>
          <p:nvPr/>
        </p:nvGrpSpPr>
        <p:grpSpPr>
          <a:xfrm>
            <a:off x="-19080" y="203040"/>
            <a:ext cx="9181080" cy="648000"/>
            <a:chOff x="-19080" y="203040"/>
            <a:chExt cx="9181080" cy="648000"/>
          </a:xfrm>
        </p:grpSpPr>
        <p:grpSp>
          <p:nvGrpSpPr>
            <p:cNvPr id="1041" name="Freeform 11"/>
            <p:cNvGrpSpPr/>
            <p:nvPr/>
          </p:nvGrpSpPr>
          <p:grpSpPr>
            <a:xfrm>
              <a:off x="-19080" y="203040"/>
              <a:ext cx="9156600" cy="648000"/>
              <a:chOff x="-19080" y="203040"/>
              <a:chExt cx="9156600" cy="648000"/>
            </a:xfrm>
          </p:grpSpPr>
          <p:pic>
            <p:nvPicPr>
              <p:cNvPr id="1042" name="Freeform 11" descr=""/>
              <p:cNvPicPr/>
              <p:nvPr/>
            </p:nvPicPr>
            <p:blipFill>
              <a:blip r:embed="rId2"/>
              <a:stretch/>
            </p:blipFill>
            <p:spPr>
              <a:xfrm>
                <a:off x="3960" y="203040"/>
                <a:ext cx="9133560" cy="648000"/>
              </a:xfrm>
              <a:prstGeom prst="rect">
                <a:avLst/>
              </a:prstGeom>
              <a:ln w="0">
                <a:noFill/>
              </a:ln>
            </p:spPr>
          </p:pic>
          <p:sp>
            <p:nvSpPr>
              <p:cNvPr id="104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Freeform 12"/>
            <p:cNvGrpSpPr/>
            <p:nvPr/>
          </p:nvGrpSpPr>
          <p:grpSpPr>
            <a:xfrm>
              <a:off x="-19080" y="248040"/>
              <a:ext cx="9181080" cy="561600"/>
              <a:chOff x="-19080" y="248040"/>
              <a:chExt cx="9181080" cy="561600"/>
            </a:xfrm>
          </p:grpSpPr>
          <p:pic>
            <p:nvPicPr>
              <p:cNvPr id="1045" name="Freeform 12" descr=""/>
              <p:cNvPicPr/>
              <p:nvPr/>
            </p:nvPicPr>
            <p:blipFill>
              <a:blip r:embed="rId3"/>
              <a:stretch/>
            </p:blipFill>
            <p:spPr>
              <a:xfrm>
                <a:off x="-3240" y="248040"/>
                <a:ext cx="9165240" cy="561600"/>
              </a:xfrm>
              <a:prstGeom prst="rect">
                <a:avLst/>
              </a:prstGeom>
              <a:ln w="0">
                <a:noFill/>
              </a:ln>
            </p:spPr>
          </p:pic>
          <p:sp>
            <p:nvSpPr>
              <p:cNvPr id="104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73D79-6A53-4DDD-B76C-59FC6F74035C}"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8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0" name="Group 1"/>
          <p:cNvGrpSpPr/>
          <p:nvPr/>
        </p:nvGrpSpPr>
        <p:grpSpPr>
          <a:xfrm>
            <a:off x="-19080" y="203040"/>
            <a:ext cx="9181080" cy="648000"/>
            <a:chOff x="-19080" y="203040"/>
            <a:chExt cx="9181080" cy="648000"/>
          </a:xfrm>
        </p:grpSpPr>
        <p:grpSp>
          <p:nvGrpSpPr>
            <p:cNvPr id="1091" name="Freeform 11"/>
            <p:cNvGrpSpPr/>
            <p:nvPr/>
          </p:nvGrpSpPr>
          <p:grpSpPr>
            <a:xfrm>
              <a:off x="-19080" y="203040"/>
              <a:ext cx="9156600" cy="648000"/>
              <a:chOff x="-19080" y="203040"/>
              <a:chExt cx="9156600" cy="648000"/>
            </a:xfrm>
          </p:grpSpPr>
          <p:pic>
            <p:nvPicPr>
              <p:cNvPr id="1092" name="Freeform 11" descr=""/>
              <p:cNvPicPr/>
              <p:nvPr/>
            </p:nvPicPr>
            <p:blipFill>
              <a:blip r:embed="rId2"/>
              <a:stretch/>
            </p:blipFill>
            <p:spPr>
              <a:xfrm>
                <a:off x="3960" y="203040"/>
                <a:ext cx="9133560" cy="648000"/>
              </a:xfrm>
              <a:prstGeom prst="rect">
                <a:avLst/>
              </a:prstGeom>
              <a:ln w="0">
                <a:noFill/>
              </a:ln>
            </p:spPr>
          </p:pic>
          <p:sp>
            <p:nvSpPr>
              <p:cNvPr id="10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Freeform 12"/>
            <p:cNvGrpSpPr/>
            <p:nvPr/>
          </p:nvGrpSpPr>
          <p:grpSpPr>
            <a:xfrm>
              <a:off x="-19080" y="248040"/>
              <a:ext cx="9181080" cy="561600"/>
              <a:chOff x="-19080" y="248040"/>
              <a:chExt cx="9181080" cy="561600"/>
            </a:xfrm>
          </p:grpSpPr>
          <p:pic>
            <p:nvPicPr>
              <p:cNvPr id="1095" name="Freeform 12" descr=""/>
              <p:cNvPicPr/>
              <p:nvPr/>
            </p:nvPicPr>
            <p:blipFill>
              <a:blip r:embed="rId3"/>
              <a:stretch/>
            </p:blipFill>
            <p:spPr>
              <a:xfrm>
                <a:off x="-3240" y="248040"/>
                <a:ext cx="9165240" cy="561600"/>
              </a:xfrm>
              <a:prstGeom prst="rect">
                <a:avLst/>
              </a:prstGeom>
              <a:ln w="0">
                <a:noFill/>
              </a:ln>
            </p:spPr>
          </p:pic>
          <p:sp>
            <p:nvSpPr>
              <p:cNvPr id="10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9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5BD2-8F23-4C4B-A802-69626E2A4E1D}"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1"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3352-1497-40E4-B406-93388F93B6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8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0AF3-7F38-4695-A6B5-D45535FE1B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23"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4E7C-F29F-4FBC-B9B0-AF3F013AC8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D093-90DA-4B43-A790-52BAE297B7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5"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43C5-1190-4604-B206-628CE21476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AECC-0F91-4137-A4F9-D142A22871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46"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296E-1C88-4FD8-973C-E6207CD0C7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7"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4D1C-1614-436D-8448-E1E27193DC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8"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B181-1686-4A12-9188-23D1B1B804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69"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119B-8E47-49C3-907E-171EB856AB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10"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D4DD-9BC8-4D85-8FD3-E0D70EFD5D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51"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7756-687A-4656-9C3D-50F6D54E6E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92"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DEF0-23C3-4556-A7C7-010C3D09FB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33"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6C12-EB00-4454-A7F5-B1EF91037E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4"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E896-F668-4141-9E5E-9B2C8F03F4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5"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C5BF-5B42-4851-ABAD-E0C161E6FF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1F89-E810-42B6-97F0-A8DA8C4B84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56"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83CF-9545-4478-B8E7-61C7A1FB8F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97"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2C5A-F103-472A-8C13-B53AF7B029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083C-9100-4AE0-B783-990667FA44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79"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656F-CBCE-4128-A97C-2E85424D3A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20"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781D-9199-4FD5-AA8E-2BCE6FB9B7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61"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00E4-ADF1-47A8-B3D6-EDAB1733AC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02"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A92A-13B2-4AF9-89B0-57EFEAA9DC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43"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6DBA-B997-456E-B25B-FA3E0F6006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4"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0742-BF6C-42E5-B846-D7F9911397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25"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B4AF-942F-47C4-9D3D-ED347BC9FE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0114-8D1F-4E23-B556-3118914F7F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6"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5F44-B453-489D-89EA-ED49C7F207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07"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7DED-5741-480D-8DF3-CB67956C91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48"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A3C4-170B-4E7A-8169-28029B58AD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9"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1EA4-46C5-4D4D-AD13-AA010D4A5A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0"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A99A-E3B3-4A56-AABA-7321E170DE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71"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33FE-FB45-4760-AE7F-EC1D149AE6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2"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EB06-CC63-41BC-98E5-E245862AE7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53"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26F0-39D3-4D61-A571-CD67973BEC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4"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AC8A-E0CB-40EB-AA15-37739BE73E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35"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787F-F57D-4277-A0C0-7AD69699BC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1073-A481-46BA-A5CA-67B77CCEEE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76"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84B5-CCA2-4765-8D32-E20107109B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7"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2ADB-25C9-4842-AB3C-3BFBD69EDF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58"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4873-363F-47F5-AD28-1E7849DB94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99"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8F18-AD5F-424E-AB8F-4054F68CBC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0"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0E25-F93D-4F1C-8C6E-DD26BFC17A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1"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C80D-02BD-44C7-BE1D-1A2EF1BF37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22"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06A4-2D8E-4FD4-A4E9-1EAEE8FB0A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63"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B546-1441-48C8-A2C6-4E9400ED69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4"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D4A7-89D5-4BDA-9774-1008252497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5"/>
          <p:cNvGrpSpPr/>
          <p:nvPr/>
        </p:nvGrpSpPr>
        <p:grpSpPr>
          <a:xfrm>
            <a:off x="-3240" y="4952880"/>
            <a:ext cx="9147240" cy="1911600"/>
            <a:chOff x="-3240" y="4952880"/>
            <a:chExt cx="9147240" cy="1911600"/>
          </a:xfrm>
        </p:grpSpPr>
        <p:sp>
          <p:nvSpPr>
            <p:cNvPr id="263"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Freeform 18"/>
            <p:cNvGrpSpPr/>
            <p:nvPr/>
          </p:nvGrpSpPr>
          <p:grpSpPr>
            <a:xfrm>
              <a:off x="8640" y="4998600"/>
              <a:ext cx="9129240" cy="1865880"/>
              <a:chOff x="8640" y="4998600"/>
              <a:chExt cx="9129240" cy="1865880"/>
            </a:xfrm>
          </p:grpSpPr>
          <p:pic>
            <p:nvPicPr>
              <p:cNvPr id="266" name="Freeform 18" descr=""/>
              <p:cNvPicPr/>
              <p:nvPr/>
            </p:nvPicPr>
            <p:blipFill>
              <a:blip r:embed="rId2"/>
              <a:stretch/>
            </p:blipFill>
            <p:spPr>
              <a:xfrm>
                <a:off x="8640" y="4998600"/>
                <a:ext cx="9129240" cy="1865880"/>
              </a:xfrm>
              <a:prstGeom prst="rect">
                <a:avLst/>
              </a:prstGeom>
              <a:ln w="0">
                <a:noFill/>
              </a:ln>
            </p:spPr>
          </p:pic>
          <p:sp>
            <p:nvSpPr>
              <p:cNvPr id="267"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8" name="Straight Connector 19" descr=""/>
            <p:cNvPicPr/>
            <p:nvPr/>
          </p:nvPicPr>
          <p:blipFill>
            <a:blip r:embed="rId3"/>
            <a:stretch/>
          </p:blipFill>
          <p:spPr>
            <a:xfrm>
              <a:off x="-3240" y="4992480"/>
              <a:ext cx="9147240" cy="804960"/>
            </a:xfrm>
            <a:prstGeom prst="rect">
              <a:avLst/>
            </a:prstGeom>
            <a:ln w="0">
              <a:noFill/>
            </a:ln>
          </p:spPr>
        </p:pic>
      </p:grpSp>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1"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D079-752C-43AE-A165-7592D5E1AB57}" type="slidenum">
              <a:rPr b="0" lang="fa-I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Right Triangle 13"/>
          <p:cNvGrpSpPr/>
          <p:nvPr/>
        </p:nvGrpSpPr>
        <p:grpSpPr>
          <a:xfrm>
            <a:off x="-6480" y="5791320"/>
            <a:ext cx="3402000" cy="1079280"/>
            <a:chOff x="-6480" y="5791320"/>
            <a:chExt cx="3402000" cy="1079280"/>
          </a:xfrm>
        </p:grpSpPr>
        <p:pic>
          <p:nvPicPr>
            <p:cNvPr id="313" name="Right Triangle 13" descr=""/>
            <p:cNvPicPr/>
            <p:nvPr/>
          </p:nvPicPr>
          <p:blipFill>
            <a:blip r:embed="rId3"/>
            <a:stretch/>
          </p:blipFill>
          <p:spPr>
            <a:xfrm>
              <a:off x="-6480" y="5791320"/>
              <a:ext cx="3402000" cy="1079280"/>
            </a:xfrm>
            <a:prstGeom prst="rect">
              <a:avLst/>
            </a:prstGeom>
            <a:ln w="0">
              <a:noFill/>
            </a:ln>
          </p:spPr>
        </p:pic>
        <p:sp>
          <p:nvSpPr>
            <p:cNvPr id="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5" name="Straight Connector 14" descr=""/>
          <p:cNvPicPr/>
          <p:nvPr/>
        </p:nvPicPr>
        <p:blipFill>
          <a:blip r:embed="rId4"/>
          <a:stretch/>
        </p:blipFill>
        <p:spPr>
          <a:xfrm>
            <a:off x="-19080" y="5778360"/>
            <a:ext cx="3421080" cy="1098720"/>
          </a:xfrm>
          <a:prstGeom prst="rect">
            <a:avLst/>
          </a:prstGeom>
          <a:ln w="0">
            <a:noFill/>
          </a:ln>
        </p:spPr>
      </p:pic>
      <p:sp>
        <p:nvSpPr>
          <p:cNvPr id="31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0"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21"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F999-6C15-47AB-93CB-EC0CABF87F9A}"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7"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8"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7861-6B5D-4204-8B82-F67D7436D5BE}"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6.xml.rels><?xml version="1.0" encoding="UTF-8"?>
<Relationships xmlns="http://schemas.openxmlformats.org/package/2006/relationships"><Relationship Id="rId1" Type="http://schemas.openxmlformats.org/officeDocument/2006/relationships/hyperlink" Target="file:///&#1662;&#1740;&#1608;&#1587;&#1578;1.pdf" TargetMode="External"/><Relationship Id="rId2" Type="http://schemas.openxmlformats.org/officeDocument/2006/relationships/slideLayout" Target="../slideLayouts/slideLayout56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xml.rels><?xml version="1.0" encoding="UTF-8"?>
<Relationships xmlns="http://schemas.openxmlformats.org/package/2006/relationships"><Relationship Id="rId1"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697.xml"/>
</Relationships>
</file>

<file path=ppt/slides/_rels/slide22.xml.rels><?xml version="1.0" encoding="UTF-8"?>
<Relationships xmlns="http://schemas.openxmlformats.org/package/2006/relationships"><Relationship Id="rId1" Type="http://schemas.openxmlformats.org/officeDocument/2006/relationships/hyperlink" Target="http://www.21learn.org/arch/articles/brown_seely.html" TargetMode="External"/><Relationship Id="rId2" Type="http://schemas.openxmlformats.org/officeDocument/2006/relationships/hyperlink" Target="http://www.uwo.ca/" TargetMode="External"/><Relationship Id="rId3" Type="http://schemas.openxmlformats.org/officeDocument/2006/relationships/image" Target="../media/image22.jpeg"/><Relationship Id="rId4" Type="http://schemas.openxmlformats.org/officeDocument/2006/relationships/slideLayout" Target="../slideLayouts/slideLayout697.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22kh1388.ir/wp-content/uploads/2010/08/321.jpg&amp;imgrefurl=http://www.22kh1388.ir/&amp;docid=aD4107f2BBbvDM&amp;tbnid=1wlOyfQYm3_3pM&amp;w=400&amp;h=595&amp;ei=LTSjUayTOqnD4APemYDQDw&amp;ved=0CAkQxiAwBw&amp;iact=ricl" TargetMode="External"/><Relationship Id="rId2" Type="http://schemas.openxmlformats.org/officeDocument/2006/relationships/image" Target="../media/image13.jpeg"/><Relationship Id="rId3"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4" Type="http://schemas.openxmlformats.org/officeDocument/2006/relationships/image" Target="../media/image11.png"/><Relationship Id="rId5"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0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0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WordArt 2"/>
          <p:cNvSpPr txBox="1"/>
          <p:nvPr/>
        </p:nvSpPr>
        <p:spPr>
          <a:xfrm>
            <a:off x="1371600" y="1905120"/>
            <a:ext cx="5638680" cy="4572000"/>
          </a:xfrm>
          <a:prstGeom prst="rect">
            <a:avLst/>
          </a:prstGeom>
        </p:spPr>
        <p:txBody>
          <a:bodyPr wrap="none" fromWordArt="1" lIns="90000" rIns="90000" tIns="46800" bIns="46800" anchor="t" anchorCtr="1">
            <a:prstTxWarp prst="textArchUp">
              <a:avLst>
                <a:gd name="adj" fmla="val 10800005"/>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9080">
                  <a:solidFill>
                    <a:srgbClr val="99ccff"/>
                  </a:solidFill>
                  <a:miter/>
                </a:ln>
                <a:solidFill>
                  <a:srgbClr val="ff8119"/>
                </a:solidFill>
                <a:latin typeface="Times New Roman"/>
              </a:rPr>
              <a:t>به نام خداوند عليم </a:t>
            </a: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p:txBody>
      </p:sp>
      <p:pic>
        <p:nvPicPr>
          <p:cNvPr id="2943" name="Picture 3" descr="Copy of ir_flag1"/>
          <p:cNvPicPr/>
          <p:nvPr/>
        </p:nvPicPr>
        <p:blipFill>
          <a:blip r:embed="rId1"/>
          <a:stretch/>
        </p:blipFill>
        <p:spPr>
          <a:xfrm>
            <a:off x="3124080" y="2209680"/>
            <a:ext cx="2316240" cy="1752840"/>
          </a:xfrm>
          <a:prstGeom prst="rect">
            <a:avLst/>
          </a:prstGeom>
          <a:ln w="0">
            <a:noFill/>
          </a:ln>
        </p:spPr>
      </p:pic>
      <p:sp>
        <p:nvSpPr>
          <p:cNvPr id="2944" name="Text Box 4"/>
          <p:cNvSpPr/>
          <p:nvPr/>
        </p:nvSpPr>
        <p:spPr>
          <a:xfrm>
            <a:off x="457200" y="4572000"/>
            <a:ext cx="7696080" cy="592200"/>
          </a:xfrm>
          <a:prstGeom prst="rect">
            <a:avLst/>
          </a:prstGeom>
          <a:noFill/>
          <a:ln w="0">
            <a:noFill/>
          </a:ln>
        </p:spPr>
        <p:style>
          <a:lnRef idx="0"/>
          <a:fillRef idx="0"/>
          <a:effectRef idx="0"/>
          <a:fontRef idx="minor"/>
        </p:style>
        <p:txBody>
          <a:bodyPr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4"/>
          <p:cNvSpPr/>
          <p:nvPr/>
        </p:nvSpPr>
        <p:spPr>
          <a:xfrm>
            <a:off x="228600" y="4419720"/>
            <a:ext cx="8686800" cy="945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70c0"/>
                </a:solidFill>
                <a:latin typeface="Times New Roman"/>
                <a:cs typeface="B Titr"/>
              </a:rPr>
              <a:t>فبشر عبادالذين يستمعون القول فيتبعون احسنه اولئك الذين هداهم الله واولئك هم اولوالباب </a:t>
            </a:r>
            <a:r>
              <a:rPr b="1" lang="fa-IR" sz="800" spc="-1" strike="noStrike">
                <a:solidFill>
                  <a:srgbClr val="0070c0"/>
                </a:solidFill>
                <a:latin typeface="Times New Roman"/>
                <a:ea typeface="B Titr"/>
              </a:rPr>
              <a:t>(سوره ي زمر آيه</a:t>
            </a:r>
            <a:r>
              <a:rPr b="1" lang="fa-IR" sz="800" spc="-1" strike="noStrike">
                <a:solidFill>
                  <a:srgbClr val="0070c0"/>
                </a:solidFill>
                <a:latin typeface="Times New Roman"/>
                <a:ea typeface="B Titr"/>
              </a:rPr>
              <a:t>17</a:t>
            </a:r>
            <a:r>
              <a:rPr b="1" lang="fa-IR" sz="800" spc="-1" strike="noStrike">
                <a:solidFill>
                  <a:srgbClr val="0070c0"/>
                </a:solidFill>
                <a:latin typeface="Times New Roman"/>
                <a:ea typeface="B Titr"/>
              </a:rPr>
              <a:t> و</a:t>
            </a:r>
            <a:r>
              <a:rPr b="1" lang="fa-IR" sz="800" spc="-1" strike="noStrike">
                <a:solidFill>
                  <a:srgbClr val="0070c0"/>
                </a:solidFill>
                <a:latin typeface="Times New Roman"/>
                <a:ea typeface="B Titr"/>
              </a:rPr>
              <a:t>18</a:t>
            </a:r>
            <a:r>
              <a:rPr b="1" lang="fa-IR" sz="800" spc="-1" strike="noStrike">
                <a:solidFill>
                  <a:srgbClr val="0070c0"/>
                </a:solidFill>
                <a:latin typeface="Times New Roman"/>
                <a:ea typeface="B Titr"/>
              </a:rPr>
              <a:t>)</a:t>
            </a: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Titr"/>
              </a:rPr>
              <a:t>«پس مژده ده بندگان مرا آنان كه مي شنوند سخن را وپيروي مي كنند از نيكوترين آن ؛ </a:t>
            </a:r>
            <a:endParaRPr b="0" lang="en-US" sz="16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u="sng">
                <a:solidFill>
                  <a:srgbClr val="ff0000"/>
                </a:solidFill>
                <a:uFillTx/>
                <a:latin typeface="Calibri"/>
                <a:cs typeface="B Nazanin"/>
              </a:rPr>
              <a:t>سؤال و فرضیه‌های پژوهشی در دو بخش کیفی و کمی</a:t>
            </a:r>
            <a:br>
              <a:rPr sz="2400"/>
            </a:br>
            <a:endParaRPr b="0" lang="en-US" sz="2800" spc="-1" strike="noStrike">
              <a:solidFill>
                <a:srgbClr val="000000"/>
              </a:solidFill>
              <a:latin typeface="Calibri"/>
            </a:endParaRPr>
          </a:p>
        </p:txBody>
      </p:sp>
      <p:sp>
        <p:nvSpPr>
          <p:cNvPr id="2970" name=""/>
          <p:cNvSpPr txBox="1"/>
          <p:nvPr/>
        </p:nvSpPr>
        <p:spPr>
          <a:xfrm>
            <a:off x="179280" y="1125360"/>
            <a:ext cx="8785440" cy="5616720"/>
          </a:xfrm>
          <a:prstGeom prst="rect">
            <a:avLst/>
          </a:prstGeom>
          <a:noFill/>
          <a:ln w="0">
            <a:noFill/>
          </a:ln>
        </p:spPr>
        <p:txBody>
          <a:bodyPr anchor="t">
            <a:normAutofit fontScale="83000"/>
          </a:bodyPr>
          <a:p>
            <a:pPr algn="just"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سؤال بخش کیف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سؤال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با توجه به اسناد و گزارش‌های کارگروه‌های کارورزی از اولین دورة اجرای برنامة کارورزی دانشگاه فرهنگیان، چه موانعی از کاربست موفق برنامة جدید کارورزی در تربیت معلم فکور جلوگیری می‌کنند؟</a:t>
            </a:r>
            <a:endParaRPr b="0" lang="en-US" sz="1800" spc="-1" strike="noStrike">
              <a:solidFill>
                <a:srgbClr val="000000"/>
              </a:solidFill>
              <a:latin typeface="Calibri"/>
            </a:endParaRPr>
          </a:p>
          <a:p>
            <a:pPr algn="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فرضیه‌های بخش کم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عوامل شناسایی شده (مدیریتی/ ساختاری، مالی، برنامه و رویکردهای نظری، ارزشیابی و نظارت، انسانی و ارتباطی) مانع کاربست موفق برنامة جدید کارورزی در تربیت معلم فکور هست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2</a:t>
            </a:r>
            <a:r>
              <a:rPr b="1" lang="fa-IR" sz="1800" spc="-1" strike="noStrike">
                <a:solidFill>
                  <a:srgbClr val="000000"/>
                </a:solidFill>
                <a:latin typeface="Calibri"/>
                <a:ea typeface="B Nazanin"/>
              </a:rPr>
              <a:t>. عوامل مدیریتی/ ساختا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3</a:t>
            </a:r>
            <a:r>
              <a:rPr b="1" lang="fa-IR" sz="1800" spc="-1" strike="noStrike">
                <a:solidFill>
                  <a:srgbClr val="000000"/>
                </a:solidFill>
                <a:latin typeface="Calibri"/>
                <a:ea typeface="B Nazanin"/>
              </a:rPr>
              <a:t>. عوامل مال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4</a:t>
            </a:r>
            <a:r>
              <a:rPr b="1" lang="fa-IR" sz="1800" spc="-1" strike="noStrike">
                <a:solidFill>
                  <a:srgbClr val="000000"/>
                </a:solidFill>
                <a:latin typeface="Calibri"/>
                <a:ea typeface="B Nazanin"/>
              </a:rPr>
              <a:t>. عوامل برنامه‌ای و رویکردهای نظ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5</a:t>
            </a:r>
            <a:r>
              <a:rPr b="1" lang="fa-IR" sz="1800" spc="-1" strike="noStrike">
                <a:solidFill>
                  <a:srgbClr val="000000"/>
                </a:solidFill>
                <a:latin typeface="Calibri"/>
                <a:ea typeface="B Nazanin"/>
              </a:rPr>
              <a:t>. عوامل نظارتی و ارزشیاب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6</a:t>
            </a:r>
            <a:r>
              <a:rPr b="1" lang="fa-IR" sz="1800" spc="-1" strike="noStrike">
                <a:solidFill>
                  <a:srgbClr val="000000"/>
                </a:solidFill>
                <a:latin typeface="Calibri"/>
                <a:ea typeface="B Nazanin"/>
              </a:rPr>
              <a:t>. عوامل انسانی و ارتباط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7</a:t>
            </a:r>
            <a:r>
              <a:rPr b="1" lang="fa-IR" sz="1800" spc="-1" strike="noStrike">
                <a:solidFill>
                  <a:srgbClr val="000000"/>
                </a:solidFill>
                <a:latin typeface="Calibri"/>
                <a:ea typeface="B Nazanin"/>
              </a:rPr>
              <a:t>. بین نظرات مدرسان دربارة میزان تأثیر هر یک از موانع بر اجرای برنامة کارورزی براساس سابقة تدریس آن‌ها، تفاوت وجود دارد.</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title"/>
          </p:nvPr>
        </p:nvSpPr>
        <p:spPr>
          <a:xfrm>
            <a:off x="1279080" y="115560"/>
            <a:ext cx="52578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Nazanin"/>
              </a:rPr>
              <a:t>ابزارهای گردآوری داده ها</a:t>
            </a:r>
            <a:r>
              <a:rPr b="1" lang="ar-SA" sz="4000" spc="-1" strike="noStrike">
                <a:solidFill>
                  <a:srgbClr val="ff0000"/>
                </a:solidFill>
                <a:latin typeface="Calibri"/>
                <a:ea typeface="B Nazanin"/>
              </a:rPr>
              <a:t>:</a:t>
            </a:r>
            <a:br>
              <a:rPr sz="4000"/>
            </a:br>
            <a:endParaRPr b="0" lang="en-US" sz="4000" spc="-1" strike="noStrike">
              <a:solidFill>
                <a:srgbClr val="000000"/>
              </a:solidFill>
              <a:latin typeface="Calibri"/>
            </a:endParaRPr>
          </a:p>
        </p:txBody>
      </p:sp>
      <p:sp>
        <p:nvSpPr>
          <p:cNvPr id="2972" name=""/>
          <p:cNvSpPr txBox="1"/>
          <p:nvPr/>
        </p:nvSpPr>
        <p:spPr>
          <a:xfrm>
            <a:off x="323640" y="907920"/>
            <a:ext cx="6119640" cy="554544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یادداشتهای میدانی از تجربه های مشترک</a:t>
            </a:r>
            <a:r>
              <a:rPr b="1" lang="fa-IR" sz="2800" spc="-1" strike="noStrike">
                <a:solidFill>
                  <a:srgbClr val="000000"/>
                </a:solidFill>
                <a:latin typeface="Calibri"/>
                <a:ea typeface="B Nazanin"/>
              </a:rPr>
              <a:t> و تجربه زیسته محقق</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دفترچه یادداشت های روزانه</a:t>
            </a:r>
            <a:r>
              <a:rPr b="1" lang="fa-IR" sz="2800" spc="-1" strike="noStrike">
                <a:solidFill>
                  <a:srgbClr val="000000"/>
                </a:solidFill>
                <a:latin typeface="Calibri"/>
                <a:ea typeface="B Nazanin"/>
              </a:rPr>
              <a:t> از روند تدوین برنامه و اجرای آن در پردیس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صاحبه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امه نگاری</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وشت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خودزیست نگارانه و زیست نگار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نتایج گزارش کارگروه های کارورزی پردیس های سراسر کشور از اجرای برنامه کارورزی چهارگ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نابع دیگر دا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روایی </a:t>
            </a:r>
            <a:endParaRPr b="0" lang="en-US" sz="2800" spc="-1" strike="noStrike">
              <a:solidFill>
                <a:srgbClr val="000000"/>
              </a:solidFill>
              <a:latin typeface="Calibri"/>
            </a:endParaRPr>
          </a:p>
          <a:p>
            <a:pPr marL="305280" indent="-305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3"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PlaceHolder 1"/>
          <p:cNvSpPr>
            <a:spLocks noGrp="1"/>
          </p:cNvSpPr>
          <p:nvPr>
            <p:ph type="title"/>
          </p:nvPr>
        </p:nvSpPr>
        <p:spPr>
          <a:xfrm>
            <a:off x="2514240" y="-360"/>
            <a:ext cx="6450120" cy="76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2  Nazanin"/>
              </a:rPr>
              <a:t>روش پژوهش</a:t>
            </a:r>
            <a:endParaRPr b="0" lang="en-US" sz="4400" spc="-1" strike="noStrike">
              <a:solidFill>
                <a:srgbClr val="000000"/>
              </a:solidFill>
              <a:latin typeface="Calibri"/>
            </a:endParaRPr>
          </a:p>
        </p:txBody>
      </p:sp>
      <p:sp>
        <p:nvSpPr>
          <p:cNvPr id="2975" name=""/>
          <p:cNvSpPr txBox="1"/>
          <p:nvPr/>
        </p:nvSpPr>
        <p:spPr>
          <a:xfrm>
            <a:off x="395280" y="764640"/>
            <a:ext cx="8569440" cy="5712120"/>
          </a:xfrm>
          <a:prstGeom prst="rect">
            <a:avLst/>
          </a:prstGeom>
          <a:noFill/>
          <a:ln w="0">
            <a:noFill/>
          </a:ln>
        </p:spPr>
        <p:txBody>
          <a:bodyPr anchor="t">
            <a:normAutofit fontScale="87000"/>
          </a:bodyPr>
          <a:p>
            <a:pPr algn="just" rtl="1">
              <a:lnSpc>
                <a:spcPct val="87000"/>
              </a:lnSpc>
              <a:spcBef>
                <a:spcPts val="751"/>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cs typeface="B Nazanin"/>
              </a:rPr>
              <a:t>از آنجا که پژوهش حاضر در صدد به دست آوردن شناختی همه‌جانبه از موانع اجرای موفق برنامة جدید کارورزی بود، بنابراین سعی شد از داده‌های کیفی و کمّی برای نیل به هدف یادشده استفاده شود. بنابراین، در این پژوهش از رویکرد ترکیبی، ابتدا کیفی و سپس کمّی بهره‌گیری شد.. نوع پژوهش از لحاظ هدف کاربردی بود. و از روش‌های پژوهش تحلیل محتوا و توصیفی- پیمایشی استفاده شد.. این پژوهش با جمع‌آوری و تحلیل داده‌های کیفی شروع شد و سپس داده‌های کمّی جمع‌آوری و تجزیه و تحلیل شدند. مرحلة کمّی بر مبنای مرحلة اول یا متصل به مرحله کیفی طراحی شد. بدین ترتیب که در بخش کیفی موانع پیاده‌سازی موفق برنامة جدید کارورزی در نظام تربیت معلم ایران، با توجه به اسناد شناسایی و استخراج شد و در بخش کمّی با روش پیمایشی دیدگاه اعضای هیئت علمی دربارة این موانع بررسی شد.</a:t>
            </a:r>
            <a:endParaRPr b="0" lang="en-US" sz="3000" spc="-1" strike="noStrike">
              <a:solidFill>
                <a:srgbClr val="000000"/>
              </a:solidFill>
              <a:latin typeface="Calibri"/>
            </a:endParaRPr>
          </a:p>
          <a:p>
            <a:pPr algn="r" rtl="1">
              <a:lnSpc>
                <a:spcPct val="80000"/>
              </a:lnSpc>
              <a:spcBef>
                <a:spcPts val="649"/>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2600" spc="-1" strike="noStrike">
                <a:solidFill>
                  <a:srgbClr val="000000"/>
                </a:solidFill>
                <a:latin typeface="Calibri"/>
                <a:ea typeface="B Nazanin"/>
              </a:rPr>
              <a:t>- تحلیل محتوا تکنیکی برای استخراج داده‌ها از متن است.</a:t>
            </a:r>
            <a:endParaRPr b="0" lang="en-US" sz="2600" spc="-1" strike="noStrike">
              <a:solidFill>
                <a:srgbClr val="000000"/>
              </a:solidFill>
              <a:latin typeface="Calibri"/>
            </a:endParaRPr>
          </a:p>
          <a:p>
            <a:pPr algn="just">
              <a:lnSpc>
                <a:spcPct val="95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t>
            </a:r>
            <a:r>
              <a:rPr b="0" lang="en-US" sz="2200" spc="-1" strike="noStrike">
                <a:solidFill>
                  <a:srgbClr val="000000"/>
                </a:solidFill>
                <a:latin typeface="Times New Roman"/>
                <a:ea typeface="B Nazanin"/>
              </a:rPr>
              <a:t> Descriptive survey</a:t>
            </a:r>
            <a:endParaRPr b="0" lang="en-US" sz="2200" spc="-1" strike="noStrike">
              <a:solidFill>
                <a:srgbClr val="000000"/>
              </a:solidFill>
              <a:latin typeface="Calibri"/>
            </a:endParaRPr>
          </a:p>
          <a:p>
            <a:pPr algn="r" rtl="1">
              <a:lnSpc>
                <a:spcPct val="80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title"/>
          </p:nvPr>
        </p:nvSpPr>
        <p:spPr>
          <a:xfrm>
            <a:off x="179280" y="1066680"/>
            <a:ext cx="8785440" cy="5602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جامعة مورد مطالعة پژوهش در بخش کیفی شامل گزارش‌های کارگروه کارورزی پردیس‌های سراسر کشور دانشگاه فرهنگیان از اولین دورة اجرای برنامة جدید کارورزی بود. </a:t>
            </a:r>
            <a:r>
              <a:rPr b="1" lang="fa-IR" sz="2800" spc="-1" strike="noStrike">
                <a:solidFill>
                  <a:srgbClr val="ff0000"/>
                </a:solidFill>
                <a:latin typeface="Calibri"/>
                <a:ea typeface="B Nazanin"/>
              </a:rPr>
              <a:t>27</a:t>
            </a:r>
            <a:r>
              <a:rPr b="1" lang="fa-IR" sz="2800" spc="-1" strike="noStrike">
                <a:solidFill>
                  <a:srgbClr val="ff0000"/>
                </a:solidFill>
                <a:latin typeface="Calibri"/>
                <a:ea typeface="B Nazanin"/>
              </a:rPr>
              <a:t> گزارش از پردیس‌های سراسر کشور دانشگاه فرهنگیان </a:t>
            </a:r>
            <a:r>
              <a:rPr b="0" lang="fa-IR" sz="2800" spc="-1" strike="noStrike">
                <a:solidFill>
                  <a:srgbClr val="000000"/>
                </a:solidFill>
                <a:latin typeface="Calibri"/>
                <a:cs typeface="B Nazanin"/>
              </a:rPr>
              <a:t>دربارة </a:t>
            </a:r>
            <a:r>
              <a:rPr b="0" lang="fa-IR" sz="2800" spc="-1" strike="noStrike">
                <a:solidFill>
                  <a:srgbClr val="ff0000"/>
                </a:solidFill>
                <a:latin typeface="Calibri"/>
                <a:cs typeface="B Nazanin"/>
              </a:rPr>
              <a:t>موانع پیاده‌سازی موفق اولین دورة اجرای برنامة جدید کارورزی </a:t>
            </a:r>
            <a:r>
              <a:rPr b="0" lang="fa-IR" sz="2800" spc="-1" strike="noStrike">
                <a:solidFill>
                  <a:srgbClr val="000000"/>
                </a:solidFill>
                <a:latin typeface="Calibri"/>
                <a:cs typeface="B Nazanin"/>
              </a:rPr>
              <a:t>به عنوان نمونة هدفمند و در دسترس برای مطالعه انتخاب شدند. جامعة آماری پژوهش در بخش کمّی شامل همة اعضای هیئت علمیِ مدرس کارورزی دانشگاه فرهنگیان کشور، به تعداد </a:t>
            </a:r>
            <a:r>
              <a:rPr b="0" lang="fa-IR" sz="2800" spc="-1" strike="noStrike">
                <a:solidFill>
                  <a:srgbClr val="000000"/>
                </a:solidFill>
                <a:latin typeface="Calibri"/>
                <a:ea typeface="B Nazanin"/>
              </a:rPr>
              <a:t>2057</a:t>
            </a:r>
            <a:r>
              <a:rPr b="0" lang="fa-IR" sz="2800" spc="-1" strike="noStrike">
                <a:solidFill>
                  <a:srgbClr val="000000"/>
                </a:solidFill>
                <a:latin typeface="Calibri"/>
                <a:ea typeface="B Nazanin"/>
              </a:rPr>
              <a:t> نفر بود. جامعة نمونه تحقیق شامل </a:t>
            </a:r>
            <a:r>
              <a:rPr b="0" lang="fa-IR" sz="2800" spc="-1" strike="noStrike">
                <a:solidFill>
                  <a:srgbClr val="000000"/>
                </a:solidFill>
                <a:latin typeface="Calibri"/>
                <a:ea typeface="B Nazanin"/>
              </a:rPr>
              <a:t>326</a:t>
            </a:r>
            <a:r>
              <a:rPr b="0" lang="fa-IR" sz="2800" spc="-1" strike="noStrike">
                <a:solidFill>
                  <a:srgbClr val="000000"/>
                </a:solidFill>
                <a:latin typeface="Calibri"/>
                <a:ea typeface="B Nazanin"/>
              </a:rPr>
              <a:t> نفر بود که با توجه به جدول مورگان براورد شد. در بخش کمّی از روش نمونه‌گیری خوشه‌ای چندمرحله‌ای استفاده شد. بدین ترتیب که ابتدا از استان‌های منتخب کشور (بر مبنای پنج استان که دارای بیشترین و کمترین میزان دانشجو معلم هستند) پردیس‌های مجری کارورزی مشخص شدند و در ادامه از پردیس‌های منتخب به طور تصادفی، استادان و مدرسان راهنمای تربیتی و تخصصی کارورزی انتخاب شدند.</a:t>
            </a:r>
            <a:endParaRPr b="0" lang="en-US" sz="2800" spc="-1" strike="noStrike">
              <a:solidFill>
                <a:srgbClr val="000000"/>
              </a:solidFill>
              <a:latin typeface="Calibri"/>
            </a:endParaRPr>
          </a:p>
        </p:txBody>
      </p:sp>
      <p:pic>
        <p:nvPicPr>
          <p:cNvPr id="2977"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title"/>
          </p:nvPr>
        </p:nvSpPr>
        <p:spPr>
          <a:xfrm>
            <a:off x="2505240" y="188640"/>
            <a:ext cx="6448320" cy="76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rPr>
              <a:t>ابزارها</a:t>
            </a:r>
            <a:endParaRPr b="0" lang="en-US" sz="4400" spc="-1" strike="noStrike">
              <a:solidFill>
                <a:srgbClr val="000000"/>
              </a:solidFill>
              <a:latin typeface="Calibri"/>
            </a:endParaRPr>
          </a:p>
        </p:txBody>
      </p:sp>
      <p:sp>
        <p:nvSpPr>
          <p:cNvPr id="2979" name=""/>
          <p:cNvSpPr txBox="1"/>
          <p:nvPr/>
        </p:nvSpPr>
        <p:spPr>
          <a:xfrm>
            <a:off x="395280" y="1052640"/>
            <a:ext cx="8569440" cy="5424480"/>
          </a:xfrm>
          <a:prstGeom prst="rect">
            <a:avLst/>
          </a:prstGeom>
          <a:noFill/>
          <a:ln w="0">
            <a:noFill/>
          </a:ln>
        </p:spPr>
        <p:txBody>
          <a:bodyPr anchor="t">
            <a:normAutofit fontScale="85000"/>
          </a:bodyPr>
          <a:p>
            <a:pPr algn="just"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بزار جمع‌آوری داده‌های بخش کیفی برگه‌های فیش برداری، فهرست­های وارسی (چک لیست‌ها) و فرم‌های محقق‌ساخته بودند. ابزار بخش کمی، پرسش­نامة محقق‌ساخته بود که بر اساس یافته‌ها و موانع شناسایی شده بخش کیفی از گزارش‌های کارگروه‌های کارورزی تهیه شد. روایی آن توسط خبرگان دانشگاهی تأیید شد و پایایی آن با استفاده از ضریب آلفای کرونباخ برابر با </a:t>
            </a:r>
            <a:r>
              <a:rPr b="0" lang="fa-IR" sz="2400" spc="-1" strike="noStrike">
                <a:solidFill>
                  <a:srgbClr val="000000"/>
                </a:solidFill>
                <a:latin typeface="Calibri"/>
                <a:ea typeface="B Nazanin"/>
              </a:rPr>
              <a:t>93/0</a:t>
            </a:r>
            <a:r>
              <a:rPr b="0" lang="fa-IR" sz="2400" spc="-1" strike="noStrike">
                <a:solidFill>
                  <a:srgbClr val="000000"/>
                </a:solidFill>
                <a:latin typeface="Calibri"/>
                <a:ea typeface="B Nazanin"/>
              </a:rPr>
              <a:t> به دست آمد.</a:t>
            </a:r>
            <a:endParaRPr b="0" lang="en-US" sz="24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به‌منظور تجزیه‌وتحلیل داده‌های بخش کیفی و برای پاسخ به سؤال اول پژوهش، از تکنیک تحلیل محتوا استفاده شد. تحلیل محتوای اسناد و گزارش‌های بخش کیفی با استفاده از روش گال، مردیت؛ بورگ، والتر و گال، جویس (</a:t>
            </a:r>
            <a:r>
              <a:rPr b="0" lang="fa-IR" sz="2400" spc="-1" strike="noStrike">
                <a:solidFill>
                  <a:srgbClr val="000000"/>
                </a:solidFill>
                <a:latin typeface="Calibri"/>
                <a:ea typeface="B Nazanin"/>
              </a:rPr>
              <a:t>1994</a:t>
            </a:r>
            <a:r>
              <a:rPr b="0" lang="fa-IR" sz="2400" spc="-1" strike="noStrike">
                <a:solidFill>
                  <a:srgbClr val="000000"/>
                </a:solidFill>
                <a:latin typeface="Calibri"/>
                <a:ea typeface="B Nazanin"/>
              </a:rPr>
              <a:t>) در پنج مرحله انجام شد. در مرحلة اول گزارش‌های یادشده مورد مطالعه قرار گرفتند و تمام گزاره‌های مربوط به موانع پیاده‌سازی موفق برنامة کارورزی استخراج شدند. در مرحلة دوم روش مقوله‌بندی مناسب انتخاب شد. در مرحلة سوم هر یک از گزاره‌های جمع‌آوری‌شده برای قرار گرفتن در هر یک از مقوله‌ها، نشانه‌گذاری شدند. در مرحلة چهارم مقوله‌بندی با روش کدگذاری باز و کدگذاری محوری انجام شد و تفسیر و ارزشیابی یافته‌ها در مرحلة پنجم صورت گرفت. برای توصیف متغیرهای جمعیت شناختی و پاسخ به سؤال بخش کمّی، از روش‌های آمار توصیفی، از جمله جداول توزیع فراوانی و درصد، شاخص‌های میانگین و انحراف معیار بهره‌گیری شد. برای آزمون فرضیه‌های بخش کمی نیز از آزمون‌های آمار استنباطی، شامل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تک نمونه‌ای و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مستقل استفاده شد</a:t>
            </a:r>
            <a:r>
              <a:rPr b="0" lang="en-US" sz="2400" spc="-1" strike="noStrike">
                <a:solidFill>
                  <a:srgbClr val="000000"/>
                </a:solidFill>
                <a:latin typeface="Calibri"/>
                <a:ea typeface="B Nazanin"/>
              </a:rPr>
              <a:t>.</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1"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250560" y="259920"/>
            <a:ext cx="8713800" cy="6216840"/>
          </a:xfrm>
          <a:prstGeom prst="rect">
            <a:avLst/>
          </a:prstGeom>
          <a:noFill/>
          <a:ln w="0">
            <a:noFill/>
          </a:ln>
        </p:spPr>
        <p:txBody>
          <a:bodyPr anchor="t">
            <a:normAutofit fontScale="83000"/>
          </a:bodyPr>
          <a:p>
            <a:pPr marL="284400" indent="-284400"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Nazanin"/>
              </a:rPr>
              <a:t>بررسی و جمع بندی نقد و نظر های استادان کارورزی مسایل و پیشهادهای ارایه شده از سوی مدرسان و استادان در مورد ارزیابی ،در این مجموعه کلی برنامه ، محتوا و سایر عوامل دخیل در اجرای </a:t>
            </a:r>
            <a:r>
              <a:rPr b="0" lang="fa-IR" sz="4400" spc="-1" strike="noStrike">
                <a:solidFill>
                  <a:srgbClr val="ff0000"/>
                </a:solidFill>
                <a:latin typeface="Calibri"/>
                <a:cs typeface="B Nazanin"/>
              </a:rPr>
              <a:t>کارورزی فکورانه که از پردیس های دانشگاه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فرهنگیان در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بر رسی ، جمع بندی و در  ،   استان کشور واصل شده </a:t>
            </a:r>
            <a:r>
              <a:rPr b="0" lang="fa-IR" sz="4400" spc="-1" strike="noStrike">
                <a:solidFill>
                  <a:srgbClr val="00b050"/>
                </a:solidFill>
                <a:latin typeface="Calibri"/>
                <a:cs typeface="B Nazanin"/>
              </a:rPr>
              <a:t>است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محور کلان و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خرد خلاصه </a:t>
            </a:r>
            <a:r>
              <a:rPr b="0" lang="fa-IR" sz="4400" spc="-1" strike="noStrike">
                <a:solidFill>
                  <a:srgbClr val="ff0000"/>
                </a:solidFill>
                <a:latin typeface="Calibri"/>
                <a:cs typeface="B Nazanin"/>
              </a:rPr>
              <a:t>و ارایه </a:t>
            </a:r>
            <a:r>
              <a:rPr b="0" lang="fa-IR" sz="4400" spc="-1" strike="noStrike">
                <a:solidFill>
                  <a:srgbClr val="000000"/>
                </a:solidFill>
                <a:latin typeface="Calibri"/>
                <a:cs typeface="B Nazanin"/>
              </a:rPr>
              <a:t>می گردد.</a:t>
            </a:r>
            <a:endParaRPr b="0" lang="en-US" sz="4400" spc="-1" strike="noStrike">
              <a:solidFill>
                <a:srgbClr val="000000"/>
              </a:solidFill>
              <a:latin typeface="Calibri"/>
            </a:endParaRPr>
          </a:p>
          <a:p>
            <a:pPr marL="284400" indent="-2844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0000ff"/>
                </a:solidFill>
                <a:uFillTx/>
                <a:latin typeface="Calibri"/>
                <a:cs typeface="B Nazanin"/>
                <a:hlinkClick r:id="rId1"/>
              </a:rPr>
              <a:t>استناد به گزارش کارگروه ه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4"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5" name="Group 2"/>
          <p:cNvGrpSpPr/>
          <p:nvPr/>
        </p:nvGrpSpPr>
        <p:grpSpPr>
          <a:xfrm>
            <a:off x="2895480" y="838080"/>
            <a:ext cx="3047760" cy="5867280"/>
            <a:chOff x="2895480" y="838080"/>
            <a:chExt cx="3047760" cy="5867280"/>
          </a:xfrm>
        </p:grpSpPr>
        <p:sp>
          <p:nvSpPr>
            <p:cNvPr id="2986"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a:t>
              </a:r>
              <a:endParaRPr b="0" lang="en-US" sz="1600" spc="-1" strike="noStrike">
                <a:solidFill>
                  <a:srgbClr val="000000"/>
                </a:solidFill>
                <a:latin typeface="Arial"/>
              </a:endParaRPr>
            </a:p>
          </p:txBody>
        </p:sp>
        <p:sp>
          <p:nvSpPr>
            <p:cNvPr id="2987"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88"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Arial"/>
              </a:endParaRPr>
            </a:p>
          </p:txBody>
        </p:sp>
        <p:sp>
          <p:nvSpPr>
            <p:cNvPr id="2989"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Arial"/>
              </a:endParaRPr>
            </a:p>
          </p:txBody>
        </p:sp>
        <p:sp>
          <p:nvSpPr>
            <p:cNvPr id="2990"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Arial"/>
              </a:endParaRPr>
            </a:p>
          </p:txBody>
        </p:sp>
        <p:sp>
          <p:nvSpPr>
            <p:cNvPr id="2991"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2"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Arial"/>
              </a:endParaRPr>
            </a:p>
          </p:txBody>
        </p:sp>
        <p:sp>
          <p:nvSpPr>
            <p:cNvPr id="2993"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Arial"/>
              </a:endParaRPr>
            </a:p>
          </p:txBody>
        </p:sp>
      </p:grpSp>
      <p:sp>
        <p:nvSpPr>
          <p:cNvPr id="2995"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6" name="Rectangle 3"/>
          <p:cNvGrpSpPr/>
          <p:nvPr/>
        </p:nvGrpSpPr>
        <p:grpSpPr>
          <a:xfrm>
            <a:off x="-60480" y="1060560"/>
            <a:ext cx="9198000" cy="5816520"/>
            <a:chOff x="-60480" y="1060560"/>
            <a:chExt cx="9198000" cy="5816520"/>
          </a:xfrm>
        </p:grpSpPr>
        <p:pic>
          <p:nvPicPr>
            <p:cNvPr id="2997" name="Rectangle 3" descr=""/>
            <p:cNvPicPr/>
            <p:nvPr/>
          </p:nvPicPr>
          <p:blipFill>
            <a:blip r:embed="rId1"/>
            <a:stretch/>
          </p:blipFill>
          <p:spPr>
            <a:xfrm>
              <a:off x="-60480" y="1060560"/>
              <a:ext cx="9198000" cy="5816520"/>
            </a:xfrm>
            <a:prstGeom prst="rect">
              <a:avLst/>
            </a:prstGeom>
            <a:ln w="0">
              <a:noFill/>
            </a:ln>
          </p:spPr>
        </p:pic>
        <p:sp>
          <p:nvSpPr>
            <p:cNvPr id="2998" name=""/>
            <p:cNvSpPr/>
            <p:nvPr/>
          </p:nvSpPr>
          <p:spPr>
            <a:xfrm>
              <a:off x="173160" y="1197000"/>
              <a:ext cx="8785080" cy="5545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 مجموع یافته‌های پژوهش نتیجه گرفته شد که، پیاده‌سازی موفق برنامة جدید کارورزی دانشگاه فرهنگیان کشورمان با موانعی روبه‌روست که مهم‌ترین آن‌ها عبارت‌اند از: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موانع مرتبط با تعامل ضعیف مجموعة مدیریتی و ساختاری دانشگاه فرهنگیان با ادارات کل آموزش و پرورش استان‌ها و مدیران مدرسه­ه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تخصیص نیافتن منابع مالی مناسب و کاف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ضعف در طراحی، اجرا و ارزشیابی برنامة جدید کارورز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شفاف نبودن سطح وظیفه­های استادن راهنمای تربیتی و تخصصی، معلمان راهنما و عوامل اجرایی مدرسه­ها؛</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ناآگاهی بخشی و اجرای آموزش ضمن خدمت معلمان راهنم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Nazanin"/>
                </a:rPr>
                <a:t>  براساس یافته‌های این پژوهش می‌توان نتیجه گرفت که تمامی موانع پنج­گانة یاد شده در جلوگیری از کاربست موفق برنامة جدید کارورزی در تربیت معلم فکور تأثیرگذار هستند. نتایج پژوهش حاضر می‌تواند دریچه‌های جدیدی برای توجه بنیادی‌تر به موضوع کارورزی دانشجو معلمان باز کند. برنامه‌ریزان و مسئولان وزارت آموزش و پرورش و دانشگاه فرهنگیان می‌توانند این یافته‌ها را در ایجاد تغییرات مطلوب در برنامة جدیدکارورزی مد نظر قرار دهند و در فرایند بازنگری برنامة جدید کارورزی نسبت به تعدیل و رفع موانع شناسایی شده اقدام کنند. برای نیل به چنین هدفی براساس نتایج به دست آمده از پژوهش، پیشنهادهای زیر ارائه می‌شوند:</a:t>
              </a:r>
              <a:endParaRPr b="0" lang="en-US" sz="1800" spc="-1" strike="noStrike">
                <a:solidFill>
                  <a:srgbClr val="000000"/>
                </a:solidFill>
                <a:latin typeface="Arial"/>
              </a:endParaRPr>
            </a:p>
          </p:txBody>
        </p:sp>
      </p:grpSp>
      <p:pic>
        <p:nvPicPr>
          <p:cNvPr id="2999" name="Content Placeholder 3" descr="Image-1002.jpg"/>
          <p:cNvPicPr/>
          <p:nvPr/>
        </p:nvPicPr>
        <p:blipFill>
          <a:blip r:embed="rId2"/>
          <a:stretch/>
        </p:blipFill>
        <p:spPr>
          <a:xfrm>
            <a:off x="-12600" y="-12600"/>
            <a:ext cx="9156600" cy="1079280"/>
          </a:xfrm>
          <a:prstGeom prst="rect">
            <a:avLst/>
          </a:prstGeom>
          <a:ln w="0">
            <a:noFill/>
          </a:ln>
        </p:spPr>
      </p:pic>
      <p:sp>
        <p:nvSpPr>
          <p:cNvPr id="3000" name="Rectangle 1"/>
          <p:cNvSpPr/>
          <p:nvPr/>
        </p:nvSpPr>
        <p:spPr>
          <a:xfrm>
            <a:off x="6845760" y="173160"/>
            <a:ext cx="214380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پیشنهاد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بیان حضرت امام خميني (ره)   </a:t>
            </a:r>
            <a:endParaRPr b="0" lang="en-US" sz="3600" spc="-1" strike="noStrike">
              <a:solidFill>
                <a:srgbClr val="000000"/>
              </a:solidFill>
              <a:latin typeface="Arial"/>
            </a:endParaRPr>
          </a:p>
        </p:txBody>
      </p:sp>
      <p:pic>
        <p:nvPicPr>
          <p:cNvPr id="2947" name="Picture 6" descr="http://uploadpa.com/beta/12/nxv0icep46awvmgvb1n6.gif">
            <a:hlinkClick r:id="rId1"/>
          </p:cNvPr>
          <p:cNvPicPr/>
          <p:nvPr/>
        </p:nvPicPr>
        <p:blipFill>
          <a:blip r:embed="rId2"/>
          <a:stretch/>
        </p:blipFill>
        <p:spPr>
          <a:xfrm>
            <a:off x="152280" y="76320"/>
            <a:ext cx="1600200" cy="990360"/>
          </a:xfrm>
          <a:prstGeom prst="rect">
            <a:avLst/>
          </a:prstGeom>
          <a:ln w="0">
            <a:noFill/>
          </a:ln>
        </p:spPr>
      </p:pic>
      <p:sp>
        <p:nvSpPr>
          <p:cNvPr id="2948" name="Rectangle 5"/>
          <p:cNvSpPr/>
          <p:nvPr/>
        </p:nvSpPr>
        <p:spPr>
          <a:xfrm>
            <a:off x="380880" y="2666880"/>
            <a:ext cx="822960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Davat"/>
              </a:rPr>
              <a:t>به مناسبت بازگشايي مراكز تربيت معلم: «شما عزيزان كه دامن به كمر زده و در راه تربيت معلم قدم بر مي داريد از عمق ارزش كار خود آگاه باشيد و در راه اين هدف مقدس از هيچ كوششي دريغ نورزيد.»</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49" name="Picture 2" descr="C:\Users\afzali1.MPA\Pictures\untitled.png"/>
          <p:cNvPicPr/>
          <p:nvPr/>
        </p:nvPicPr>
        <p:blipFill>
          <a:blip r:embed="rId3"/>
          <a:stretch/>
        </p:blipFill>
        <p:spPr>
          <a:xfrm>
            <a:off x="6781680" y="533520"/>
            <a:ext cx="1524240" cy="1998720"/>
          </a:xfrm>
          <a:prstGeom prst="rect">
            <a:avLst/>
          </a:prstGeom>
          <a:ln w="0">
            <a:noFill/>
          </a:ln>
        </p:spPr>
      </p:pic>
      <p:sp>
        <p:nvSpPr>
          <p:cNvPr id="2950" name="Rectangle 7"/>
          <p:cNvSpPr/>
          <p:nvPr/>
        </p:nvSpPr>
        <p:spPr>
          <a:xfrm>
            <a:off x="7642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Davat"/>
              </a:rPr>
              <a:t>1360/10/7</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1" name="Rectangle 3"/>
          <p:cNvGrpSpPr/>
          <p:nvPr/>
        </p:nvGrpSpPr>
        <p:grpSpPr>
          <a:xfrm>
            <a:off x="-36360" y="957240"/>
            <a:ext cx="9156600" cy="5742000"/>
            <a:chOff x="-36360" y="957240"/>
            <a:chExt cx="9156600" cy="5742000"/>
          </a:xfrm>
        </p:grpSpPr>
        <p:pic>
          <p:nvPicPr>
            <p:cNvPr id="3002" name="Rectangle 3" descr=""/>
            <p:cNvPicPr/>
            <p:nvPr/>
          </p:nvPicPr>
          <p:blipFill>
            <a:blip r:embed="rId1"/>
            <a:stretch/>
          </p:blipFill>
          <p:spPr>
            <a:xfrm>
              <a:off x="-36360" y="957240"/>
              <a:ext cx="9156600" cy="5742000"/>
            </a:xfrm>
            <a:prstGeom prst="rect">
              <a:avLst/>
            </a:prstGeom>
            <a:ln w="0">
              <a:noFill/>
            </a:ln>
          </p:spPr>
        </p:pic>
        <p:sp>
          <p:nvSpPr>
            <p:cNvPr id="3003" name=""/>
            <p:cNvSpPr/>
            <p:nvPr/>
          </p:nvSpPr>
          <p:spPr>
            <a:xfrm>
              <a:off x="173160" y="1093680"/>
              <a:ext cx="8785080" cy="547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در ساختار سازمانی اجرای طرح کارورزی و طراحی سازوکار مؤثر برای هماهنگی‌ها و تعامل لازم بین مناطق آموزش و پرورش، مدرسه­ها و پردیس‌های دانشگاه فرهنگیان در سراسر کشور.</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شویق مدیران ستادی به‌منظور حمایت از برنامة جدید کارورزی و پیگیری برای اجرا و ارزشیابی مناسب برنامه.</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رنامه‌ریزی و طراحی نظام تخصیص منابع مالی کافی برای اجرای برنامة جدید کارورزی در بازنگری، اجرا، و نظارت و ارزشیاب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هیه و تصویب منابع و سرفصل درسی متناسب با درس کارورزی در رشته‌های علوم تربیتی و سایر رشته‌های کارشناسی پیوسته، به‌ویژه در برنامة درسی کارورزی </a:t>
              </a:r>
              <a:r>
                <a:rPr b="0" lang="fa-IR" sz="1600" spc="-1" strike="noStrike">
                  <a:solidFill>
                    <a:srgbClr val="000000"/>
                  </a:solidFill>
                  <a:latin typeface="Calibri"/>
                  <a:ea typeface="B Nazanin"/>
                </a:rPr>
                <a:t>3</a:t>
              </a:r>
              <a:r>
                <a:rPr b="0" lang="fa-IR" sz="1600" spc="-1" strike="noStrike">
                  <a:solidFill>
                    <a:srgbClr val="000000"/>
                  </a:solidFill>
                  <a:latin typeface="Calibri"/>
                  <a:ea typeface="B Nazanin"/>
                </a:rPr>
                <a:t> و </a:t>
              </a:r>
              <a:r>
                <a:rPr b="0" lang="fa-IR" sz="1600" spc="-1" strike="noStrike">
                  <a:solidFill>
                    <a:srgbClr val="000000"/>
                  </a:solidFill>
                  <a:latin typeface="Calibri"/>
                  <a:ea typeface="B Nazanin"/>
                </a:rPr>
                <a:t>4</a:t>
              </a:r>
              <a:r>
                <a:rPr b="0" lang="fa-IR" sz="1600" spc="-1" strike="noStrike">
                  <a:solidFill>
                    <a:srgbClr val="000000"/>
                  </a:solidFill>
                  <a:latin typeface="Calibri"/>
                  <a:ea typeface="B Nazanin"/>
                </a:rPr>
                <a:t>.</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کلی در برنامة جدید کارورزی دانشگاه فرهنگیان.</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نظارت و ارزیابی مناسب فرایند و برایند برنامة جدید کارورزی و استفاده از نتایج آن برای بازنگری در برنامة جدی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دوین و تصویب آیین‌نامة مدرسه­های وابسته به دانشگاه فرهنگیان به عنوان مدرسه­های کارورزی که شرایط و امکانات لازم برای اجرای درس کارورزی از نظر نیروی انسانی، فضا و تجهیزات در آن‌ها فراهم شو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پیش‌بینی دوره‌های بازآموزی مؤثر برای استادان راهنما و معلمان راهنمای کاروزی در مدرسه­ها به تفکیک رشته‌های تحصیلی و حوزة کار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اطلاع‌رسانی و آگاهی‌بخشی، با برگزاری نشست‌های تخصصی با حضور استادان دانشگاه فرهنگیان، مدیران مدرسه­ها و معلمان راهنمای کارورزی، به منظور تبیین فرایند اجرا و دستیابی به فهم مشترک از برنامة جدید کارورزی در تربیت معلم.</a:t>
              </a:r>
              <a:endParaRPr b="0" lang="en-US" sz="1600" spc="-1" strike="noStrike">
                <a:solidFill>
                  <a:srgbClr val="000000"/>
                </a:solidFill>
                <a:latin typeface="Arial"/>
              </a:endParaRPr>
            </a:p>
          </p:txBody>
        </p:sp>
      </p:grpSp>
      <p:pic>
        <p:nvPicPr>
          <p:cNvPr id="3004" name="Content Placeholder 3" descr="Image-1002.jpg"/>
          <p:cNvPicPr/>
          <p:nvPr/>
        </p:nvPicPr>
        <p:blipFill>
          <a:blip r:embed="rId2"/>
          <a:stretch/>
        </p:blipFill>
        <p:spPr>
          <a:xfrm>
            <a:off x="-12600" y="-12600"/>
            <a:ext cx="9156600" cy="1079280"/>
          </a:xfrm>
          <a:prstGeom prst="rect">
            <a:avLst/>
          </a:prstGeom>
          <a:ln w="0">
            <a:noFill/>
          </a:ln>
        </p:spPr>
      </p:pic>
      <p:sp>
        <p:nvSpPr>
          <p:cNvPr id="3005" name="Rectangle 5"/>
          <p:cNvSpPr/>
          <p:nvPr/>
        </p:nvSpPr>
        <p:spPr>
          <a:xfrm>
            <a:off x="5362200" y="150840"/>
            <a:ext cx="392976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B Nazanin"/>
              </a:rPr>
              <a:t> بحث و نتیجه گیر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6" name="Title 1" descr=""/>
          <p:cNvPicPr/>
          <p:nvPr/>
        </p:nvPicPr>
        <p:blipFill>
          <a:blip r:embed="rId1"/>
          <a:stretch/>
        </p:blipFill>
        <p:spPr>
          <a:xfrm>
            <a:off x="530280" y="-23760"/>
            <a:ext cx="8272440" cy="6669000"/>
          </a:xfrm>
          <a:prstGeom prst="rect">
            <a:avLst/>
          </a:prstGeom>
          <a:ln w="0">
            <a:noFill/>
          </a:ln>
        </p:spPr>
      </p:pic>
      <p:pic>
        <p:nvPicPr>
          <p:cNvPr id="3007" name="Content Placeholder 3" descr="Image-2343.JPG"/>
          <p:cNvPicPr/>
          <p:nvPr/>
        </p:nvPicPr>
        <p:blipFill>
          <a:blip r:embed="rId2"/>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333360"/>
            <a:ext cx="8229600" cy="6308640"/>
          </a:xfrm>
          <a:prstGeom prst="rect">
            <a:avLst/>
          </a:prstGeom>
          <a:noFill/>
          <a:ln w="0">
            <a:noFill/>
          </a:ln>
        </p:spPr>
        <p:txBody>
          <a:bodyPr anchor="ctr">
            <a:noAutofit/>
          </a:bodyPr>
          <a:p>
            <a:pPr marL="15840" indent="0" rtl="1">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1" lang="fa-IR" sz="1200" spc="-1" strike="noStrike">
                <a:solidFill>
                  <a:srgbClr val="000000"/>
                </a:solidFill>
                <a:latin typeface="2  Nazanin"/>
                <a:cs typeface="B Nazanin"/>
              </a:rPr>
              <a:t>فهرست منابع</a:t>
            </a:r>
            <a:br>
              <a:rPr sz="1200"/>
            </a:br>
            <a:br>
              <a:rPr sz="1200"/>
            </a:b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Brown, N. (2008). </a:t>
            </a:r>
            <a:r>
              <a:rPr b="0" i="1" lang="fa-IR" sz="1200" spc="-1" strike="noStrike">
                <a:solidFill>
                  <a:srgbClr val="000000"/>
                </a:solidFill>
                <a:latin typeface="Times New Roman"/>
                <a:ea typeface="B Nazanin"/>
              </a:rPr>
              <a:t>Assessment in the Professional </a:t>
            </a:r>
            <a:r>
              <a:rPr b="0" i="1" lang="en-US" sz="1200" spc="-1" strike="noStrike">
                <a:solidFill>
                  <a:srgbClr val="000000"/>
                </a:solidFill>
                <a:latin typeface="Times New Roman"/>
                <a:ea typeface="B Nazanin"/>
              </a:rPr>
              <a:t>A</a:t>
            </a:r>
            <a:r>
              <a:rPr b="0" i="1" lang="fa-IR" sz="1200" spc="-1" strike="noStrike">
                <a:solidFill>
                  <a:srgbClr val="000000"/>
                </a:solidFill>
                <a:latin typeface="Times New Roman"/>
                <a:ea typeface="B Nazanin"/>
              </a:rPr>
              <a:t>rea Context. Center</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for the Advancement of Learning and Teaching</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University of</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asmania. 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1"/>
              </a:rPr>
              <a:t>http://www.21learn.org/arch/articles/brown_seely.html</a:t>
            </a:r>
            <a:br>
              <a:rPr sz="1100"/>
            </a:br>
            <a:r>
              <a:rPr b="0" lang="fa-IR" sz="1200" spc="-1" strike="noStrike">
                <a:solidFill>
                  <a:srgbClr val="000000"/>
                </a:solidFill>
                <a:latin typeface="Times New Roman"/>
                <a:ea typeface="B Nazanin"/>
              </a:rPr>
              <a:t>Brown, J</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Seely, 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Ann</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H.</a:t>
            </a:r>
            <a:r>
              <a:rPr b="0" lang="en-US" sz="1200" spc="-1" strike="noStrike">
                <a:solidFill>
                  <a:srgbClr val="000000"/>
                </a:solidFill>
                <a:latin typeface="Times New Roman"/>
                <a:ea typeface="B Nazanin"/>
              </a:rPr>
              <a:t> (1991).</a:t>
            </a:r>
            <a:r>
              <a:rPr b="0" lang="fa-IR" sz="1200" spc="-1" strike="noStrike">
                <a:solidFill>
                  <a:srgbClr val="000000"/>
                </a:solidFill>
                <a:latin typeface="Times New Roman"/>
                <a:ea typeface="B Nazanin"/>
              </a:rPr>
              <a:t> Cognitive Apprenticeship: Making</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hinking Visible. 21st Century Learning Initiative</a:t>
            </a:r>
            <a:r>
              <a:rPr b="0" lang="en-US" sz="1200" spc="-1" strike="noStrike">
                <a:solidFill>
                  <a:srgbClr val="000000"/>
                </a:solidFill>
                <a:latin typeface="Times New Roman"/>
                <a:ea typeface="B Nazanin"/>
              </a:rPr>
              <a:t>. Educational Researcher, 18 (1). 42-31.</a:t>
            </a:r>
            <a:br>
              <a:rPr sz="1100"/>
            </a:br>
            <a:r>
              <a:rPr b="0" lang="fa-IR" sz="1200" spc="-1" strike="noStrike">
                <a:solidFill>
                  <a:srgbClr val="000000"/>
                </a:solidFill>
                <a:latin typeface="Times New Roman"/>
                <a:ea typeface="B Nazanin"/>
              </a:rPr>
              <a:t>Bukaliy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 (2012).The potential benefits and challenges of intership programnes in an</a:t>
            </a:r>
            <a:r>
              <a:rPr b="0" lang="en-US" sz="1200" spc="-1" strike="noStrike">
                <a:solidFill>
                  <a:srgbClr val="000000"/>
                </a:solidFill>
                <a:latin typeface="Times New Roman"/>
                <a:ea typeface="B Nazanin"/>
              </a:rPr>
              <a:t> Old</a:t>
            </a:r>
            <a:r>
              <a:rPr b="0" lang="fa-IR" sz="1200" spc="-1" strike="noStrike">
                <a:solidFill>
                  <a:srgbClr val="000000"/>
                </a:solidFill>
                <a:latin typeface="Times New Roman"/>
                <a:ea typeface="B Nazanin"/>
              </a:rPr>
              <a:t> institutions: a case for the zimbabaw open university. </a:t>
            </a:r>
            <a:r>
              <a:rPr b="0" i="1" lang="fa-IR" sz="1200" spc="-1" strike="noStrike">
                <a:solidFill>
                  <a:srgbClr val="000000"/>
                </a:solidFill>
                <a:latin typeface="Times New Roman"/>
                <a:ea typeface="B Nazanin"/>
              </a:rPr>
              <a:t>International journal on nrw trends in education on thir implication</a:t>
            </a:r>
            <a:r>
              <a:rPr b="0" lang="en-US" sz="1200" spc="-1" strike="noStrike">
                <a:solidFill>
                  <a:srgbClr val="000000"/>
                </a:solidFill>
                <a:latin typeface="Times New Roman"/>
                <a:ea typeface="B Nazanin"/>
              </a:rPr>
              <a:t>, 3 (13), 6249</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1309</a:t>
            </a:r>
            <a:r>
              <a:rPr b="0" lang="fa-IR"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Bukaliya, M. (2015). Exploring the effectiveness of student re</a:t>
            </a:r>
            <a:r>
              <a:rPr b="0" lang="en-US" sz="1200" spc="-1" strike="noStrike">
                <a:solidFill>
                  <a:srgbClr val="000000"/>
                </a:solidFill>
                <a:latin typeface="Times New Roman"/>
                <a:ea typeface="B Nazanin"/>
              </a:rPr>
              <a:t>p</a:t>
            </a:r>
            <a:r>
              <a:rPr b="0" lang="fa-IR" sz="1200" spc="-1" strike="noStrike">
                <a:solidFill>
                  <a:srgbClr val="000000"/>
                </a:solidFill>
                <a:latin typeface="Times New Roman"/>
                <a:ea typeface="B Nazanin"/>
              </a:rPr>
              <a:t>resentative councils in open and distance learning a case for Zimbabwe in open university</a:t>
            </a:r>
            <a:r>
              <a:rPr b="0" lang="en-US" sz="1200" spc="-1" strike="noStrike">
                <a:solidFill>
                  <a:srgbClr val="000000"/>
                </a:solidFill>
                <a:latin typeface="Times New Roman"/>
                <a:ea typeface="B Nazanin"/>
              </a:rPr>
              <a:t>, </a:t>
            </a:r>
            <a:r>
              <a:rPr b="0" i="1" lang="fa-IR" sz="1200" spc="-1" strike="noStrike">
                <a:solidFill>
                  <a:srgbClr val="000000"/>
                </a:solidFill>
                <a:latin typeface="Times New Roman"/>
                <a:ea typeface="B Nazanin"/>
              </a:rPr>
              <a:t>international journal on new trends in education and their implications</a:t>
            </a:r>
            <a:r>
              <a:rPr b="0" lang="fa-IR" sz="1200" spc="-1" strike="noStrike">
                <a:solidFill>
                  <a:srgbClr val="000000"/>
                </a:solidFill>
                <a:latin typeface="Times New Roman"/>
                <a:ea typeface="B Nazanin"/>
              </a:rPr>
              <a:t>, 3 (1),</a:t>
            </a:r>
            <a:r>
              <a:rPr b="0" lang="en-US" sz="1200" spc="-1" strike="noStrike">
                <a:solidFill>
                  <a:srgbClr val="000000"/>
                </a:solidFill>
                <a:latin typeface="Times New Roman"/>
                <a:ea typeface="B Nazanin"/>
              </a:rPr>
              <a:t>90</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80</a:t>
            </a:r>
            <a:br>
              <a:rPr sz="1100"/>
            </a:br>
            <a:r>
              <a:rPr b="0" lang="fa-IR" sz="1200" spc="-1" strike="noStrike">
                <a:solidFill>
                  <a:srgbClr val="000000"/>
                </a:solidFill>
                <a:latin typeface="Times New Roman"/>
                <a:ea typeface="B Nazanin"/>
              </a:rPr>
              <a:t>Creswell, J.</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W. (2007)</a:t>
            </a:r>
            <a:r>
              <a:rPr b="0" lang="ar-SA" sz="1200" spc="-1" strike="noStrike">
                <a:solidFill>
                  <a:srgbClr val="000000"/>
                </a:solidFill>
                <a:latin typeface="Times New Roman"/>
                <a:ea typeface="B Nazanin"/>
              </a:rPr>
              <a:t>.</a:t>
            </a:r>
            <a:r>
              <a:rPr b="0" lang="ar-SA" sz="1200" spc="-1" strike="noStrike">
                <a:solidFill>
                  <a:srgbClr val="000000"/>
                </a:solidFill>
                <a:latin typeface="Calibri"/>
                <a:ea typeface="Times New Roman"/>
              </a:rPr>
              <a:t> </a:t>
            </a:r>
            <a:r>
              <a:rPr b="0" i="1" lang="fa-IR" sz="1200" spc="-1" strike="noStrike">
                <a:solidFill>
                  <a:srgbClr val="000000"/>
                </a:solidFill>
                <a:latin typeface="Times New Roman"/>
                <a:ea typeface="B Nazanin"/>
              </a:rPr>
              <a:t>The designing and conducting mixed methods</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research. Thousand Oak</a:t>
            </a:r>
            <a:r>
              <a:rPr b="0" lang="fa-IR" sz="1200" spc="-1" strike="noStrike">
                <a:solidFill>
                  <a:srgbClr val="000000"/>
                </a:solidFill>
                <a:latin typeface="Times New Roman"/>
                <a:ea typeface="B Nazanin"/>
              </a:rPr>
              <a:t>s</a:t>
            </a:r>
            <a:r>
              <a:rPr b="0" lang="ar-SA"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CA: Sage.</a:t>
            </a:r>
            <a:br>
              <a:rPr sz="1100"/>
            </a:br>
            <a:r>
              <a:rPr b="0" lang="fa-IR" sz="1200" spc="-1" strike="noStrike">
                <a:solidFill>
                  <a:srgbClr val="000000"/>
                </a:solidFill>
                <a:latin typeface="Times New Roman"/>
                <a:ea typeface="B Nazanin"/>
              </a:rPr>
              <a:t>La</a:t>
            </a:r>
            <a:r>
              <a:rPr b="0" lang="en-US" sz="1200" spc="-1" strike="noStrike">
                <a:solidFill>
                  <a:srgbClr val="000000"/>
                </a:solidFill>
                <a:latin typeface="Times New Roman"/>
                <a:ea typeface="B Nazanin"/>
              </a:rPr>
              <a:t>b</a:t>
            </a:r>
            <a:r>
              <a:rPr b="0" lang="fa-IR" sz="1200" spc="-1" strike="noStrike">
                <a:solidFill>
                  <a:srgbClr val="000000"/>
                </a:solidFill>
                <a:latin typeface="Times New Roman"/>
                <a:ea typeface="B Nazanin"/>
              </a:rPr>
              <a:t>oskey, V. K. (2014). Development of reflectivle practice: A study</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of preservice teachers. New York: </a:t>
            </a:r>
            <a:r>
              <a:rPr b="0" i="1" lang="fa-IR" sz="1200" spc="-1" strike="noStrike">
                <a:solidFill>
                  <a:srgbClr val="000000"/>
                </a:solidFill>
                <a:latin typeface="Times New Roman"/>
                <a:ea typeface="B Nazanin"/>
              </a:rPr>
              <a:t>Teachers College Press</a:t>
            </a:r>
            <a:r>
              <a:rPr b="0" lang="fa-IR" sz="1200" spc="-1" strike="noStrike">
                <a:solidFill>
                  <a:srgbClr val="000000"/>
                </a:solidFill>
                <a:latin typeface="Times New Roman"/>
                <a:ea typeface="B Nazanin"/>
              </a:rPr>
              <a:t>. </a:t>
            </a:r>
            <a:r>
              <a:rPr b="0" i="1" lang="en-US" sz="1200" spc="-1" strike="noStrike">
                <a:solidFill>
                  <a:srgbClr val="000000"/>
                </a:solidFill>
                <a:latin typeface="Times New Roman"/>
                <a:ea typeface="B Nazanin"/>
              </a:rPr>
              <a:t>International handbook of self-study of teaching and teacher education practices,</a:t>
            </a:r>
            <a:r>
              <a:rPr b="0" lang="en-US" sz="1200" spc="-1" strike="noStrike">
                <a:solidFill>
                  <a:srgbClr val="000000"/>
                </a:solidFill>
                <a:latin typeface="Times New Roman"/>
                <a:ea typeface="B Nazanin"/>
              </a:rPr>
              <a:t> 869 -817.</a:t>
            </a:r>
            <a:br>
              <a:rPr sz="1100"/>
            </a:br>
            <a:r>
              <a:rPr b="0" lang="en-US" sz="1200" spc="-1" strike="noStrike">
                <a:solidFill>
                  <a:srgbClr val="000000"/>
                </a:solidFill>
                <a:latin typeface="Times New Roman"/>
                <a:ea typeface="B Nazanin"/>
              </a:rPr>
              <a:t>Padgett, D. K. (2008). </a:t>
            </a:r>
            <a:r>
              <a:rPr b="0" i="1" lang="en-US" sz="1200" spc="-1" strike="noStrike">
                <a:solidFill>
                  <a:srgbClr val="000000"/>
                </a:solidFill>
                <a:latin typeface="Times New Roman"/>
                <a:ea typeface="B Nazanin"/>
              </a:rPr>
              <a:t>Qualitative methods in social work research</a:t>
            </a:r>
            <a:r>
              <a:rPr b="0" lang="en-US" sz="1200" spc="-1" strike="noStrike">
                <a:solidFill>
                  <a:srgbClr val="000000"/>
                </a:solidFill>
                <a:latin typeface="Times New Roman"/>
                <a:ea typeface="B Nazanin"/>
              </a:rPr>
              <a:t>. London: SAGE.</a:t>
            </a:r>
            <a:br>
              <a:rPr sz="1100"/>
            </a:br>
            <a:r>
              <a:rPr b="0" lang="en-US" sz="1200" spc="-1" strike="noStrike">
                <a:solidFill>
                  <a:srgbClr val="000000"/>
                </a:solidFill>
                <a:latin typeface="Times New Roman"/>
                <a:ea typeface="B Nazanin"/>
              </a:rPr>
              <a:t>Sacks, T. (2015). New pathways to analysis through thick description: Historical trauma and emerging qualitative research. </a:t>
            </a:r>
            <a:r>
              <a:rPr b="0" i="1" lang="en-US" sz="1200" spc="-1" strike="noStrike">
                <a:solidFill>
                  <a:srgbClr val="000000"/>
                </a:solidFill>
                <a:latin typeface="Times New Roman"/>
                <a:ea typeface="B Nazanin"/>
              </a:rPr>
              <a:t>Qualitative Social Work</a:t>
            </a:r>
            <a:r>
              <a:rPr b="0" lang="en-US" sz="1200" spc="-1" strike="noStrike">
                <a:solidFill>
                  <a:srgbClr val="000000"/>
                </a:solidFill>
                <a:latin typeface="Times New Roman"/>
                <a:ea typeface="B Nazanin"/>
              </a:rPr>
              <a:t>, 14(6),757-753.</a:t>
            </a:r>
            <a:br>
              <a:rPr sz="1100"/>
            </a:br>
            <a:r>
              <a:rPr b="0" lang="fa-IR" sz="1200" spc="-1" strike="noStrike">
                <a:solidFill>
                  <a:srgbClr val="000000"/>
                </a:solidFill>
                <a:latin typeface="Times New Roman"/>
                <a:ea typeface="B Nazanin"/>
              </a:rPr>
              <a:t>Teacher Candidate Internship Handbook (2015). </a:t>
            </a:r>
            <a:r>
              <a:rPr b="0" i="1" lang="fa-IR" sz="1200" spc="-1" strike="noStrike">
                <a:solidFill>
                  <a:srgbClr val="000000"/>
                </a:solidFill>
                <a:latin typeface="Times New Roman"/>
                <a:ea typeface="B Nazanin"/>
              </a:rPr>
              <a:t>Darden College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University of Western Ontario</a:t>
            </a:r>
            <a:r>
              <a:rPr b="0" lang="en-US" sz="1200" spc="-1" strike="noStrike">
                <a:solidFill>
                  <a:srgbClr val="000000"/>
                </a:solidFill>
                <a:latin typeface="Times New Roman"/>
                <a:ea typeface="B Nazanin"/>
              </a:rPr>
              <a:t>. (2016,</a:t>
            </a:r>
            <a:r>
              <a:rPr b="0" lang="en-US" sz="1200" spc="-1" strike="noStrike">
                <a:solidFill>
                  <a:srgbClr val="000000"/>
                </a:solidFill>
                <a:latin typeface="Calibri"/>
                <a:ea typeface="Arial"/>
              </a:rPr>
              <a:t> </a:t>
            </a:r>
            <a:r>
              <a:rPr b="0" lang="fa-IR" sz="1200" spc="-1" strike="noStrike">
                <a:solidFill>
                  <a:srgbClr val="000000"/>
                </a:solidFill>
                <a:latin typeface="Times New Roman"/>
                <a:ea typeface="B Nazanin"/>
              </a:rPr>
              <a:t>January 9). Training program (</a:t>
            </a:r>
            <a:r>
              <a:rPr b="0" lang="en-US" sz="1200" spc="-1" strike="noStrike">
                <a:solidFill>
                  <a:srgbClr val="000000"/>
                </a:solidFill>
                <a:latin typeface="Times New Roman"/>
                <a:ea typeface="B Nazanin"/>
              </a:rPr>
              <a:t>I</a:t>
            </a:r>
            <a:r>
              <a:rPr b="0" lang="fa-IR" sz="1200" spc="-1" strike="noStrike">
                <a:solidFill>
                  <a:srgbClr val="000000"/>
                </a:solidFill>
                <a:latin typeface="Times New Roman"/>
                <a:ea typeface="B Nazanin"/>
              </a:rPr>
              <a:t>nternship) of the education students of the faculty of education</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2"/>
              </a:rPr>
              <a:t>www.uwo.ca</a:t>
            </a:r>
            <a:r>
              <a:rPr b="0" i="1" lang="en-US"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UNESCO</a:t>
            </a:r>
            <a:r>
              <a:rPr b="0" lang="en-US" sz="1200" spc="-1" strike="noStrike">
                <a:solidFill>
                  <a:srgbClr val="000000"/>
                </a:solidFill>
                <a:latin typeface="Times New Roman"/>
                <a:ea typeface="B Nazanin"/>
              </a:rPr>
              <a:t>.</a:t>
            </a:r>
            <a:r>
              <a:rPr b="0" lang="en-US" sz="1200" spc="-1" strike="noStrike">
                <a:solidFill>
                  <a:srgbClr val="000000"/>
                </a:solidFill>
                <a:latin typeface="B Nazanin"/>
                <a:ea typeface="Arial"/>
              </a:rPr>
              <a:t> </a:t>
            </a:r>
            <a:r>
              <a:rPr b="0" lang="fa-IR" sz="1200" spc="-1" strike="noStrike">
                <a:solidFill>
                  <a:srgbClr val="000000"/>
                </a:solidFill>
                <a:latin typeface="Times New Roman"/>
                <a:ea typeface="B Nazanin"/>
              </a:rPr>
              <a:t>(1990). </a:t>
            </a:r>
            <a:r>
              <a:rPr b="0" i="1" lang="fa-IR" sz="1200" spc="-1" strike="noStrike">
                <a:solidFill>
                  <a:srgbClr val="000000"/>
                </a:solidFill>
                <a:latin typeface="Times New Roman"/>
                <a:ea typeface="B Nazanin"/>
              </a:rPr>
              <a:t>Education for the Future, Regional meeting in</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Bangkok, Educational Research of the Ministry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Xiuli, M. (2012). </a:t>
            </a:r>
            <a:r>
              <a:rPr b="0" i="1" lang="fa-IR" sz="1200" spc="-1" strike="noStrike">
                <a:solidFill>
                  <a:srgbClr val="000000"/>
                </a:solidFill>
                <a:latin typeface="Times New Roman"/>
                <a:ea typeface="B Nazanin"/>
              </a:rPr>
              <a:t>Student Teachers</a:t>
            </a:r>
            <a:r>
              <a:rPr b="0" i="1" lang="en-US" sz="1200" spc="-1" strike="noStrike">
                <a:solidFill>
                  <a:srgbClr val="000000"/>
                </a:solidFill>
                <a:latin typeface="Times New Roman"/>
                <a:ea typeface="B Nazanin"/>
              </a:rPr>
              <a:t>,</a:t>
            </a:r>
            <a:r>
              <a:rPr b="0" i="1" lang="fa-IR" sz="1200" spc="-1" strike="noStrike">
                <a:solidFill>
                  <a:srgbClr val="000000"/>
                </a:solidFill>
                <a:latin typeface="Times New Roman"/>
                <a:ea typeface="B Nazanin"/>
              </a:rPr>
              <a:t> Professional Learning in Teaching Practicum</a:t>
            </a:r>
            <a:r>
              <a:rPr b="0" lang="fa-IR" sz="1200" spc="-1" strike="noStrike">
                <a:solidFill>
                  <a:srgbClr val="000000"/>
                </a:solidFill>
                <a:latin typeface="Times New Roman"/>
                <a:ea typeface="B Nazanin"/>
              </a:rPr>
              <a:t>, For the Degree of Doctor of Philosophy at the University of Hong Kong</a:t>
            </a:r>
            <a:r>
              <a:rPr b="0" lang="fa-IR" sz="1200" spc="-1" strike="noStrike">
                <a:solidFill>
                  <a:srgbClr val="000000"/>
                </a:solidFill>
                <a:latin typeface="Times New Roman"/>
                <a:ea typeface="B Nazanin"/>
              </a:rPr>
              <a:t>.</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000"/>
            </a:br>
            <a:br>
              <a:rPr sz="1000"/>
            </a:br>
            <a:br>
              <a:rPr sz="1000"/>
            </a:br>
            <a:br>
              <a:rPr sz="1000"/>
            </a:br>
            <a:br>
              <a:rPr sz="1000"/>
            </a:br>
            <a:br>
              <a:rPr sz="1000"/>
            </a:br>
            <a:br>
              <a:rPr sz="1000"/>
            </a:br>
            <a:br>
              <a:rPr sz="1000"/>
            </a:br>
            <a:br>
              <a:rPr sz="1000"/>
            </a:br>
            <a:br>
              <a:rPr sz="1000"/>
            </a:br>
            <a:br>
              <a:rPr sz="1000"/>
            </a:br>
            <a:endParaRPr b="0" lang="en-US" sz="1200" spc="-1" strike="noStrike">
              <a:solidFill>
                <a:srgbClr val="000000"/>
              </a:solidFill>
              <a:latin typeface="Calibri"/>
            </a:endParaRPr>
          </a:p>
        </p:txBody>
      </p:sp>
      <p:pic>
        <p:nvPicPr>
          <p:cNvPr id="3009" name="Content Placeholder 3" descr="Image-2343.JPG"/>
          <p:cNvPicPr/>
          <p:nvPr/>
        </p:nvPicPr>
        <p:blipFill>
          <a:blip r:embed="rId3"/>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1"/>
          <p:cNvSpPr/>
          <p:nvPr/>
        </p:nvSpPr>
        <p:spPr>
          <a:xfrm>
            <a:off x="533520" y="1413360"/>
            <a:ext cx="8153280" cy="4969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B Davat"/>
              </a:rPr>
              <a:t>دانشگاه فرهنگیان خیلی مهم است اینجا شخصیت معلمی ساخته می شود</a:t>
            </a:r>
            <a:r>
              <a:rPr b="1" lang="en-US" sz="4000" spc="-1" strike="noStrike">
                <a:solidFill>
                  <a:srgbClr val="000000"/>
                </a:solidFill>
                <a:latin typeface="Arial"/>
                <a:ea typeface="B Davat"/>
              </a:rPr>
              <a:t>.</a:t>
            </a:r>
            <a:r>
              <a:rPr b="1" lang="fa-IR" sz="4000" spc="-1" strike="noStrike">
                <a:solidFill>
                  <a:srgbClr val="000000"/>
                </a:solidFill>
                <a:latin typeface="Arial"/>
                <a:ea typeface="B Davat"/>
              </a:rPr>
              <a:t> شخصیت معلم یعنی همان چیزی که آموزش داده می شود. معلم در کلاس شخصیت خود را می آموزد نه معلومات خود را.                           </a:t>
            </a:r>
            <a:r>
              <a:rPr b="1" lang="fa-IR" sz="2800" spc="-1" strike="noStrike">
                <a:solidFill>
                  <a:srgbClr val="000000"/>
                </a:solidFill>
                <a:latin typeface="Arial"/>
                <a:ea typeface="B Davat"/>
              </a:rPr>
              <a:t>92/2/9</a:t>
            </a:r>
            <a:endParaRPr b="0" lang="en-US" sz="2800" spc="-1" strike="noStrike">
              <a:solidFill>
                <a:srgbClr val="000000"/>
              </a:solidFill>
              <a:latin typeface="Arial"/>
            </a:endParaRPr>
          </a:p>
        </p:txBody>
      </p:sp>
      <p:sp>
        <p:nvSpPr>
          <p:cNvPr id="2952"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مقام معظم رهبری (مدظله العالی)</a:t>
            </a:r>
            <a:endParaRPr b="0" lang="en-US" sz="3600" spc="-1" strike="noStrike">
              <a:solidFill>
                <a:srgbClr val="000000"/>
              </a:solidFill>
              <a:latin typeface="Arial"/>
            </a:endParaRPr>
          </a:p>
        </p:txBody>
      </p:sp>
      <p:pic>
        <p:nvPicPr>
          <p:cNvPr id="2953" name="Picture 2" descr="http://t3.gstatic.com/images?q=tbn:ANd9GcQh4sBVG3ICIqaLsAYb3lQgeinAS4r0NQqeluz_ca2iRoE_8zi-PhqPYw">
            <a:hlinkClick r:id="rId1"/>
          </p:cNvPr>
          <p:cNvPicPr/>
          <p:nvPr/>
        </p:nvPicPr>
        <p:blipFill>
          <a:blip r:embed="rId2"/>
          <a:stretch/>
        </p:blipFill>
        <p:spPr>
          <a:xfrm>
            <a:off x="7086600" y="152280"/>
            <a:ext cx="1371600" cy="2040120"/>
          </a:xfrm>
          <a:prstGeom prst="rect">
            <a:avLst/>
          </a:prstGeom>
          <a:ln w="0">
            <a:noFill/>
          </a:ln>
        </p:spPr>
      </p:pic>
      <p:pic>
        <p:nvPicPr>
          <p:cNvPr id="2954" name="Picture 6" descr="http://uploadpa.com/beta/12/nxv0icep46awvmgvb1n6.gif">
            <a:hlinkClick r:id="rId3"/>
          </p:cNvPr>
          <p:cNvPicPr/>
          <p:nvPr/>
        </p:nvPicPr>
        <p:blipFill>
          <a:blip r:embed="rId4"/>
          <a:stretch/>
        </p:blipFill>
        <p:spPr>
          <a:xfrm>
            <a:off x="152280" y="76320"/>
            <a:ext cx="1600200" cy="990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txBox="1"/>
          <p:nvPr/>
        </p:nvSpPr>
        <p:spPr>
          <a:xfrm>
            <a:off x="0" y="0"/>
            <a:ext cx="9144000" cy="6858000"/>
          </a:xfrm>
          <a:prstGeom prst="rect">
            <a:avLst/>
          </a:prstGeom>
          <a:noFill/>
          <a:ln w="0">
            <a:noFill/>
          </a:ln>
        </p:spPr>
        <p:txBody>
          <a:bodyPr lIns="82440" rIns="82440" tIns="41040" bIns="41040"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معاونت پژوهشی و فناوری </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دانشگاه فرهنگیان</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آذرماه</a:t>
            </a:r>
            <a:r>
              <a:rPr b="1" i="1" lang="fa-IR" sz="5400" spc="-1" strike="noStrike">
                <a:solidFill>
                  <a:srgbClr val="7d3c4a"/>
                </a:solidFill>
                <a:latin typeface="Lucida Sans Unicode"/>
                <a:ea typeface="B Nazanin"/>
              </a:rPr>
              <a:t>97</a:t>
            </a: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400" spc="-1" strike="noStrike">
                <a:solidFill>
                  <a:srgbClr val="7d3c4a"/>
                </a:solidFill>
                <a:latin typeface="Lucida Sans Unicode"/>
                <a:cs typeface="B Nazanin"/>
              </a:rPr>
              <a:t>پژآهنگ پانزدهم</a:t>
            </a:r>
            <a:endParaRPr b="0" lang="en-US" sz="5400" spc="-1" strike="noStrike">
              <a:solidFill>
                <a:srgbClr val="000000"/>
              </a:solidFill>
              <a:latin typeface="Lucida Sans Unicode"/>
            </a:endParaRPr>
          </a:p>
          <a:p>
            <a:pPr marL="365040" indent="-255600" algn="ctr" rtl="1">
              <a:lnSpc>
                <a:spcPct val="107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واکاوی موانع پیاده‌سازی موفق برنامة جدید کارورزی در دانشگاه فرهنگیان</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خنران: دکتر اسد حجازی</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ستادیار گروه مدیریت آموزشی</a:t>
            </a:r>
            <a:endParaRPr b="0" lang="en-US" sz="2400" spc="-1" strike="noStrike">
              <a:solidFill>
                <a:srgbClr val="000000"/>
              </a:solidFill>
              <a:latin typeface="Lucida Sans Unicode"/>
            </a:endParaRPr>
          </a:p>
          <a:p>
            <a:pPr marL="365040" indent="-25560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56" name="Picture 2" descr="arm1[1]"/>
          <p:cNvPicPr/>
          <p:nvPr/>
        </p:nvPicPr>
        <p:blipFill>
          <a:blip r:embed="rId1"/>
          <a:stretch/>
        </p:blipFill>
        <p:spPr>
          <a:xfrm>
            <a:off x="3571920" y="214200"/>
            <a:ext cx="2224080" cy="1270080"/>
          </a:xfrm>
          <a:prstGeom prst="rect">
            <a:avLst/>
          </a:prstGeom>
          <a:ln w="0">
            <a:noFill/>
          </a:ln>
        </p:spPr>
      </p:pic>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title"/>
          </p:nvPr>
        </p:nvSpPr>
        <p:spPr>
          <a:xfrm>
            <a:off x="971280" y="189000"/>
            <a:ext cx="8064360" cy="6480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کارورزی:</a:t>
            </a:r>
            <a:br>
              <a:rPr sz="2800"/>
            </a:br>
            <a:r>
              <a:rPr b="0" lang="fa-IR" sz="2800" spc="-1" strike="noStrike">
                <a:solidFill>
                  <a:srgbClr val="000000"/>
                </a:solidFill>
                <a:latin typeface="Calibri"/>
                <a:ea typeface="B Nazanin"/>
              </a:rPr>
              <a:t> </a:t>
            </a:r>
            <a:r>
              <a:rPr b="0" lang="fa-IR" sz="2000" spc="-1" strike="noStrike">
                <a:solidFill>
                  <a:srgbClr val="000000"/>
                </a:solidFill>
                <a:latin typeface="Calibri"/>
                <a:ea typeface="B Lotus"/>
              </a:rPr>
              <a:t> </a:t>
            </a:r>
            <a:r>
              <a:rPr b="0" lang="fa-IR" sz="2800" spc="-1" strike="noStrike">
                <a:solidFill>
                  <a:srgbClr val="000000"/>
                </a:solidFill>
                <a:latin typeface="Calibri"/>
                <a:cs typeface="B Lotus"/>
              </a:rPr>
              <a:t>اصل کلمة کارورزی‌کردن</a:t>
            </a:r>
            <a:r>
              <a:rPr b="0" lang="fa-IR" sz="2800" spc="-1" strike="noStrike" baseline="30000">
                <a:solidFill>
                  <a:srgbClr val="000000"/>
                </a:solidFill>
                <a:latin typeface="Calibri"/>
                <a:ea typeface="B Lotus"/>
              </a:rPr>
              <a:t> </a:t>
            </a:r>
            <a:r>
              <a:rPr b="0" lang="fa-IR" sz="2800" spc="-1" strike="noStrike">
                <a:solidFill>
                  <a:srgbClr val="000000"/>
                </a:solidFill>
                <a:latin typeface="Calibri"/>
                <a:cs typeface="B Lotus"/>
              </a:rPr>
              <a:t>به واژة </a:t>
            </a:r>
            <a:r>
              <a:rPr b="1" lang="fa-IR" sz="2800" spc="-1" strike="noStrike">
                <a:solidFill>
                  <a:srgbClr val="ff0000"/>
                </a:solidFill>
                <a:latin typeface="Calibri"/>
                <a:ea typeface="B Lotus"/>
              </a:rPr>
              <a:t>«کارورز» </a:t>
            </a:r>
            <a:r>
              <a:rPr b="0" lang="fa-IR" sz="2800" spc="-1" strike="noStrike">
                <a:solidFill>
                  <a:srgbClr val="000000"/>
                </a:solidFill>
                <a:latin typeface="Calibri"/>
                <a:cs typeface="B Lotus"/>
              </a:rPr>
              <a:t>بر می‌گردد و به فردی گفته </a:t>
            </a:r>
            <a:br>
              <a:rPr sz="2800"/>
            </a:br>
            <a:r>
              <a:rPr b="0" lang="fa-IR" sz="2800" spc="-1" strike="noStrike">
                <a:solidFill>
                  <a:srgbClr val="000000"/>
                </a:solidFill>
                <a:latin typeface="Calibri"/>
                <a:cs typeface="B Lotus"/>
              </a:rPr>
              <a:t>می‌شود که در حین تحصیل در آموزش عالی یا بلافاصله بعد از پایان دوران تحصیل، تنها با هدف کسب تجربه و مهارت کاری و عملی، در مؤسسه‌ای مشغول به کار می‌شود.</a:t>
            </a:r>
            <a:r>
              <a:rPr b="0" lang="en-US" sz="2800" spc="-1" strike="noStrike">
                <a:solidFill>
                  <a:srgbClr val="000000"/>
                </a:solidFill>
                <a:latin typeface="Calibri"/>
                <a:ea typeface="B Lotus"/>
              </a:rPr>
              <a:t> </a:t>
            </a:r>
            <a:br>
              <a:rPr sz="2800"/>
            </a:br>
            <a:r>
              <a:rPr b="1" lang="fa-IR" sz="2800" spc="-1" strike="noStrike">
                <a:solidFill>
                  <a:srgbClr val="ff0000"/>
                </a:solidFill>
                <a:latin typeface="Calibri"/>
                <a:cs typeface="B Lotus"/>
              </a:rPr>
              <a:t>بنابر تعاریف ارائه‌شده، </a:t>
            </a:r>
            <a:r>
              <a:rPr b="0" lang="fa-IR" sz="2800" spc="-1" strike="noStrike">
                <a:solidFill>
                  <a:srgbClr val="000000"/>
                </a:solidFill>
                <a:latin typeface="Calibri"/>
                <a:cs typeface="B Lotus"/>
              </a:rPr>
              <a:t>کارورزی تمهیداتی رسمی با هدف ایجاد فرصت‌هایی برای دانشجویان به منظور مطالعه و تجربة علاقه­های شغلی خارج از محیط دانشگاه در قالب برنامه‌ای عملی و تحت نظر یک گروه دانشگاهی و نوعی فرایند تبادل نظریه و عمل است که امکان کاربرد آموخته‌های نظری را در محیطی واقعی فراهم می‌آورد. </a:t>
            </a:r>
            <a:br>
              <a:rPr sz="2800"/>
            </a:br>
            <a:br>
              <a:rPr sz="2800"/>
            </a:br>
            <a:endParaRPr b="0" lang="en-US" sz="2800" spc="-1" strike="noStrike">
              <a:solidFill>
                <a:srgbClr val="000000"/>
              </a:solidFill>
              <a:latin typeface="Calibri"/>
            </a:endParaRPr>
          </a:p>
        </p:txBody>
      </p:sp>
      <p:pic>
        <p:nvPicPr>
          <p:cNvPr id="2958" name="Content Placeholder 1" descr=""/>
          <p:cNvPicPr/>
          <p:nvPr/>
        </p:nvPicPr>
        <p:blipFill>
          <a:blip r:embed="rId1"/>
          <a:stretch/>
        </p:blipFill>
        <p:spPr>
          <a:xfrm>
            <a:off x="30240" y="189000"/>
            <a:ext cx="1085760" cy="64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title"/>
          </p:nvPr>
        </p:nvSpPr>
        <p:spPr>
          <a:xfrm>
            <a:off x="3504960" y="152280"/>
            <a:ext cx="5530680" cy="82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کارورزی در کشورهای توسعه یافته</a:t>
            </a:r>
            <a:r>
              <a:rPr b="1" lang="ar-SA" sz="3200" spc="-1" strike="noStrike">
                <a:solidFill>
                  <a:srgbClr val="000000"/>
                </a:solidFill>
                <a:latin typeface="Calibri"/>
                <a:ea typeface="B Nazanin"/>
              </a:rPr>
              <a:t>:</a:t>
            </a:r>
            <a:br>
              <a:rPr sz="3200"/>
            </a:br>
            <a:endParaRPr b="0" lang="en-US" sz="3200" spc="-1" strike="noStrike">
              <a:solidFill>
                <a:srgbClr val="000000"/>
              </a:solidFill>
              <a:latin typeface="Calibri"/>
            </a:endParaRPr>
          </a:p>
        </p:txBody>
      </p:sp>
      <p:sp>
        <p:nvSpPr>
          <p:cNvPr id="2960" name=""/>
          <p:cNvSpPr txBox="1"/>
          <p:nvPr/>
        </p:nvSpPr>
        <p:spPr>
          <a:xfrm>
            <a:off x="1828800" y="1218960"/>
            <a:ext cx="7315200" cy="5638680"/>
          </a:xfrm>
          <a:prstGeom prst="rect">
            <a:avLst/>
          </a:prstGeom>
          <a:noFill/>
          <a:ln w="0">
            <a:noFill/>
          </a:ln>
        </p:spPr>
        <p:txBody>
          <a:bodyPr anchor="t">
            <a:normAutofit fontScale="87000"/>
          </a:bodyPr>
          <a:p>
            <a:pPr algn="just" rtl="1">
              <a:lnSpc>
                <a:spcPct val="10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چند دهة گذشته کشورهای بسیاری برای فائق‌آمدن بر مشکلات نظام‌های آموزشی قبل از دانشگاه، در زمینة کارورزی به راه‌حل‌هایی از جمله آموزش کارورزی فکورانه، توسعة فرهنگ کارورزی، انجام حمایت‌های لازم از تربیت معلم و انجام تحقیقات لازم در این زمینه روی آورده‌اند. برای مثال، مدرسان و معلمان راهنمای کارورزی </a:t>
            </a:r>
            <a:r>
              <a:rPr b="0" lang="fa-IR" sz="2000" spc="-1" strike="noStrike">
                <a:solidFill>
                  <a:srgbClr val="ff0000"/>
                </a:solidFill>
                <a:latin typeface="Calibri"/>
                <a:cs typeface="B Nazanin"/>
              </a:rPr>
              <a:t>در کشورهای انگلستان و فرانسه </a:t>
            </a:r>
            <a:r>
              <a:rPr b="0" lang="fa-IR" sz="2000" spc="-1" strike="noStrike">
                <a:solidFill>
                  <a:srgbClr val="000000"/>
                </a:solidFill>
                <a:latin typeface="Calibri"/>
                <a:cs typeface="B Nazanin"/>
              </a:rPr>
              <a:t>از مجرب‌ترین استادان انتخاب می‌شوند و از وظایف خود آگاهی دارند. در انگلستان و فرانسه کارورزی در طول برنامة درسی تربیت معلم و به روش تلفیقی با سایر واحدها برنامه‌ریزی می‌شود تا دانشجو معلمان بتوانند، دربارة تجربه­های خود در کلاس درس با استادان و هم­کلاسی‌هایشان خود تبادل نظر کنند. </a:t>
            </a:r>
            <a:endParaRPr b="0" lang="en-US" sz="20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a:t>
            </a:r>
            <a:r>
              <a:rPr b="1" lang="fa-IR" sz="1800" spc="-1" strike="noStrike">
                <a:solidFill>
                  <a:srgbClr val="000000"/>
                </a:solidFill>
                <a:latin typeface="Calibri"/>
                <a:ea typeface="B Nazanin"/>
              </a:rPr>
              <a:t> سوی دیگر </a:t>
            </a:r>
            <a:r>
              <a:rPr b="1" lang="fa-IR" sz="1800" spc="-1" strike="noStrike">
                <a:solidFill>
                  <a:srgbClr val="ff0000"/>
                </a:solidFill>
                <a:latin typeface="Calibri"/>
                <a:cs typeface="B Nazanin"/>
              </a:rPr>
              <a:t>در آمریکا </a:t>
            </a:r>
            <a:r>
              <a:rPr b="1" lang="fa-IR" sz="1800" spc="-1" strike="noStrike">
                <a:solidFill>
                  <a:srgbClr val="000000"/>
                </a:solidFill>
                <a:latin typeface="Calibri"/>
                <a:cs typeface="B Nazanin"/>
              </a:rPr>
              <a:t>برنامة آماده‌سازی نومعلمان موفق، عمیقاً در روابط حرفه‌ای میان مدیران مدارس، نظارت بالینی دانشکده، دانشجویان تربیت معلم و سرپرستان دانشگاه ریشه دارد (راهنمای کارورزی دانشجومعلمان آمریکا، </a:t>
            </a:r>
            <a:r>
              <a:rPr b="1" lang="fa-IR" sz="1800" spc="-1" strike="noStrike">
                <a:solidFill>
                  <a:srgbClr val="000000"/>
                </a:solidFill>
                <a:latin typeface="Calibri"/>
                <a:ea typeface="B Nazanin"/>
              </a:rPr>
              <a:t>2015</a:t>
            </a:r>
            <a:r>
              <a:rPr b="1" lang="fa-IR" sz="1800" spc="-1" strike="noStrike">
                <a:solidFill>
                  <a:srgbClr val="000000"/>
                </a:solidFill>
                <a:latin typeface="Calibri"/>
                <a:ea typeface="B Nazanin"/>
              </a:rPr>
              <a:t>). در دانشکدة آموزش و پرورش دانشگاه </a:t>
            </a:r>
            <a:r>
              <a:rPr b="1" lang="fa-IR" sz="1800" spc="-1" strike="noStrike">
                <a:solidFill>
                  <a:srgbClr val="ff0000"/>
                </a:solidFill>
                <a:latin typeface="Calibri"/>
                <a:cs typeface="B Nazanin"/>
              </a:rPr>
              <a:t>وسترن آنتاریو</a:t>
            </a:r>
            <a:r>
              <a:rPr b="1" lang="fa-IR" sz="1800" spc="-1" strike="noStrike" baseline="30000">
                <a:solidFill>
                  <a:srgbClr val="ff0000"/>
                </a:solidFill>
                <a:latin typeface="Calibri"/>
                <a:ea typeface="B Nazanin"/>
              </a:rPr>
              <a:t> </a:t>
            </a:r>
            <a:r>
              <a:rPr b="1" lang="fa-IR" sz="1800" spc="-1" strike="noStrike">
                <a:solidFill>
                  <a:srgbClr val="ff0000"/>
                </a:solidFill>
                <a:latin typeface="Calibri"/>
                <a:cs typeface="B Nazanin"/>
              </a:rPr>
              <a:t>از کشور کانادا، کارآموزی (کارورزی) </a:t>
            </a:r>
            <a:r>
              <a:rPr b="1" lang="fa-IR" sz="1800" spc="-1" strike="noStrike">
                <a:solidFill>
                  <a:srgbClr val="000000"/>
                </a:solidFill>
                <a:latin typeface="Calibri"/>
                <a:cs typeface="B Nazanin"/>
              </a:rPr>
              <a:t>دانشجو معلمان از سه جزء شامل؛ تمرین تدریس در مدارس انتخابی، تجربة میدانی جایگزین در سال دوم برنامه، و اجرای کارگاه‌های آموزشی برای حمایت از کارحرفه‌ای با برنامه‌ریزی هفتگی برای کسب صلاحیت معلمی تشکیل شده است.</a:t>
            </a:r>
            <a:endParaRPr b="0" lang="en-US" sz="18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merican Student Training Guide, U.S. Department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University of Western Ontario: UWO, Canada School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 Bachelor of Education (B.Ed.)</a:t>
            </a:r>
            <a:endParaRPr b="0" lang="en-US" sz="14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61"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title"/>
          </p:nvPr>
        </p:nvSpPr>
        <p:spPr>
          <a:xfrm>
            <a:off x="2556000" y="151920"/>
            <a:ext cx="6480000" cy="90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f6228"/>
                </a:solidFill>
                <a:latin typeface="Calibri"/>
                <a:cs typeface="B Nazanin"/>
              </a:rPr>
              <a:t>کارورزی در دانشگاه فرهنگیان ایران</a:t>
            </a:r>
            <a:r>
              <a:rPr b="1" lang="ar-SA" sz="3200" spc="-1" strike="noStrike">
                <a:solidFill>
                  <a:srgbClr val="4f6228"/>
                </a:solidFill>
                <a:latin typeface="Calibri"/>
                <a:ea typeface="B Nazanin"/>
              </a:rPr>
              <a:t>:</a:t>
            </a:r>
            <a:br>
              <a:rPr sz="2800"/>
            </a:br>
            <a:endParaRPr b="0" lang="en-US" sz="3200" spc="-1" strike="noStrike">
              <a:solidFill>
                <a:srgbClr val="000000"/>
              </a:solidFill>
              <a:latin typeface="Calibri"/>
            </a:endParaRPr>
          </a:p>
        </p:txBody>
      </p:sp>
      <p:sp>
        <p:nvSpPr>
          <p:cNvPr id="2963" name=""/>
          <p:cNvSpPr txBox="1"/>
          <p:nvPr/>
        </p:nvSpPr>
        <p:spPr>
          <a:xfrm>
            <a:off x="1828800" y="1218960"/>
            <a:ext cx="7315200" cy="5638680"/>
          </a:xfrm>
          <a:prstGeom prst="rect">
            <a:avLst/>
          </a:prstGeom>
          <a:noFill/>
          <a:ln w="0">
            <a:noFill/>
          </a:ln>
        </p:spPr>
        <p:txBody>
          <a:bodyPr anchor="t">
            <a:normAutofit fontScale="87000"/>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Nazanin"/>
              </a:rPr>
              <a:t> </a:t>
            </a:r>
            <a:r>
              <a:rPr b="0" lang="fa-IR" sz="3200" spc="-1" strike="noStrike">
                <a:solidFill>
                  <a:srgbClr val="000000"/>
                </a:solidFill>
                <a:latin typeface="Calibri"/>
                <a:cs typeface="B Nazanin"/>
              </a:rPr>
              <a:t>در دانشگاه فرهنگیان، با استناد به مفاد «طرح اجرایی کارورزی رشته‌های تربیت‌معلم، بخشنامة شمارة </a:t>
            </a:r>
            <a:r>
              <a:rPr b="0" lang="fa-IR" sz="3200" spc="-1" strike="noStrike">
                <a:solidFill>
                  <a:srgbClr val="000000"/>
                </a:solidFill>
                <a:latin typeface="Calibri"/>
                <a:ea typeface="B Nazanin"/>
              </a:rPr>
              <a:t>140623</a:t>
            </a:r>
            <a:r>
              <a:rPr b="0" lang="fa-IR" sz="3200" spc="-1" strike="noStrike">
                <a:solidFill>
                  <a:srgbClr val="000000"/>
                </a:solidFill>
                <a:latin typeface="Calibri"/>
                <a:ea typeface="B Nazanin"/>
              </a:rPr>
              <a:t> مورخ </a:t>
            </a:r>
            <a:r>
              <a:rPr b="0" lang="fa-IR" sz="3200" spc="-1" strike="noStrike">
                <a:solidFill>
                  <a:srgbClr val="000000"/>
                </a:solidFill>
                <a:latin typeface="Calibri"/>
                <a:ea typeface="B Nazanin"/>
              </a:rPr>
              <a:t>1393/7/7</a:t>
            </a:r>
            <a:r>
              <a:rPr b="0" lang="fa-IR" sz="3200" spc="-1" strike="noStrike">
                <a:solidFill>
                  <a:srgbClr val="000000"/>
                </a:solidFill>
                <a:latin typeface="Calibri"/>
                <a:ea typeface="B Nazanin"/>
              </a:rPr>
              <a:t> مقام عالی وزارت آموزش‌وپرورش»، و «برنامة درسی ملی تربیت معلم» از یک‌سو و تبصرة </a:t>
            </a:r>
            <a:r>
              <a:rPr b="0" lang="fa-IR" sz="3200" spc="-1" strike="noStrike">
                <a:solidFill>
                  <a:srgbClr val="000000"/>
                </a:solidFill>
                <a:latin typeface="Calibri"/>
                <a:ea typeface="B Nazanin"/>
              </a:rPr>
              <a:t>3</a:t>
            </a:r>
            <a:r>
              <a:rPr b="0" lang="fa-IR" sz="3200" spc="-1" strike="noStrike">
                <a:solidFill>
                  <a:srgbClr val="000000"/>
                </a:solidFill>
                <a:latin typeface="Calibri"/>
                <a:ea typeface="B Nazanin"/>
              </a:rPr>
              <a:t> ذیل مادة </a:t>
            </a:r>
            <a:r>
              <a:rPr b="0" lang="fa-IR" sz="3200" spc="-1" strike="noStrike">
                <a:solidFill>
                  <a:srgbClr val="000000"/>
                </a:solidFill>
                <a:latin typeface="Calibri"/>
                <a:ea typeface="B Nazanin"/>
              </a:rPr>
              <a:t>23</a:t>
            </a:r>
            <a:r>
              <a:rPr b="0" lang="fa-IR" sz="3200" spc="-1" strike="noStrike">
                <a:solidFill>
                  <a:srgbClr val="000000"/>
                </a:solidFill>
                <a:latin typeface="Calibri"/>
                <a:ea typeface="B Nazanin"/>
              </a:rPr>
              <a:t> اساسنامة دانشگاه از سوی دیگر، به موضوع کارورزی اهمیت ویژه‌ای داده شده و آن را بخش جدانشدنی دورة چهار سالة تربیت‌معلم دانسته است. به عبارت دیگر، از سال سوم تحصیل دانشجویان کارشناسی پیوسته، در هر نیم­سال، دانشجو معلم علاوه بر گذراندن واحدهای درسی مشخص، دوره‌های کارورزی مشخصی را نیز می‌گذراند.</a:t>
            </a:r>
            <a:r>
              <a:rPr b="0" lang="en-US" sz="1600" spc="-1" strike="noStrike">
                <a:solidFill>
                  <a:srgbClr val="000000"/>
                </a:solidFill>
                <a:latin typeface="Calibri"/>
                <a:ea typeface="B Nazanin"/>
              </a:rPr>
              <a:t> </a:t>
            </a:r>
            <a:endParaRPr b="0" lang="en-US" sz="1600" spc="-1" strike="noStrike">
              <a:solidFill>
                <a:srgbClr val="000000"/>
              </a:solidFill>
              <a:latin typeface="Calibri"/>
            </a:endParaRPr>
          </a:p>
        </p:txBody>
      </p:sp>
      <p:pic>
        <p:nvPicPr>
          <p:cNvPr id="2964"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179280" y="189000"/>
            <a:ext cx="878544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برنامه چهارگانه کارورزی در تربیت معلم فکور دانشگاه فرهنگیان</a:t>
            </a:r>
            <a:br>
              <a:rPr sz="3200"/>
            </a:br>
            <a:endParaRPr b="0" lang="en-US" sz="2800" spc="-1" strike="noStrike">
              <a:solidFill>
                <a:srgbClr val="000000"/>
              </a:solidFill>
              <a:latin typeface="Calibri"/>
            </a:endParaRPr>
          </a:p>
        </p:txBody>
      </p:sp>
      <p:graphicFrame>
        <p:nvGraphicFramePr>
          <p:cNvPr id="2966" name=""/>
          <p:cNvGraphicFramePr/>
          <p:nvPr/>
        </p:nvGraphicFramePr>
        <p:xfrm>
          <a:off x="158760" y="907920"/>
          <a:ext cx="8756640" cy="5492880"/>
        </p:xfrm>
        <a:graphic>
          <a:graphicData uri="http://schemas.openxmlformats.org/drawingml/2006/table">
            <a:tbl>
              <a:tblPr/>
              <a:tblGrid>
                <a:gridCol w="2241720"/>
                <a:gridCol w="2184120"/>
                <a:gridCol w="2229120"/>
                <a:gridCol w="2101680"/>
              </a:tblGrid>
              <a:tr h="5492880">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امه قوم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title"/>
          </p:nvPr>
        </p:nvSpPr>
        <p:spPr>
          <a:xfrm>
            <a:off x="3131640" y="188640"/>
            <a:ext cx="52578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2968" name=""/>
          <p:cNvSpPr txBox="1"/>
          <p:nvPr/>
        </p:nvSpPr>
        <p:spPr>
          <a:xfrm>
            <a:off x="179280" y="981000"/>
            <a:ext cx="8785440" cy="5616720"/>
          </a:xfrm>
          <a:prstGeom prst="rect">
            <a:avLst/>
          </a:prstGeom>
          <a:noFill/>
          <a:ln w="0">
            <a:noFill/>
          </a:ln>
        </p:spPr>
        <p:txBody>
          <a:bodyPr anchor="t">
            <a:normAutofit fontScale="89000"/>
          </a:bodyPr>
          <a:p>
            <a:pPr algn="just" rtl="1">
              <a:lnSpc>
                <a:spcPct val="107000"/>
              </a:lnSpc>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دیابی اجمالی پیاده‌سازی موفق برنامة جدید کارورزی در تربیت معلم فکور نشان می‌دهد، </a:t>
            </a:r>
            <a:r>
              <a:rPr b="0" lang="fa-IR" sz="2400" spc="-1" strike="noStrike">
                <a:solidFill>
                  <a:srgbClr val="000000"/>
                </a:solidFill>
                <a:latin typeface="Calibri"/>
                <a:cs typeface="B Nazanin"/>
              </a:rPr>
              <a:t>از برنامة پیشنهادی کارورزی، </a:t>
            </a:r>
            <a:r>
              <a:rPr b="0" lang="fa-IR" sz="2400" spc="-1" strike="noStrike">
                <a:solidFill>
                  <a:srgbClr val="00b050"/>
                </a:solidFill>
                <a:latin typeface="Calibri"/>
                <a:cs typeface="B Nazanin"/>
              </a:rPr>
              <a:t>در اجرا </a:t>
            </a:r>
            <a:r>
              <a:rPr b="0" lang="fa-IR" sz="2400" spc="-1" strike="noStrike">
                <a:solidFill>
                  <a:srgbClr val="000000"/>
                </a:solidFill>
                <a:latin typeface="Calibri"/>
                <a:cs typeface="B Nazanin"/>
              </a:rPr>
              <a:t>کم و بیش استفادة مؤثری نشده و از نتایج تحقیقات انجام‌شده در زمینة موضوع، جز در نظریه‌پردازی‌ها و یا حداکثر نقل قول یافته‌ها در محافل علمی، فرهنگی و پژوهشی استفاده نمی‌شود. وجود چنین سیمایی از برنامة یادشده، پیامدهایی ازجمله تقویت نگرش منفی یا بی‌توجهی مسئولان مدرسه­ها به کارورزی، دلسردی در پژوهشگران، و اتلاف منابع انسانی و مالی صرف‌شده در مسیر انجام کارورزی را به دنبال خواهد داشت (کرامتی و احمدآباد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جاز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زارع‌صفت،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داد و خروشی، </a:t>
            </a:r>
            <a:r>
              <a:rPr b="0" lang="fa-IR" sz="2400" spc="-1" strike="noStrike">
                <a:solidFill>
                  <a:srgbClr val="000000"/>
                </a:solidFill>
                <a:latin typeface="Calibri"/>
                <a:ea typeface="B Nazanin"/>
              </a:rPr>
              <a:t>1395</a:t>
            </a:r>
            <a:r>
              <a:rPr b="0" lang="fa-IR" sz="2400" spc="-1" strike="noStrike">
                <a:solidFill>
                  <a:srgbClr val="000000"/>
                </a:solidFill>
                <a:latin typeface="Calibri"/>
                <a:cs typeface="B Nazanin"/>
              </a:rPr>
              <a:t>؛ تاتاری و همکاران، </a:t>
            </a:r>
            <a:r>
              <a:rPr b="0" lang="fa-IR" sz="2400" spc="-1" strike="noStrike">
                <a:solidFill>
                  <a:srgbClr val="000000"/>
                </a:solidFill>
                <a:latin typeface="Calibri"/>
                <a:ea typeface="B Nazanin"/>
              </a:rPr>
              <a:t>1395</a:t>
            </a:r>
            <a:r>
              <a:rPr b="0" lang="fa-IR" sz="2400" spc="-1" strike="noStrike">
                <a:solidFill>
                  <a:srgbClr val="000000"/>
                </a:solidFill>
                <a:latin typeface="Calibri"/>
                <a:ea typeface="B Nazanin"/>
              </a:rPr>
              <a:t>).</a:t>
            </a:r>
            <a:endParaRPr b="0" lang="en-US" sz="2400" spc="-1" strike="noStrike">
              <a:solidFill>
                <a:srgbClr val="000000"/>
              </a:solidFill>
              <a:latin typeface="Calibri"/>
            </a:endParaRPr>
          </a:p>
          <a:p>
            <a:pPr algn="just" rtl="1">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با در نظر گرفتن کاستی‌های ذکرشده </a:t>
            </a:r>
            <a:r>
              <a:rPr b="0" lang="fa-IR" sz="2400" spc="-1" strike="noStrike">
                <a:solidFill>
                  <a:srgbClr val="000000"/>
                </a:solidFill>
                <a:latin typeface="Calibri"/>
                <a:cs typeface="B Nazanin"/>
              </a:rPr>
              <a:t>از روند اجرای اولین دورة اجرای برنامة جدید کارورزی در دانشگاه فرهنگیان، در این پژوهش علاوه بر بررسی اسناد و گزارش‌های کارگروه‌های کارورزی از اولین دورة اجرای برنامة کارورزی دانشگاه فرهنگیان، به بررسی دیدگاه استادان راهنمای تربیتی و تخصصی نسبت به موانع اجرای موفق برنامة جدید کارورزی در تربیت معلم فکور پرداخته ش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2:37:14Z</dcterms:created>
  <dc:creator>sinasystem</dc:creator>
  <dc:description/>
  <dc:language>en-US</dc:language>
  <cp:lastModifiedBy>najmeh soltani nejad</cp:lastModifiedBy>
  <dcterms:modified xsi:type="dcterms:W3CDTF">2018-12-04T06:30:40Z</dcterms:modified>
  <cp:revision>96</cp:revision>
  <dc:subject/>
  <dc:title>Slide 1</dc:title>
</cp:coreProperties>
</file>