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47.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6.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40.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3.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68.xml.rels" ContentType="application/vnd.openxmlformats-package.relationships+xml"/>
  <Override PartName="/ppt/slideMasters/_rels/slideMaster15.xml.rels" ContentType="application/vnd.openxmlformats-package.relationships+xml"/>
  <Override PartName="/ppt/slideMasters/_rels/slideMaster4.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37.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29.xml" ContentType="application/vnd.openxmlformats-officedocument.presentationml.slideMaster+xml"/>
  <Override PartName="/ppt/slideMasters/slideMaster65.xml" ContentType="application/vnd.openxmlformats-officedocument.presentationml.slideMaster+xml"/>
  <Override PartName="/ppt/slideMasters/slideMaster28.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64.xml" ContentType="application/vnd.openxmlformats-officedocument.presentationml.slideMaster+xml"/>
  <Override PartName="/ppt/slideMasters/slideMaster27.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63.xml" ContentType="application/vnd.openxmlformats-officedocument.presentationml.slideMaster+xml"/>
  <Override PartName="/ppt/slideMasters/slideMaster26.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4.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28.xml" ContentType="application/vnd.openxmlformats-officedocument.theme+xml"/>
  <Override PartName="/ppt/theme/theme64.xml" ContentType="application/vnd.openxmlformats-officedocument.theme+xml"/>
  <Override PartName="/ppt/theme/theme66.xml" ContentType="application/vnd.openxmlformats-officedocument.theme+xml"/>
  <Override PartName="/ppt/theme/theme29.xml" ContentType="application/vnd.openxmlformats-officedocument.theme+xml"/>
  <Override PartName="/ppt/theme/theme63.xml" ContentType="application/vnd.openxmlformats-officedocument.theme+xml"/>
  <Override PartName="/ppt/theme/theme6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_rels/presentation.xml.rels" ContentType="application/vnd.openxmlformats-package.relationships+xml"/>
  <Override PartName="/ppt/media/image12.png" ContentType="image/png"/>
  <Override PartName="/ppt/media/image10.gif" ContentType="image/gif"/>
  <Override PartName="/ppt/media/image9.png" ContentType="image/png"/>
  <Override PartName="/ppt/media/image11.png" ContentType="image/png"/>
  <Override PartName="/ppt/media/image7.jpeg" ContentType="image/jpeg"/>
  <Override PartName="/ppt/media/image20.png" ContentType="image/png"/>
  <Override PartName="/ppt/media/image6.png" ContentType="image/png"/>
  <Override PartName="/ppt/media/image5.png" ContentType="image/png"/>
  <Override PartName="/ppt/media/image8.jpeg" ContentType="image/jpeg"/>
  <Override PartName="/ppt/media/image22.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png" ContentType="image/png"/>
  <Override PartName="/ppt/media/image14.jpeg" ContentType="image/jpeg"/>
  <Override PartName="/ppt/media/image2.png" ContentType="image/png"/>
  <Override PartName="/ppt/media/image17.jpeg" ContentType="image/jpeg"/>
  <Override PartName="/ppt/media/image3.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232.xml.rels" ContentType="application/vnd.openxmlformats-package.relationships+xml"/>
  <Override PartName="/ppt/slideLayouts/_rels/slideLayout790.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09.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708.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101.xml.rels" ContentType="application/vnd.openxmlformats-package.relationships+xml"/>
  <Override PartName="/ppt/slideLayouts/_rels/slideLayout3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49.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545.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546.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701.xml.rels" ContentType="application/vnd.openxmlformats-package.relationships+xml"/>
  <Override PartName="/ppt/slideLayouts/_rels/slideLayout553.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589.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24.xml.rels" ContentType="application/vnd.openxmlformats-package.relationships+xml"/>
  <Override PartName="/ppt/slideLayouts/_rels/slideLayout82.xml.rels" ContentType="application/vnd.openxmlformats-package.relationships+xml"/>
  <Override PartName="/ppt/slideLayouts/_rels/slideLayout594.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87.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1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596.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69.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70.xml.rels" ContentType="application/vnd.openxmlformats-package.relationships+xml"/>
  <Override PartName="/ppt/slideLayouts/_rels/slideLayout392.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542.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6.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75.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39.xml.rels" ContentType="application/vnd.openxmlformats-package.relationships+xml"/>
  <Override PartName="/ppt/slideLayouts/_rels/slideLayout33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388.xml.rels" ContentType="application/vnd.openxmlformats-package.relationships+xml"/>
  <Override PartName="/ppt/slideLayouts/_rels/slideLayout541.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400.xml.rels" ContentType="application/vnd.openxmlformats-package.relationships+xml"/>
  <Override PartName="/ppt/slideLayouts/_rels/slideLayout527.xml.rels" ContentType="application/vnd.openxmlformats-package.relationships+xml"/>
  <Override PartName="/ppt/slideLayouts/_rels/slideLayout66.xml.rels" ContentType="application/vnd.openxmlformats-package.relationships+xml"/>
  <Override PartName="/ppt/slideLayouts/_rels/slideLayout325.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87.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96.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51.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97.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390.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69.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8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76.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330.xml.rels" ContentType="application/vnd.openxmlformats-package.relationships+xml"/>
  <Override PartName="/ppt/slideLayouts/_rels/slideLayout175.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564.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367.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354.xml.rels" ContentType="application/vnd.openxmlformats-package.relationships+xml"/>
  <Override PartName="/ppt/slideLayouts/_rels/slideLayout51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84.xml.rels" ContentType="application/vnd.openxmlformats-package.relationships+xml"/>
  <Override PartName="/ppt/slideLayouts/_rels/slideLayout343.xml.rels" ContentType="application/vnd.openxmlformats-package.relationships+xml"/>
  <Override PartName="/ppt/slideLayouts/_rels/slideLayout486.xml.rels" ContentType="application/vnd.openxmlformats-package.relationships+xml"/>
  <Override PartName="/ppt/slideLayouts/_rels/slideLayout33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338.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581.xml.rels" ContentType="application/vnd.openxmlformats-package.relationships+xml"/>
  <Override PartName="/ppt/slideLayouts/_rels/slideLayout58.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1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7.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580.xml.rels" ContentType="application/vnd.openxmlformats-package.relationships+xml"/>
  <Override PartName="/ppt/slideLayouts/_rels/slideLayout403.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13.xml.rels" ContentType="application/vnd.openxmlformats-package.relationships+xml"/>
  <Override PartName="/ppt/slideLayouts/_rels/slideLayout313.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66.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595.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582.xml.rels" ContentType="application/vnd.openxmlformats-package.relationships+xml"/>
  <Override PartName="/ppt/slideLayouts/_rels/slideLayout45.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805.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77.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8.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55.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69.xml.rels" ContentType="application/vnd.openxmlformats-package.relationships+xml"/>
  <Override PartName="/ppt/slideLayouts/_rels/slideLayout602.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660.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133.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65.xml.rels" ContentType="application/vnd.openxmlformats-package.relationships+xml"/>
  <Override PartName="/ppt/slideLayouts/_rels/slideLayout19.xml.rels" ContentType="application/vnd.openxmlformats-package.relationships+xml"/>
  <Override PartName="/ppt/slideLayouts/_rels/slideLayout568.xml.rels" ContentType="application/vnd.openxmlformats-package.relationships+xml"/>
  <Override PartName="/ppt/slideLayouts/_rels/slideLayout17.xml.rels" ContentType="application/vnd.openxmlformats-package.relationships+xml"/>
  <Override PartName="/ppt/slideLayouts/_rels/slideLayout16.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15.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707.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503.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74.xml.rels" ContentType="application/vnd.openxmlformats-package.relationships+xml"/>
  <Override PartName="/ppt/slideLayouts/_rels/slideLayout316.xml.rels" ContentType="application/vnd.openxmlformats-package.relationships+xml"/>
  <Override PartName="/ppt/slideLayouts/_rels/slideLayout8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387.xml.rels" ContentType="application/vnd.openxmlformats-package.relationships+xml"/>
  <Override PartName="/ppt/slideLayouts/_rels/slideLayout329.xml.rels" ContentType="application/vnd.openxmlformats-package.relationships+xml"/>
  <Override PartName="/ppt/slideLayouts/_rels/slideLayout361.xml.rels" ContentType="application/vnd.openxmlformats-package.relationships+xml"/>
  <Override PartName="/ppt/slideLayouts/_rels/slideLayout803.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304.xml.rels" ContentType="application/vnd.openxmlformats-package.relationships+xml"/>
  <Override PartName="/ppt/slideLayouts/_rels/slideLayout449.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776.xml.rels" ContentType="application/vnd.openxmlformats-package.relationships+xml"/>
  <Override PartName="/ppt/slideLayouts/_rels/slideLayout27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275.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738.xml.rels" ContentType="application/vnd.openxmlformats-package.relationships+xml"/>
  <Override PartName="/ppt/slideLayouts/_rels/slideLayout238.xml.rels" ContentType="application/vnd.openxmlformats-package.relationships+xml"/>
  <Override PartName="/ppt/slideLayouts/_rels/slideLayout444.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4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4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81.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548.xml" ContentType="application/vnd.openxmlformats-officedocument.presentationml.slideLayout+xml"/>
  <Override PartName="/ppt/slideLayouts/slideLayout549.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558.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563.xml" ContentType="application/vnd.openxmlformats-officedocument.presentationml.slideLayout+xml"/>
  <Override PartName="/ppt/slideLayouts/slideLayout564.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761.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762.xml" ContentType="application/vnd.openxmlformats-officedocument.presentationml.slideLayout+xml"/>
  <Override PartName="/ppt/slideLayouts/slideLayout800.xml" ContentType="application/vnd.openxmlformats-officedocument.presentationml.slideLayout+xml"/>
  <Override PartName="/ppt/slideLayouts/slideLayout626.xml" ContentType="application/vnd.openxmlformats-officedocument.presentationml.slideLayout+xml"/>
  <Override PartName="/ppt/slideLayouts/slideLayout763.xml" ContentType="application/vnd.openxmlformats-officedocument.presentationml.slideLayout+xml"/>
  <Override PartName="/ppt/slideLayouts/slideLayout801.xml" ContentType="application/vnd.openxmlformats-officedocument.presentationml.slideLayout+xml"/>
  <Override PartName="/ppt/slideLayouts/slideLayout627.xml" ContentType="application/vnd.openxmlformats-officedocument.presentationml.slideLayout+xml"/>
  <Override PartName="/ppt/slideLayouts/slideLayout764.xml" ContentType="application/vnd.openxmlformats-officedocument.presentationml.slideLayout+xml"/>
  <Override PartName="/ppt/slideLayouts/slideLayout802.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803.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778.xml" ContentType="application/vnd.openxmlformats-officedocument.presentationml.slideLayout+xml"/>
  <Override PartName="/ppt/slideLayouts/slideLayout632.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8.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786.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660.xml" ContentType="application/vnd.openxmlformats-officedocument.presentationml.slideLayout+xml"/>
  <Override PartName="/ppt/slideLayouts/slideLayout759.xml" ContentType="application/vnd.openxmlformats-officedocument.presentationml.slideLayout+xml"/>
  <Override PartName="/ppt/slideLayouts/slideLayout661.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62.xml" ContentType="application/vnd.openxmlformats-officedocument.presentationml.slideLayout+xml"/>
  <Override PartName="/ppt/slideLayouts/slideLayout610.xml" ContentType="application/vnd.openxmlformats-officedocument.presentationml.slideLayout+xml"/>
  <Override PartName="/ppt/slideLayouts/slideLayout611.xml" ContentType="application/vnd.openxmlformats-officedocument.presentationml.slideLayout+xml"/>
  <Override PartName="/ppt/slideLayouts/slideLayout602.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799.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77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787.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6.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97.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29.xml" ContentType="application/vnd.openxmlformats-officedocument.presentationml.slideLayout+xml"/>
  <Override PartName="/ppt/slideLayouts/slideLayout725.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796.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28.xml" ContentType="application/vnd.openxmlformats-officedocument.presentationml.slideLayout+xml"/>
  <Override PartName="/ppt/slideLayouts/slideLayout795.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727.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48.xml" ContentType="application/vnd.openxmlformats-officedocument.presentationml.slideLayout+xml"/>
  <Override PartName="/ppt/slideLayouts/slideLayout747.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589.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38.xml" ContentType="application/vnd.openxmlformats-officedocument.presentationml.slideLayout+xml"/>
  <Override PartName="/ppt/slideLayouts/slideLayout73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736.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724.xml" ContentType="application/vnd.openxmlformats-officedocument.presentationml.slideLayout+xml"/>
  <Override PartName="/ppt/slideLayouts/slideLayout791.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669.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714.xml" ContentType="application/vnd.openxmlformats-officedocument.presentationml.slideLayout+xml"/>
  <Override PartName="/ppt/slideLayouts/slideLayout713.xml" ContentType="application/vnd.openxmlformats-officedocument.presentationml.slideLayout+xml"/>
  <Override PartName="/ppt/slideLayouts/slideLayout712.xml" ContentType="application/vnd.openxmlformats-officedocument.presentationml.slideLayout+xml"/>
  <Override PartName="/ppt/slideLayouts/slideLayout711.xml" ContentType="application/vnd.openxmlformats-officedocument.presentationml.slideLayout+xml"/>
  <Override PartName="/ppt/slideLayouts/slideLayout559.xml" ContentType="application/vnd.openxmlformats-officedocument.presentationml.slideLayout+xml"/>
  <Override PartName="/ppt/slideLayouts/slideLayout710.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74.xml" ContentType="application/vnd.openxmlformats-officedocument.presentationml.slideLayout+xml"/>
  <Override PartName="/ppt/slideLayouts/slideLayout703.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69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88.xml" ContentType="application/vnd.openxmlformats-officedocument.presentationml.slideLayout+xml"/>
  <Override PartName="/ppt/slideLayouts/slideLayout209.xml" ContentType="application/vnd.openxmlformats-officedocument.presentationml.slideLayout+xml"/>
  <Override PartName="/ppt/slideLayouts/slideLayout687.xml" ContentType="application/vnd.openxmlformats-officedocument.presentationml.slideLayout+xml"/>
  <Override PartName="/ppt/slideLayouts/slideLayout208.xml" ContentType="application/vnd.openxmlformats-officedocument.presentationml.slideLayout+xml"/>
  <Override PartName="/ppt/slideLayouts/slideLayout686.xml" ContentType="application/vnd.openxmlformats-officedocument.presentationml.slideLayout+xml"/>
  <Override PartName="/ppt/slideLayouts/slideLayout20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92.xml" ContentType="application/vnd.openxmlformats-officedocument.presentationml.slideLayout+xml"/>
  <Override PartName="/ppt/slideLayouts/slideLayout706.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93.xml" ContentType="application/vnd.openxmlformats-officedocument.presentationml.slideLayout+xml"/>
  <Override PartName="/ppt/slideLayouts/slideLayout707.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Lst>
  <p:sldIdLst>
    <p:sldId id="256" r:id="rId70"/>
    <p:sldId id="257" r:id="rId71"/>
    <p:sldId id="258" r:id="rId72"/>
    <p:sldId id="259" r:id="rId73"/>
    <p:sldId id="260" r:id="rId74"/>
    <p:sldId id="261" r:id="rId75"/>
    <p:sldId id="262" r:id="rId76"/>
    <p:sldId id="263" r:id="rId77"/>
    <p:sldId id="264" r:id="rId78"/>
    <p:sldId id="265" r:id="rId79"/>
    <p:sldId id="266" r:id="rId80"/>
    <p:sldId id="267" r:id="rId81"/>
    <p:sldId id="268" r:id="rId82"/>
    <p:sldId id="269" r:id="rId83"/>
    <p:sldId id="270" r:id="rId84"/>
    <p:sldId id="271" r:id="rId85"/>
    <p:sldId id="272" r:id="rId86"/>
    <p:sldId id="273" r:id="rId87"/>
    <p:sldId id="274" r:id="rId88"/>
    <p:sldId id="275" r:id="rId89"/>
    <p:sldId id="276" r:id="rId90"/>
    <p:sldId id="277"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 Target="slides/slide1.xml"/><Relationship Id="rId71" Type="http://schemas.openxmlformats.org/officeDocument/2006/relationships/slide" Target="slides/slide2.xml"/><Relationship Id="rId72" Type="http://schemas.openxmlformats.org/officeDocument/2006/relationships/slide" Target="slides/slide3.xml"/><Relationship Id="rId73" Type="http://schemas.openxmlformats.org/officeDocument/2006/relationships/slide" Target="slides/slide4.xml"/><Relationship Id="rId74" Type="http://schemas.openxmlformats.org/officeDocument/2006/relationships/slide" Target="slides/slide5.xml"/><Relationship Id="rId75" Type="http://schemas.openxmlformats.org/officeDocument/2006/relationships/slide" Target="slides/slide6.xml"/><Relationship Id="rId76" Type="http://schemas.openxmlformats.org/officeDocument/2006/relationships/slide" Target="slides/slide7.xml"/><Relationship Id="rId77" Type="http://schemas.openxmlformats.org/officeDocument/2006/relationships/slide" Target="slides/slide8.xml"/><Relationship Id="rId78" Type="http://schemas.openxmlformats.org/officeDocument/2006/relationships/slide" Target="slides/slide9.xml"/><Relationship Id="rId79" Type="http://schemas.openxmlformats.org/officeDocument/2006/relationships/slide" Target="slides/slide10.xml"/><Relationship Id="rId80" Type="http://schemas.openxmlformats.org/officeDocument/2006/relationships/slide" Target="slides/slide11.xml"/><Relationship Id="rId81" Type="http://schemas.openxmlformats.org/officeDocument/2006/relationships/slide" Target="slides/slide12.xml"/><Relationship Id="rId82" Type="http://schemas.openxmlformats.org/officeDocument/2006/relationships/slide" Target="slides/slide13.xml"/><Relationship Id="rId83" Type="http://schemas.openxmlformats.org/officeDocument/2006/relationships/slide" Target="slides/slide14.xml"/><Relationship Id="rId84" Type="http://schemas.openxmlformats.org/officeDocument/2006/relationships/slide" Target="slides/slide15.xml"/><Relationship Id="rId85" Type="http://schemas.openxmlformats.org/officeDocument/2006/relationships/slide" Target="slides/slide16.xml"/><Relationship Id="rId86" Type="http://schemas.openxmlformats.org/officeDocument/2006/relationships/slide" Target="slides/slide17.xml"/><Relationship Id="rId87" Type="http://schemas.openxmlformats.org/officeDocument/2006/relationships/slide" Target="slides/slide18.xml"/><Relationship Id="rId88" Type="http://schemas.openxmlformats.org/officeDocument/2006/relationships/slide" Target="slides/slide19.xml"/><Relationship Id="rId89" Type="http://schemas.openxmlformats.org/officeDocument/2006/relationships/slide" Target="slides/slide20.xml"/><Relationship Id="rId90" Type="http://schemas.openxmlformats.org/officeDocument/2006/relationships/slide" Target="slides/slide21.xml"/><Relationship Id="rId91" Type="http://schemas.openxmlformats.org/officeDocument/2006/relationships/slide" Target="slides/slide22.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73ECD-F9BA-4097-806E-776EC3DD1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B1387-BF1A-46EF-8EE9-9589643F0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9C77AF-BC30-4A89-8C9C-7C13115520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71D95E-C1E4-4578-BD77-FEA45F3C64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8168FE-1452-41A2-AF7C-827CAA6BFA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C708B1-FBCF-4282-BD4F-4E509BB7B4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D0BAD-E439-4175-A23F-F1A7532278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21AB7-728D-45BC-BDA1-B7E48EC36A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2F0FE7-1CAD-491F-953D-7DDF3FAD97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514C01-B603-43A8-915C-87BB33A2B4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319345-1EAE-4B2D-BEAC-F3749A6513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005118-F2EC-4086-AF64-265E3065EC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02594-81CB-4677-8ECC-9AFA1AC50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7FEAE6-1E2F-443C-9C7C-E2DD8F201D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EC06D9-24F6-4356-8620-5848CB7373B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B8FD1B-12DC-4BA9-A203-192EDDDFBDE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CEABE5-5D0B-464B-A87C-85B0BE7650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AC31EB-3612-4CC6-97DD-6867E1F6EC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452DB-9FCF-4E48-89DE-270B6F8D7B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A2158C-4A28-4E6D-9F50-F247EE4C8E4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8AD989-F583-41F6-8EED-C273842937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14EFE8-A4F6-4394-8FB3-EC017A33EB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431CB1-9718-4B5B-A58F-83C2DD0B04D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77C52-0BA4-4B27-B15E-8A1DBC64E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22B9E4-CC20-4982-9E8D-84E6EF629CE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C4D0C0-FB24-4C28-A752-72DD56AB79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E803AB-9AE4-4602-A8F9-57113DB88A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350ED3-41B3-4AC1-B0FE-9846E8393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4D9957-A9D0-4C1D-97EF-A26CBD5941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6A06A-16D9-4969-9E4A-16D8F510EC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E0D305-49D8-4168-B45A-9F85C0BD16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88B6F3-2612-4ACF-9281-A36D77F36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2AFBBA-3DE1-465B-A1EF-FDC3E0CAF0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BC0DA6-2DA5-4811-A4EC-6940E06A9A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AE147-CCD9-48EA-90F4-0A4736BB95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73CC95-2E17-456F-93E5-641ACDFE97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74D1A5-E62F-4D27-B6E9-EEEB76B8A40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4864DBE-DF05-40B8-84EE-682F4D2823B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6F2275F-7E76-444A-8FD9-20AE6E9602C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27BD1B-D947-4E2D-B6D0-67257DC82E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175DA7-0683-4506-822E-B4ADEA6755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BA2A59-AF7D-465E-A327-CD484C4B725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243CFA-ED78-4484-826A-A7586AA146F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EE46DC7-A3A5-457C-B541-61B3CEC5BD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F328B2-BA09-4D5E-8FBD-6D860EA23A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37CEB7-8AA2-4EA2-AAF6-149291EFE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5AD34B-275C-40F4-8F81-2C2C9820FBA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DD5177-9DCE-4D2E-91D0-F2BE898103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8E31DB-D3DC-426A-8E70-7E70ADF0D4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FAE8A32-FEA9-4B31-87F9-88D24D6783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5EBFF14-2FE6-4FCF-8D8B-600E71E3C16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CC13291-F3B4-4261-B79C-38EFB87637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5A5F80-F287-43CA-8BC5-577F1F1190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5E4A04C-4FE9-4A2F-B972-2888D935F7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667B61-3F8A-45E7-86F1-F9CF40C9285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ADC1D12-C5F1-4494-916F-1D8527B2DA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C5430-C308-47A4-8741-C0C0F392A9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8A50F9-C2C2-48EA-8CE4-0DC7055D310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977F2B-F36E-4CFD-BBC4-8845816F430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72381F-314F-4D75-8DDF-E38B476FFA8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C41A75-FA42-47EA-ABD6-6F5E6B7FFD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696295-D7DE-4760-B683-3FDC07481E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DF2D994-59AD-4526-B04E-F72A1DEE25C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EE2A9FA-BEEB-44B8-B34B-D4BAE867EBB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C26859A-2BD8-4A30-88C5-298EA65493D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B6B616-2888-41A4-9AEC-3C029768223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9B8A354-18C0-4319-835F-5F8D267806D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54B2A-B05F-4F95-8F5C-29F658616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304840B-5E49-4283-918E-3E1DE32D667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B1F3DBD-FB53-425D-8D1C-F583AFCF96D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0E831C-0D51-448F-A6EA-836B410102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E1B76CF-F9E2-4F50-8C6E-34E493C2126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619932-28B4-4812-8DE7-E9665A8BD2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D646FDC-44B8-43A6-B9A0-6D260B1C21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E9CE44-C852-473F-B21A-4C7559089F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23DBE4F-816E-4C8F-A2FF-6F8F62CBECC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74848A3-3854-4784-B5AC-EFA9B5B32E2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CD2C7C7-E2A4-449A-80EE-537C7457027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72752-05F9-46A5-BCAF-D8F14BFE1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EE00E3-0600-4B53-A0A2-DBF717827C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404FA89-DAED-490A-8400-9116A44497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0C77823-9F84-4063-8405-F51E5DBADB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B17F6C-7BF5-4EAC-BD02-0E8AE27C495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A0A5E33-7A7F-4988-B283-458C5EA314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983702F-533A-43F5-A79C-A1B0E5EF43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EF72E9-604E-41DD-AB8C-11E9364D94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0CAE84C-09D4-4C8B-91A3-335842424E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D804E2-D00D-4C5D-9F1C-03859444FF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556DC38-973F-4002-B85F-D6F702D6F1C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39E84-E6A1-44B1-B147-444B7A98DC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961944E-F085-45B0-A9D0-A9FB68DFEF8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4D070CE-0477-4562-A8D3-42B90994C3C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0B3457-A1FD-409E-8D76-6BF25F95DAD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68B8E7E-A6C6-4D15-87B5-BBF17F2797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6B91820-28AE-47DD-8626-4CD2E85CDE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7902ED9-D138-488C-8049-37D22E204F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562C004-8DF6-4F54-A5CA-08C708DA60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8629049-C8B4-4926-9F1D-CC25B70B9B1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E08475-211C-4354-BC13-12F6FA983B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86DDA6-129B-47DF-8952-2110E13A7A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8E0EA-B8CC-4EE0-A0E3-40F3B775B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5BEFA2-50E0-48F8-A2D1-AF4DB152A2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62FB3E9-805D-4F20-988A-939F3F2D04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EDFB304-B156-43BF-B456-D8961606FCF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01319F6-A330-4065-9364-43F6BE71819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2CCB7AF-7845-465E-A1EA-2128F619F9A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1840BA-FB9F-413D-90A8-13511A1D94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7B7A20-84A6-47AE-B530-820536C0DB6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EB2B33C-88DE-43EF-921B-A90591A03C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D51E37-74C1-4849-92B0-6A185257818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51CC1C-DE53-4781-BCD4-F73872DCAF2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BE1B9-009C-45BA-B504-C8D607E3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78F50-BB5F-4590-9347-2A879A582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94A79DD-ED1E-4223-B41E-FA86DBF125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9AECE42-F035-43CB-9484-B490CEB4DA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1AA5886-3D77-4AB4-AA8B-EE7A61395F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2CBE940-4092-46DD-8499-10261CEFE1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A26EB93-1658-4374-8F00-DED5FDC876C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48102E5-D4B1-4475-9827-F698C9FDE78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57F9E2-9CB0-4F91-8CC1-0BA486869C6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472E27D-DB61-4F65-A648-D1511D4B46C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FF42A83-7611-4A3E-A273-D5E7A7546AF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8D1099-FED1-4B67-A89A-94C81462FE1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797C0-22D5-44F3-80FC-F246D0A53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55CB9DF-94E6-4676-AC7F-1D8A5459BD9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4BFB06-8778-4C4F-9B4E-9F7A134CDCA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38BF2B-9C34-451A-AD74-5C9D50226DD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DEEC45-E6FC-43F9-BEE0-3DCFDC455C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ED7D039-3ECA-425D-9970-0B3FA6384DC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62DA157-FA5F-46ED-A9BB-7ADA484C063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A17414-5532-45ED-BF40-B437199F2DE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2BBB13B-97B3-4400-93B2-201B9E7C6F2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CC0445C-21DD-475E-B2B6-799B91921DF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661EE7B-B3AD-4D12-A692-38E8788BB91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25D1C-8AD9-478C-9016-2107C6ACB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E53261C-99A5-455A-8AD7-6C22CC32EB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B53EB84-5E10-4F07-8AC1-C2C6184960F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60C966B-A1CE-406A-895C-F47D30A98EA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C1FF9F1-1E44-421F-97F7-7C9DC36F74E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94D4F19-0DDB-4E45-B290-4C495746A71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7A0A8F4-E2EA-4525-90FB-A7200336F9F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AA51837-A450-4267-9FF2-DF340DC7524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719E073-A03C-43CA-96C8-53177AD4CAE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C1BD3B8-FCD6-47B1-9A59-00620C4F417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2BA061DE-56A1-4ABB-A9A8-6BCAF563510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1053AD-4B17-4CEF-B9BD-17B33324E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3C42D8-C4C6-460E-8059-F07B8BF3AEF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D7AF7BE-032F-4237-80D8-B9FE665D17D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45DF191-7FE3-44E2-A376-20E8CF39E60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D7136A1-6778-4BB0-948F-2B51827BF0A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EBE4B6A-6D3E-4712-AEBC-4D2FB6FA39B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4E5A71-03BA-44E9-88D1-FE1263931E8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61CE3B6-E87B-4C56-874A-22983755AC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B1EAAC-AEEF-4C8A-BEBD-550969F04A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DFCB2BB-ACF2-462A-BC51-176CC3F45B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DC6181D-8ED0-418A-B262-39D92E5ADFB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39E3E8-A550-4698-A2B8-220FEC6E92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9AACA8D-0B10-4E9E-8DAD-31999D4DA08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6691EC2-FA58-4899-A10A-60F2B39054B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FDD4F0-8D35-4C2B-856F-268A549B179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265688E-99F9-42EF-B833-B1111509B66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796C73-7964-449B-A321-11C948B3721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5ADAA29-E3A1-435E-B082-3792D0F1B18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F36B7B5-EDE3-4820-8324-A2A9DE36D31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68B4B94-51A5-4EDA-9B9E-6894F28D99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53AFF5-778C-419B-92DD-75F1E49047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75E6121-9190-441B-99F1-ABA9B0667A7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759976-3B84-4FAE-AD1F-B2B4EC68C9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D2103B9-9927-47C3-A102-8F8395F75A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49B67DA-C5D3-45C8-B794-066CB52B82E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6202C60-256A-42A4-9D0E-83940F485D7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A67E5A4-2F1C-4173-ADB2-CFC92C2B0E7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BA42A3B-619A-4313-B5D1-7EB8A375C86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ABB1C2E-CA4C-454E-9020-4F41B6B67A6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4D2506A-7843-45DB-A237-E025A0FDBF1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B332E56-C01E-4644-B0CE-6E19CD6F4CD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9B0EDFA-D347-46A9-8BF8-3E857A1335B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6DFC11B-6304-48DB-BE23-4194EACDA66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8FA4BD-03D3-4850-9868-613D26ECF6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56234C6-53DD-493F-93FC-1D1A4E61910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81D8F39-E16B-42F1-871B-2F4F9DE8473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FB958FA-F002-49FA-9712-435951E9644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C753743-273B-44BE-B520-CB2DF8B32B8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3342FBD-AB54-41BB-9724-95E84CCBC0A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EA29179-1F8A-42E7-ADE2-49BBEFE5CBF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D59168D-F83A-4264-97EA-FFADF08E55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7F851ED-0306-42A9-A782-04D75678D2B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22616A7-B673-4888-BCC3-0A4E5A5C2A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CF69153-8E0E-4F43-B17C-066B8F60CE8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B566B-7479-40BC-B82F-A49E95A6D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9AD85E7-3DAF-4EF5-AF72-A68D8B67A5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961A25-67E8-426F-BA67-BCFB60E1529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567CDC7-4D24-426D-8F69-6D3A71665BB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5C14CB0-D944-4759-8F15-F59A197418B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9FF4AE-ECFC-45EB-9142-723C5227552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3D60EFC7-A6AB-4CE1-B977-9191F5C52AF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BD4E9F1-EF07-47F7-9B82-81E52DBBF66A}"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D0365C6-C0A0-40AD-96DC-5D3CB781282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27EDFD8-6DB8-4F56-AAC6-A7C1D97858A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FB4B40DB-AA68-4F70-8E22-C5D5ECB7BD3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D19AE-7A24-4CFA-9826-D0A20B0C2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AB27A57-6660-451A-BA54-37786860AC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1ADB645-25D7-42F7-9818-BEE7BC234CE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BC442C1-A686-463D-BA66-F6313F8A815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DA04574-FE47-4FD3-BB52-F560C897D6D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B7153BC-7376-442D-9549-B813C098660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CDFD484-A55A-4039-B78D-5EB0AE53BA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77B4155-4CE8-49AE-B3F6-5E62883A55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B033D02-9BC3-4741-ACDC-FA750BE109B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6043EB5-2DED-4518-96B1-4AC5A5788CC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FC9FBFC-299B-4617-BCA6-EEF270B0B4E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022E7-606B-4386-9D41-BDC343081C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782172B-E329-426F-916F-0A3566D8A41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37D683-B5C1-4E22-8735-2C3AE5D2441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C84E518-D2A8-48C0-887D-BCEB5CF7F41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807C241-81C5-4FE7-BB2C-EBAC06445D9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733F30D-802A-4086-873B-EB925E97EDA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4F69ECC-2488-452C-B23A-C6EE44DD611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D7AB091-C774-46EE-875A-7ABF7BA5842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0A45923-D691-4FE2-A208-471651D7B50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CAB6466-79EA-4F25-8803-2E0005D340E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84EE0B86-BD59-4729-AD1D-EE7AFD72B2DB}"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56DFE-0F40-4D24-96B1-1E9DC03A1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EBC19-1128-42C0-A133-86B0B8C8F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0B7C453-AED3-42E6-8990-DF69C76D6873}"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2031965-B8E9-4D5D-BFBB-133EFDE7329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76B9CD5-8F85-4FDB-ADBF-1AC61AE8BD6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A4C47A2-FC42-44E8-804B-1E79D053FC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3ED13A9-10C6-418B-B5F5-9116ACA80CD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087AB0C0-611D-4294-B440-4142033BF0A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D7850E3-88ED-45DD-8B8A-4C23EC8E494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3E7B7F2-BC63-4642-BAFB-72DAB6A2BE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015A1E6-5028-4DE2-80FF-C154B9779F0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2D360C-0B55-41CC-83C1-983FCC1B315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A944F-D6D5-4D7F-B509-A8BEF77ABA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62439DD-B14C-477F-A29E-FE6BA82BFE5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8A98811-B0C1-4154-9BCD-BE416830CD97}"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0B186D50-9CD9-4B44-9079-D0A33471056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70D04EC-7642-4B03-BC65-7CE2AF5E1BE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11B0116-B056-43F6-AA1A-53562F550FB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991059B3-54CE-4077-816F-11E387CF72F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C4CBA18-6194-49FE-A4E0-18D1A450F39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60D7D3D-9FB1-4B71-B749-F307DA2D371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0BA1317-DBBF-4503-81B9-4409A8E4A09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FC30C3D-4AE2-41AC-88D3-A53CE7328AF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BAD6A-DFBD-4F58-8212-1351325AF5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2F2937F-4A66-4964-8490-F1EDA87A91F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4618A7F-250E-4AF4-9E69-B531054716C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133D086-81D2-41AB-A378-28F8DA77C4C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186EE11-6381-4D89-9A75-487F6014C40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EE639FC-87EC-48F5-A12B-E6FC82854DEF}"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325483A8-7894-4142-A045-8A6ECE21619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9A9E7E6-EB4C-4FDF-8D02-09AE45A898F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1EA2EC9-4DC1-4D78-BE13-40B814AFC91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2258CAE6-4346-49F4-B640-8768D55FCA02}"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374F3647-EEDD-42E4-A9F0-F0F8E766B3D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8146D-DCE8-4D26-8CD4-BEBD39A569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2B03164-AD16-4EEF-8439-0D96A405324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6F55D5C-C944-413F-A066-3BCCE8379D4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DAA4007-BA14-4183-B71A-6C0855EFAEA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4A10458-CC1E-45E0-8869-6E4FB49B6C1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866F8CC-E254-421D-B385-4D6B4BD6DD8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5356FEF-18EA-4C5E-BD01-EDD5FA824E8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FEE56A1-2748-43F3-8AF1-7AB6FF32122F}"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D9E24E4-DECB-4706-B5E5-3AFDC940B46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5DF09AA-C531-43BA-A041-53C8B22985B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B88CA08-91C3-4D82-84B7-3D55928E62F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0CC00D-919F-4C6F-A1F8-DC7C0A3CF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0EA0CBE-7620-48BB-B959-BAA184CF844C}"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9F47459-20AB-4BD3-A3E8-98EAE3093D9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7B5E80C9-CF98-497A-93F8-D67CE369884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1478ED3-259C-455D-BFBE-C71598A9BCD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B9DF76E-5060-459A-898D-6F22CF9B91F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EBAB8FE-CD83-4BB6-9A63-06EB1D70ECC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81C7E97-E249-4104-B20E-6980287E67E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E844455C-3800-4D02-A95D-EB545FE0CD0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EB23BB42-90BE-4AA6-9E38-1A573C84335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5F17B38-4FAB-45B4-A1EA-6C4A33DDFC6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4BF692-3622-49B9-B587-58203BF4E9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E22B87D-64C7-44D8-A951-71CD2A25420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7CAFCBE-4C36-4CAC-AE56-56BD1FC8981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BD30773-36B6-4837-A1DD-8DEBBDB882C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C054265-AFB4-4818-B4B9-6BAD119C06D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F3E8632-1D4E-4150-9B45-E4E78BC268D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7CE2BC97-914A-4D7F-AABA-074ADB9F82B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79EBBE9-B375-420F-99B9-C70756FB503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179FBBB-F1E0-44F4-989E-1FEA502F724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D1CEAD7-6BAA-403B-983B-9B732B077C7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A0A51DF6-1245-414A-B14E-53062CBDCEB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B495EE-C5EB-42D6-8A3C-4158DC8BB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20CF1A5-2383-453A-9D62-771B159699B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83AF8A22-51F9-4376-8196-BBACCE2C376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B277AD2-CFEB-437C-85D7-E4008473E26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F13F09D-E2B9-40A8-8032-FF5C776843A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F76AB9A-3995-4F55-8D79-7314EBA96BC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C171EC9-2759-46A9-A84A-131E85284DF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F17857E-20DB-415C-B016-B04276603F4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91633F8-A6C9-485E-9297-18F3CFEEEA8A}"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B2BAB15-B70B-4F19-BDDD-795287D193B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B2549DD-513C-4E84-9613-2D8F740B996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79DA65-E8D9-4FAF-B46F-32FAD76DB2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E32B2B2-49BF-45EB-88B3-8996FC548FA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4AB7278-6804-49CF-8443-25CFD7F5E096}"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751269D-C21F-49DF-9F36-E13CC1677F7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728055C-EF7A-4C0F-A741-50F9DC7EC36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9C0498F-9280-4B90-A5A2-46D380C5DFB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A7A87AF-F1FF-42B4-9866-EE58ED89479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098B32E9-09A5-4AAF-9A6B-DF0F618965A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B9F8BC1-AB33-4FEA-A994-C95877558CF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D407D6D3-D528-4127-91BA-C026AE52F1FB}"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0C8C061-3891-4FB2-A5E3-9484369A881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50F0E0-2AE8-4AF0-972A-2CD4B37D73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51F30BE-6B21-4B3A-B2CA-9AA65A2044D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B952B0B-5242-4A90-B00B-3DB5B87083D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E8F7A2F-49EA-4152-8DF8-1494E3CF5121}"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25DB62C-9324-4971-B5D7-140621E5A32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5497C39-1A15-4586-B558-538C065ECD0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63DE890E-45C6-456A-90AC-F5D5234E7C0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C78CB21-C5A3-49E7-9861-149193EE93D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D8C98A54-58E4-4213-88C8-4A2F3EE04D3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F6C468C-56D0-440E-883D-E664B6B5F73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1F4A7F-ABB1-4710-97E3-4787232D560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54BC70-5F5E-4001-AF38-58D081AC0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6B95AE5-908F-446D-9023-0C1FDD2B9DE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A932FA0-AFD6-4167-BCC8-69DC73BE6F6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FCB4855-02F6-4D16-B7DE-19FD7C49F2E1}"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1C26D27-2C55-4CFA-B25F-283F47BA8F4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D6ABCA34-1E27-4824-94DE-C0FED54DFDC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D548A03-D4C4-4836-946B-C63F167C12A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B117B4D-E20E-4A91-98B4-1A565688CB5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A78ED786-3C3A-44BB-B6C6-8B77FD71E6E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B377660-7E7A-4EB0-93DD-A36753B2174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40B323C-8B9B-4C9C-A7E4-7E70DA4B3747}"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50BE8-D919-4CC2-8860-9E14A2287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F4B3C-DF05-4A5A-88FE-73A89155B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7FAA07A2-4BD7-4D2F-8377-699256E3FC4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E9EB767-0BAB-4954-AE8C-6CF0B48A1BF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82C43A4-2332-467D-9BD9-B083FA013BE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E6FCD4F-BB87-4364-90DC-03DCA7DB0A1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D3C9EBE-1869-4594-9E18-5F611F706EE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917AD4D-8946-4EFD-8DCF-16DC0B3DDF4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284C9B0-92BF-4411-A42F-08108877451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213A8B6-6A59-46F1-BA7E-6F7BF3A10FD4}"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6A6EA8E-6242-4B99-AD99-F2560560233C}"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DF891F6-A0D8-46AA-BEC3-902A76288D0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E2C03-6FB7-4810-8728-518171C99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B29E099F-57E4-4955-8901-467024456D2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279DCAA-065B-47A4-9F72-DD52F607D5CC}"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8524B14-C43D-4F36-B3B5-C65AC4CD912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5784246-FD9D-4310-9A2F-4B22DAE85E7B}"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BCD3793F-28EE-4F74-8707-187F06EC243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A29E417-8C66-42A9-8F41-76B65A766DF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3AFD3D0-F51C-416F-9A9C-595EEDBCA28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EFC2A2C1-58B2-4883-9ADA-7FE06823A87D}"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C7C319C-4BE3-48AD-AB61-B7E0F686625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F6E97C8-BD8D-4354-9FA1-96AA3B1ED34C}"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F0FCE-19FC-4EAF-8EF9-2BB3CE0C4E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17181318-CA91-4C0F-A677-25118EA7370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B5086D6B-2090-4624-958A-4D706458D28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1C1AD2F8-4D8D-4307-834A-60636E8B3E3F}"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2619EEB-145E-4802-B6E5-BE90DFEE5CA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50ED03E-D9ED-46A5-9266-AE2F01D741D8}"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45BEBB7-FF9C-4938-9474-A948A38AEE9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404356E4-7CF9-477B-A672-BBBEDB8DF8A3}"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BF24A00-F20D-4A4B-9876-3221C289B8E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E590CE0-190B-4053-A77A-DCEFA902B9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74C9A7D-E7CB-4E95-881E-771E2DD03DD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16051C-58D3-4477-9FDD-62DACC6334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36A5E62-CC70-4DEF-A4A1-CD25F2BE668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E08F377-B1F7-417A-89A0-A5FBC3339FCE}"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8F8C726-DD80-4295-9D5E-3FB1FCE2F6CD}"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5276C5FD-6D52-4E4E-9255-BE0B9FC6857D}"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5DD0EC1-2DC7-4746-821E-92E699D5577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921FF853-536A-4A31-A871-B7AE78FE10C7}"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1DEB67A-E2B4-475F-8AA8-A17511251C97}"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E507A88-4955-4C1F-8B36-18CB59BA02A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6A5798C-CC94-4443-BA2D-1A16980F25C9}"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5783CD7E-B480-4BFF-A95B-F9AB0DD3858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4F9BA9-37E8-4452-9194-053175318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75BB2B0-54B1-4FEF-9F4C-E4D665E5CFF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4268D0E1-826E-42A6-B959-89C4CBB61D2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02D75DE-93CE-48E9-A2F8-7356E92D42F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B8B4BBB9-49E4-4B67-BA1B-2707B603008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5F4FD03-4732-4213-9F45-D5970663977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DDC67D9B-B0DF-4681-B600-A5D6F6BCFCA1}"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9639488-06DF-4C03-9D96-24ADCEC3C7B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DC0A634A-7F19-473A-97E1-4245B13ABC4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7530E99A-D058-4668-AE39-A956651016D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92D0E5D5-E6DF-4E94-A65A-8BC8B09F0D09}"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AEBBD-DAFD-436D-90BA-9DDFF30355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4DAB1635-9FAF-4238-B0E6-481E927DF0E0}"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35B35C49-F951-40EB-BC49-91AC899CE75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0E205C2-52A2-4F5C-8316-4CC6CA20C44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F15C074-557E-4E9F-B478-25C4E5FEFB6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23E8DE91-412B-44F1-A1BC-59F32847952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723B4530-C206-4B7E-A501-1D8BDE44E94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B5756185-AEE1-437A-8EA3-B17E9D0C8F62}"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BC23F6D-EA00-47D2-8894-3FB430F7BA83}"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EF9BB0C-95B9-4D37-A7D5-F2B820AB213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7C21A13-C6E7-4484-B2DF-650765E84F5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BAFD69-6E2A-42CF-8A0D-F43861DE4C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8DDD5EF-9121-4AA2-AD42-ECFBD5C2945C}"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82348147-AC69-4DB4-8B46-B4F6DCCD271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63548BF2-AA7C-4153-B47C-4E786C6D1DB4}"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3AD9722-06F9-43DE-93F3-18B0319FC31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7D7BD26-9B75-4369-B9C9-0EB0A280619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448F2F2-0E4B-4812-B3A0-835FEBF1FE8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EBB8A33-E430-4EE9-B96D-502F41F9E58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32F9E49-B753-4B81-96AD-17A8EBD2216D}"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B2287B5A-8AD5-4DEE-A166-7CC26F201032}"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B12EB8EE-DA3B-4EF2-8B7A-87327CC1A49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A0D8FE-DF04-4E31-B278-25BA4CB04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30F5153-41BF-4802-B173-12E48DB9D6FB}"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0D4F795-DE78-43F3-840A-E3104E9126E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0641BDE-356A-4D58-A142-C65444EC8DC3}"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C0F6C45-E20B-4CF5-8F13-65413E61FF6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7B7CD2CB-3B34-4D17-A925-CA553722AD76}"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AC6C85B-4CC9-48C9-B8AA-4B8FFBDCE87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5E99D78E-C362-4996-8DB4-E7AB3CB34C4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1D3C9E4-31D5-474B-A89E-EDDB4D812361}"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982AC3C7-2805-437D-A0B6-759AC88533B8}"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E409B24-208F-4107-AF65-2C5E87E1484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3CDB40-AA23-41D2-8084-9887C8256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4C4D4EA-37B7-45BB-B0E7-640F183904ED}"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849AD949-BDB1-40C9-AB98-6B86F046ACDF}"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CA77978-57C0-4A96-8AF8-2E487FC0792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0AE2CF4-C543-4123-8D4F-14468842FD6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C9F18635-2FAB-4FD1-B6F2-7174E34BB67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117FCDB3-DDF5-49F7-AC38-96AC834A08F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5A96F3D-4DC6-431D-8F9E-791F9BDA483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0C42294E-E55E-438D-BDDD-4FF74D8C906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E08A3E2-72FD-414D-A3C2-A8EA9627847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323D11E-D44A-46BA-847A-E3B94F7B180D}"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9145C0-0193-44B1-81BD-39211B8CDE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44C6616-436A-4764-9260-0E0EA8AC3B3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3D0B3FAC-E94B-4CC2-B776-17C84082A40B}"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52688445-79BF-4F87-91C6-868AE7C99E99}"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C2C145CC-4F21-4C1D-9601-9D4D1FCA42F9}"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3E7D212-9D3C-413F-A24B-393365089D5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DC4327C-6FE8-4810-983D-8350C915EEA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EF79A80-3A73-4707-A4C5-5D1B80B0A9B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9A5D9BE-6F3F-4DEA-8477-257C0576363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AADCF9EF-7E11-4650-9AF1-9654137967C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48895E4-DAAA-47B9-BF1C-99DB3D4F5B0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BE6F2-6C0B-4C0C-8A30-81C965A01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53E57-51D3-4035-A333-FF0E938A25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9C51F1B-0F73-438A-9FFD-19EF49F0E7C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89236FF-612A-454C-B9EE-1165BF1EF10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97DD3AAC-500C-4FCD-9DB4-58C14AA1C65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EA20559C-10DF-480F-9F71-ED725D966B7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FD3A0B81-8A8B-4236-9FCE-63DC77D7298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3275276-F99E-4B11-96C1-8EB36805ED1F}"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14C73EEE-C0DD-45E2-AF52-3593E905B898}"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06D80E2-16BE-4D92-A5A2-AD3949BA287E}"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DBF1239-7658-43F9-B06A-4DC3321E8E4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98B7EAF-DAF0-4C97-BEB5-F8033A58F1B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E2F4DB-8575-4DF0-90E3-77D09E6A8D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5CE1C2B-495B-4102-8F81-DEE3CB0D604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CDD2622-8697-4FCA-821C-B1A5EBAD1B8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E5A8743-F3A9-4EF2-8FB8-6C50943DC54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5D004CD-4406-49C5-A4DD-F9A81504EA3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2E51909-5FB5-43B1-AA9E-1A664CC5584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3C70E155-3006-40B0-AA9B-7EF53266917F}"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0E1DF21B-0980-49C4-97D3-2DC45FD9B5EC}"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ECF2AA7D-A106-43BB-A2A9-D9210E9C366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F192EB76-8460-4EC0-BAD2-A22EE040ABC8}"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E7CB3A59-DE5B-49BC-9681-802359D08EC2}"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96C51B-7B1D-48CC-AB70-08B8220516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2013537-AFA6-4B55-AD47-4BB93373735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7C20C6B2-09FF-40B2-966D-B85C66656F3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3B55558-F501-406F-AE2F-05F6E623619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E43DD62-11D8-443C-9681-8AA46B236C9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ED34BBD9-9F36-467B-BA8F-4BAF6C54825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6ECE0C4-AB7B-46B4-9325-FD3505CDFAC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6AD6574-777D-42EE-941B-912E2D148AB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4891A3DF-3BE6-4149-B091-D4F4A509B1B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1D3080F8-993C-46A3-B18B-07917CB20F15}"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430B68B1-1E4E-426A-B10F-2C69598CB27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04E36D-04CE-4B74-841C-FE31F75A25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90272F60-95C4-46E4-A96A-0C98D067F03E}"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254343E-4CA3-460A-ACA9-C2675698DEE0}"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83F9A851-057A-4464-8C79-AF5D8827ED5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3892F92-1CD1-4FD5-A126-E4076C01458C}"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96C9609-978C-45C2-B5D1-4008DF35BE2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ACAF1DE-A4A1-47C3-9264-A9905F81094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65F009E2-6A14-45F6-AD65-02847817927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9AC93C3-FFEA-475D-8776-C3B3F980CB2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076246F-E1D0-4A24-8158-F5A901F0252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D9933C8-9A9B-43C0-9CF9-46AADB0D8F7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27C541-8B6C-44CE-9A7F-D30F3941C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CDC21FE7-EB66-475C-998E-7049992B5421}"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F3C007E1-E178-4854-990F-B76E5121E190}"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D2C5C7D9-C3E0-4428-A4A2-52F42FEDEF7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2CB314E-B6BA-4BE2-8D45-EB9029FC0F62}"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59644B4-DA69-4A27-B628-B486965D2B31}"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109D08C-3DC3-4904-B7A1-E9E24DF29057}"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9D49ADF-759E-4F7A-9154-7CF35FC77850}"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565E9088-4CD9-49A9-A689-D716C3D07D3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10FBF39-9730-4944-A822-EA38B6315A7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49C6FEC-BF5F-4A94-9E85-5682AC74CCB2}"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83C78-3A48-40D6-B6FF-8A84D962C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AA1AB5D-C8FC-4780-A4DC-795B010714B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0FF3D3D-39A9-4885-9707-2871D9D74711}"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B0715BE-7F49-42E1-81EF-4925AEF3A271}"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D3AE7057-A73C-4BB9-AF5D-DF44B998157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358794F-5C1E-4E6A-9D40-DFCAFFD0703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C7E944F-5E81-43B0-A4AA-F3380EE8835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1FC1BA4-F96E-441E-BE58-B1EA93C517A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0DF39CF9-23B8-4393-B94F-FC561EA5E59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41EED8E5-2EF7-4F65-9114-1850CBCFCAF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0976F44-C2D3-4B36-855E-D65DE75E026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7F24E4-11FB-4986-872D-5B1472594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8D30C3C-AF17-4005-93E9-6F3B930BD22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FEFB2045-0254-4D18-A1B3-E29409A18972}"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519FA1FE-96B6-4E34-8C94-DA521068033A}"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38837202-1B99-490B-B889-626758971B4B}"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1D93E510-D27D-441F-99D2-D2B23A9FD23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D2C32433-81E7-4B07-AF2A-85FF7DA9ECF3}"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150F9B3-9AE9-4ED4-BF69-27FBBDC759A7}"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E6E4CE1-80F5-4ED0-BD61-E17D0827769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DE54CA4-285E-440C-A7E2-0DC4D98C596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D162A948-AC0C-45CD-BA84-8FAD8054A12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DA590-B1A5-4CC3-A244-4A60838F9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095D6ED-9298-4696-AC6F-A238395C37C2}"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00AD7350-A418-4835-A0A1-4D4AD384C35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AD63BA1-7F1E-40D5-BD08-B18F3380A64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24442B0-0D39-4AB2-9161-80661B5D5E8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2A4022C-2AC1-42EC-BD5A-1A1774003EC2}"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84A63555-DF8D-409A-8894-ED087E4D7037}"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8D14F289-C588-4500-BE90-91BEDAE4D26D}"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6E7C6C25-3C9F-4AC2-9F29-ECF7A2A917DF}"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D8F76D7D-0A81-414D-A2C2-73FAB13C58E6}"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617B157D-5C62-4C6D-84BD-C46750162D3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737CF-0D18-42EB-B370-BE6CB0E12C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50F990DC-DB6C-4E1C-A087-31985AD7AEA9}"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B2690138-C0D1-4164-B819-904EBFECC29D}"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89279419-B03E-4897-BC60-02AF2CAFBBBF}"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0A6C0F7-64D5-4FB8-83E9-4EE036A48D6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B3180A6-A1AC-48E0-812C-AA2086B2357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5807119-BAA8-4AB3-9B9E-CCCC02BA73E9}"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AEA8DAC-77BC-4D4D-9325-F604B0C45FD3}"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DC7BEBA0-85E2-4E8F-8044-DF2ACC159D2D}"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17B5AF1B-763A-43E1-BEE0-358136EA8816}"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AF6E1A42-1681-4B1D-91C2-AFC874AC745F}"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947C8-F8EA-478A-AB13-D3D7A73D3A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99B86CEA-99CD-4DE5-BC53-DD65425AB2AD}"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596283A4-4D5E-473C-9CA1-5453670E04C4}"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DB43865-9449-4208-9EC8-F68A2FE4E9B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2E5847A3-A424-4841-966F-39E73D26FA12}"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93E65896-A4BE-4D45-ADB6-7C1661DE76D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4A4CF8F4-1B67-4F63-8FF3-F09457FECC0A}"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C5D8C68-2A8F-4B4D-9702-EE346B9F87B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9FD2262A-6215-40FE-AA86-0234C90172D8}"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D7F1E43-B4E3-4719-95CD-55F4E9D02CC9}"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CB35AC68-0E70-4391-A9EE-F25EC43D6F0F}"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AF6AB6-819C-4317-BC61-232FE4E8B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0FF3CF-F51A-45A6-B066-D1403C6652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609F39CC-BD10-45F7-B364-8657DA992004}"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CB97B2A3-C9DF-48FA-9353-4B20FAB8F6A7}"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7FF437B0-86B3-4127-A867-2B9A6277DE8D}"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D3037AD-A4A2-49CD-A28E-9D1537DDC36C}"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7E8DC3DD-4D2B-4AA9-89A0-D58FBA5FC46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280D028-FA32-4811-986B-631101481C6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01A8A2B-E199-450C-97CA-8B372CCA33D9}"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9C2F0043-7260-436F-9FB2-CBC9D4E49F6A}"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D21DD39F-3DF6-42B1-B738-B18BDF8EDAEE}"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4792AFA-ABD1-457E-9E7A-85C515CF173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6C9B33-27FC-445F-805B-2BD484319A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1A40AD9-D532-4D60-A3BE-A372CCAE654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EBEEF4C2-BE5F-4ED8-8DD1-3B274AF354CC}"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504F05E8-6C72-4DB7-9017-A30D764BD0EC}"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DAFAA986-5391-457C-AF2E-227986D271C5}"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D7671B35-2012-4177-A1A3-C517C02C5BD1}"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29578B57-78FD-4FA7-B220-D6D548A29F3F}"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B9C5C707-5B6B-4446-A183-A17AAE64F850}"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85324CB3-BE65-4864-A939-77F5F7855363}"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BF2DEEB4-EE34-4A8E-89AE-3E4F110C67A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E5CBBED-003E-4D73-803D-031FEA7EEF2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55E930-16BE-4382-AF60-71A4DB1DF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4EAA85E-1DA2-4D9D-907B-4CD73AF4739F}"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30B141B-EB83-4309-9C8F-CA789E2C63A4}"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5D0944A3-EBCE-4BDA-96DB-726C577A6FB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7635B5DF-346D-4279-92DA-EFD7911BA934}"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F711BA5C-FDEE-4DC7-8E0B-1DC994322F2B}"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92F2F546-DB3E-40D6-B9B5-A79BFE168F49}"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F7DDA0FF-EE1D-4920-9997-374B58BECCB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AB4B591F-19D1-44EC-9357-EDD672A2AC26}"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85111436-C515-4DD6-B3E9-2328A09B1B21}"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E80F54C7-398B-42DE-A41B-9810C70EE85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09947D-CB90-4738-BB4C-4290B908B7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F7C90EAA-4172-4CB0-9B50-17F36C26C0A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31C642AA-A70E-4C55-A73D-9050A0C4769F}"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6463A20-10AC-4DB3-9CCE-70AA186D49A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1DF89436-52BF-44A4-9BEE-83DC50510C1B}"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4A945303-AC83-40A8-8FC0-9D94B7E99D97}"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CDB8DE76-D8C0-46E1-8A85-FAD82BC4B21E}"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B5774600-FAFA-4C7F-A778-AE8A1331210E}"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36AD9F68-0CF4-477B-AD09-C6FAA5337FD3}"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2BA4DCF9-3B47-4C5E-97E2-05F8D76C2564}"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740F98B0-EBCC-47F3-8247-A22F7FAA0935}"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898664-7557-4F8D-A491-A8ABD69AC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1E95885-8596-4E57-8817-29ECF58F4635}"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24004FF-1D66-4D35-8D63-DA161E7D34E3}"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BF3FCE00-420F-4E51-8DEA-50ACEAA455C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1AF9198-4507-4951-8531-36E90F9FB6C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1809B689-29D1-43A2-97C0-5D77EF5B7A89}"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73A3108-2A33-4227-B9D9-F8F95C9F9A74}"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58DFC578-9F40-4796-96D4-BD6FEC349AED}"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1813A45D-C5DC-4963-B4B3-6C0E8434672B}"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EF3B9802-DF32-4D8C-8386-F852EFB9EE68}"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126698BE-1AF7-4ACD-8682-12173C04401F}"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10995-0724-407E-AD0D-42F31D555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FC92996E-6300-4649-8145-7FD11D7CB3E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83E69FCA-6094-4A97-B66B-B4DD7AB158E3}"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221168BA-1A5A-44F9-AF4C-076F87F47C16}"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3166D527-3C7A-47A8-982E-6DA4AD3FCD1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CDEC628-E509-47BC-9743-4D7690E4368E}"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6F8F5EA-8527-46C3-8D80-05E6B9DE6E9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AB491F64-F15E-4728-89BC-C1D906D1A61E}"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F4092A5-C256-4A7D-ACE3-9B7EC7078B1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43D5C53-9333-45CD-9A07-E45AD3339F89}"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C6F14339-2B77-428E-8552-436765DC873D}"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3F464-C0A8-4D88-9437-E62B7478D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A2A44170-B049-42F7-B43C-F9EBEF43BE4A}"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CCB64471-A5D9-4C4C-9EBD-8B88CCA08DFD}"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EADF6B74-87D2-4095-A827-73EC88A2BC83}"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E90D8DA0-C28E-4A6D-A8A8-83ECB98D7B2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D3FCA2B0-91E8-4699-827F-0F8A14D93093}"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EFF2C701-C3A3-4FDD-9A9C-19127583F145}"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2BB9D5A6-2541-47F9-B7D2-F17659EF849D}"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D1A7A3E9-FF35-4227-BE5B-043B0F97F1F8}"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04E20FDA-B941-40BD-BCBC-BCB586B064F2}"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9629674-01A7-4386-856E-25B744380A1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E9E80B-25A8-4015-9624-3DB87C5F0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3202D699-E5C5-483D-8E4B-22A69E90E892}"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2D3E2F7D-F6DD-4986-AA8B-622894EF2EA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FEA09665-9A87-4E85-9A61-D24595EC8A09}"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2F365401-D2AA-4106-8248-0EB373FEC28F}"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8440910E-0F7A-4750-BC7C-FF10ED7BA64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FCF586E-12DF-4C2C-B480-1BE0DD305A3F}"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F50BDFD1-A35F-4BE7-BBAA-A9548F71C95B}"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820E02DE-1847-4BBB-83C3-AE6910D2C2DC}"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1865513C-81B7-4F79-B82D-702278B10EB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87536F3-8FC1-41FD-8E73-70790E55FC0B}"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40EC07-8518-4789-86FC-5D1D490ED3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3220B9B-AE71-4911-AB0C-B66550439E7C}"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EB8B97B-9783-4FDA-975C-0461C4FCA3A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1F6B1642-4E62-4D9C-91AC-C2E6B2774992}"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7791B946-1CC6-40CD-9643-2BF0FF70CA7D}"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9357C584-1282-4663-82B3-F4D1BD9DF1A5}"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AF827F62-BE6F-4F4C-BD60-291DBAFECCE4}"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4427D14-D9E4-447C-919A-7AFC376E92C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ED39BEE9-B45B-4868-8A59-06819752BA88}"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C81D0AAF-94ED-476B-8D2B-779992DEB073}"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845E061-513D-425C-95F8-64B718C4AC55}"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177C5-A195-4A21-B8F9-81FDDAA41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EC1FC9D-5090-4A48-AFE4-83F23EE17680}"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68A06B2-B427-41F8-B874-F93E77E4A4CC}"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87AF6115-AE28-4696-AEAB-54BA5DE0C732}"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BC518E1-24DD-4C36-BB54-2CE40E26EBAF}"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7A6B0C36-0732-4B92-8B4E-584CD1B7D9E1}"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25B1D538-A174-4501-9CBE-69FA3C86E125}"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3305D55E-FEE6-4CAA-87DA-2CD3EB7721C8}"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63E8FFF7-981D-4095-8CA7-3D51E669D394}"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7B53B607-C647-4230-A166-FA35C35ADC8D}"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2D5BEB35-E192-4CD6-B822-F87D8F75BF3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7F7EF-02ED-4359-87EF-CFF4AB8D6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D7E99C-5B54-448F-A892-2D83C47891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60859B40-9D5A-4090-B8DE-67588AF91734}"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6ECD157-CA12-4C09-92E9-BA75438F238A}"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40136AF-C13C-492D-A197-6EFFDB77220F}"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2542D49-14E1-414B-9E02-DBE6BA06D131}"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DAD8DFFF-0600-41A2-8ACF-8D4B54D25D82}"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EB3F3419-CD8C-4E82-BD57-A26D359CE964}"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45F5BA6E-2CE3-4480-B5A9-82A19DB9FE05}"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14485EDE-19C8-4BC7-B36C-FACC710FD962}"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A4669261-EF76-4113-9B0E-C770D5CF56EA}"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0EA329DD-2022-422D-B9B0-6791D8002770}"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E038A1-4032-469E-A2C7-3E77821C45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40EAF1CC-B99E-4E9D-92B7-DBBB73CF087B}"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535EDAE7-6E3F-4810-99C9-D4B3260F9F79}"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3A707495-D1DA-4528-B535-8595ABDA1B0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82E4633A-7A95-4D38-9B41-D682BF2ED4DC}"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9107689E-3064-42FC-9477-AC5DAD541EB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5552F73-D949-4B29-8F49-E410E9067DDC}"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D3CEF1E-4D60-4B6D-8F98-6810FFD4F7D1}"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18EF7818-4252-4A20-8AEB-7C74DD60BF41}"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73BF778-E516-434C-869F-E6E784DDF206}"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3C9981FB-C6D9-4314-AE1B-F716AF3AA376}"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762C07-0E35-4E5D-862C-0A963FF9F1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EB83F52D-EF66-4D78-A90A-34DEB56DCF0E}"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1C94EB23-C3ED-48B6-B38D-BF21669AD827}"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F8C8A4B7-8BB6-4DF4-B9A2-3222564D20E5}"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93BEBCB-6615-4744-AE01-AFB32B233A2E}"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B5E967CB-55C5-4713-A924-2C8B5B99D706}"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D4696EB-5EC9-4DF1-AC9E-8C7AECAE1FE8}"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1DCDE0E4-AE9B-44C5-8450-EF262954598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09010A39-37BC-4972-88A5-B55D398A6E16}"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CD9F4345-B6E7-473A-86F4-F3310AE70087}"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8513584-49E0-4C15-B085-4DB748EFCB81}"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03782E2-A4AF-4132-880A-32BFDDEC10B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B3B3C133-46AE-4825-BB8E-73CF0AC93D53}"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C2C0F588-06B0-4EE7-A6D3-480BF3740D25}"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F5094AA8-C2A2-4F47-BBBF-D41554A2AB50}"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54F18CCE-9265-4C69-ABDE-D8340E3248B0}"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0F2FCAD8-B3B1-412D-B35A-F9676E4BF783}"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6F225C76-A8A9-4FC3-9A2F-8F39408D1667}"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751FA608-B9C4-4F17-8748-BDDB028A45FF}"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8459CB0-8279-497E-B596-E53E780A538D}"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08E93A8-975C-4EA8-868B-B5D4EB3B7045}"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50E458B-624D-4206-AD61-2EEBCFC6E69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D61C8-F8BF-4CEB-841D-65A47E64F1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8C038DB7-5E25-4521-8A27-A537B2A0CADC}"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6152EBCF-0552-4B3D-ABBB-22445D3134A7}"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11E0FB2B-125E-4DAD-B0B7-4ED53AA28E2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E36B0CA6-9A50-44F2-AA46-70F62461C448}"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B025B6F2-9011-4510-BF84-95A25E6F3C55}"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7775A395-1775-453C-B09E-75A80A633871}"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F9099EE-7921-49D1-BE5E-A9F09F943C00}"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399E9308-BB1A-4F01-A713-7403145563FE}"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F8C3C864-3851-4F0F-9365-61D7F8708B37}"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175B1E04-CA9F-4EC8-A6A3-2868B6A31AC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640C12-3150-482C-8FA9-704B61BAAA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8347997-13FB-400B-BAF0-65D13A5993FA}"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0B709FC-9234-4866-943A-999A6FD68B04}"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2C8E3CC6-4591-4167-8441-04969DE6563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A3A13231-25FB-4404-AF2D-B494BF705D10}"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4631D8C1-15C1-4729-84EA-5382C15CCCF4}"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6102C062-6809-4143-AF03-25601C093B46}"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7AC55653-0BB1-4B25-8A50-CF4B896B5062}"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56B07141-D101-4A95-97FD-775BB3030DE9}"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9A503E9E-F74F-4D2C-ACC4-C6A80A55892B}"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AC1047B3-9315-458E-9056-D425D525E3B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E023A3-F5BD-4085-B527-93DE5EF328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1F9DC9CE-A516-49D3-9235-7F7E31E118A1}"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44A88520-67BF-4FB9-A2E5-DBFAEC94306E}"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B59B59F9-552E-4B1D-A2FF-CADED2186A95}"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AA89D88B-D3A3-47C3-AA76-4B866D4FD04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2ABF579-EC89-45DE-95AE-4D71F121C968}"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FD16E68C-E7FF-4939-9A23-D85263525A6D}"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D111F2EE-9D14-4F5A-90D3-2ACDBB863BC2}"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CFA77047-DD28-42C3-85C4-4BF04CBC87DB}"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CCFBCFD2-0C7B-455E-997D-E8416E7E453B}"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85567C9D-FA2F-4054-AD73-EB8F246EDB3E}"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89E218-A75F-4191-9900-0583E67395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69A7CCAE-3123-455B-9964-F0149190AB1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2B84088-9B99-46FC-B18E-888A5C57044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865ADE2-E25C-4B46-9227-F8814272EAB0}"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12CF3696-727A-4B6E-BD3C-E14793BDFDBF}"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989C6DE-8F6F-437B-A197-E266A9D64386}"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31F39F79-DABA-44B2-AF9E-B498DDD1FDC8}"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C940EFC-A04C-4248-B445-14E616116DB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E0018BC-1162-432D-ACCE-051099815B75}"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C9A05CAA-22BD-4964-8368-3081DA57311B}"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358B14EF-0B24-44C5-9E57-AE8EAA33AE87}"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F870B7-74ED-4541-9B90-47982C0FDB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44A1B9BE-F1FF-482C-A89C-E1A6EF335657}"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5153778D-5323-4B3D-BFBB-708624C999B1}"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F00B17F5-C1B1-437C-833D-CB67ACFE9FA5}"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5F96A6BD-7851-44A8-80D0-6F3E38E5FC87}"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789E03D0-8D75-49AE-91FB-C1EBA97244D9}"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11FE0352-C94C-4CB1-811C-D8EF4D2E0041}"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BDB8DB94-7AD9-4CEA-A34D-FEF61813375D}"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B0AE86B-CE65-4EE6-B907-7D1AEE93741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E8B3CAF-707D-450A-94FE-E0A0DD6D3615}"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65320F1A-A298-4796-9725-8F8A72D50DA2}"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0EB24-002E-4186-A5F2-FA1E9711B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F1C84829-5642-4618-B8E8-27336B83D93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C3F657BD-1049-46C8-86AC-36C435DA3452}"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B721019C-CB78-410B-B648-7568AE38BA6D}"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E0860832-AF73-40BA-9D31-E308B15642DD}"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8ED5F778-04A8-40AA-AE33-3535876B97AF}"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E22D72D5-4F99-425E-9721-2FE017F74D54}"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693621B6-EE69-415F-AE1B-FF25ADE811F6}"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6BB9CAFF-19A8-49C1-845F-50762470E2A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F39F3D5C-02D3-4C86-9C5A-E6F541A1F9E0}"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AB8EA91B-F7A5-43E6-BD9B-1B5A12F9AE12}"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B542D-AEFB-42C9-9CCE-A080CA74A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60AF43-622A-481D-A3F4-DB0F74BE23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2A9C0E14-AF60-40E3-B921-A07E1FDA307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4C3AA67-FEE8-479F-AB1A-15F4537B2AA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97074A63-2E9D-49FA-A35F-10E18DFE6DDB}"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7D53AA50-FAC0-47FC-BB23-EDA9C842A24F}"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E525A0EC-9A4B-495D-90C6-7B683D660547}"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E4610B18-7636-410E-ABF8-372F6F67ABAE}"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465C9785-AAEC-4A94-97A3-689F050D7552}"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E9E04BD-EF55-47B1-A9BD-4347C3319501}"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3BAD3F28-A6AF-4854-84BF-49D5F7321DC4}"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EE89948E-E6C9-48A8-AA20-F7726D4C852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DE0E59-D896-454B-B401-802AD0D387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70523737-FB25-4513-AC8E-DED1845BA81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760394F-B22A-42AC-A110-4B882998F8A5}"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B91A1563-A230-408A-89B0-471F1A6EDAC2}"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E2B6E813-5C99-437E-A527-18F92D1CA48B}"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259B462E-0C84-4884-A2B3-F20F37738637}"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A60F2A66-0844-474A-A3F9-DDBF5DE42076}"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AA206B2B-958B-4E0C-B3D0-48FFB635FD46}"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DF714-C1B3-4DE7-B98D-8146769F1E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DBCEE1-E1D3-4F63-AC3B-687864F641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C38ECA6-2958-4491-9483-C6392AB80A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59EB1A-B049-4A7E-B41B-B0D6491559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99D88E-B78B-462E-B3A9-33A3EFFD689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E43426-2620-4AFB-A2A4-DE630AF9EC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0CCAC-268A-4FC0-8246-F18013F3E0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6AC228-12F0-4DBD-9E9C-A769631A0B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1823-D303-44E2-9FFA-54FE0D782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163375-DCA8-45EC-8047-9E0CC5740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469A67-A4A5-46AE-B3A1-B42FD51C1B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284FAC-5E43-4BD8-A303-2F55434D4E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43E4A-F824-4803-97FC-95ECDFE76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1FB5C1-966C-432D-AC7E-6AC245829A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73A390-4316-4503-91A4-30C4C78CCF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D3B116-1332-43F5-8C43-6AEF454036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BD69D44-6174-410D-9479-387FC3456A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4FA85-A409-4EBF-B460-6FF69E15E7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25E526-121C-4399-ADD3-A124AA511FA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9.png"/><Relationship Id="rId3" Type="http://schemas.openxmlformats.org/officeDocument/2006/relationships/image" Target="../media/image4.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29.xml"/><Relationship Id="rId5" Type="http://schemas.openxmlformats.org/officeDocument/2006/relationships/slideLayout" Target="../slideLayouts/slideLayout230.xml"/><Relationship Id="rId6" Type="http://schemas.openxmlformats.org/officeDocument/2006/relationships/slideLayout" Target="../slideLayouts/slideLayout231.xml"/><Relationship Id="rId7" Type="http://schemas.openxmlformats.org/officeDocument/2006/relationships/slideLayout" Target="../slideLayouts/slideLayout232.xml"/><Relationship Id="rId8" Type="http://schemas.openxmlformats.org/officeDocument/2006/relationships/slideLayout" Target="../slideLayouts/slideLayout233.xml"/><Relationship Id="rId9" Type="http://schemas.openxmlformats.org/officeDocument/2006/relationships/slideLayout" Target="../slideLayouts/slideLayout234.xml"/><Relationship Id="rId10" Type="http://schemas.openxmlformats.org/officeDocument/2006/relationships/slideLayout" Target="../slideLayouts/slideLayout235.xml"/><Relationship Id="rId11" Type="http://schemas.openxmlformats.org/officeDocument/2006/relationships/slideLayout" Target="../slideLayouts/slideLayout236.xml"/><Relationship Id="rId12" Type="http://schemas.openxmlformats.org/officeDocument/2006/relationships/slideLayout" Target="../slideLayouts/slideLayout237.xml"/><Relationship Id="rId13" Type="http://schemas.openxmlformats.org/officeDocument/2006/relationships/slideLayout" Target="../slideLayouts/slideLayout238.xml"/><Relationship Id="rId14" Type="http://schemas.openxmlformats.org/officeDocument/2006/relationships/slideLayout" Target="../slideLayouts/slideLayout239.xml"/><Relationship Id="rId15"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65.xml"/><Relationship Id="rId5" Type="http://schemas.openxmlformats.org/officeDocument/2006/relationships/slideLayout" Target="../slideLayouts/slideLayout266.xml"/><Relationship Id="rId6" Type="http://schemas.openxmlformats.org/officeDocument/2006/relationships/slideLayout" Target="../slideLayouts/slideLayout267.xml"/><Relationship Id="rId7" Type="http://schemas.openxmlformats.org/officeDocument/2006/relationships/slideLayout" Target="../slideLayouts/slideLayout268.xml"/><Relationship Id="rId8" Type="http://schemas.openxmlformats.org/officeDocument/2006/relationships/slideLayout" Target="../slideLayouts/slideLayout269.xml"/><Relationship Id="rId9" Type="http://schemas.openxmlformats.org/officeDocument/2006/relationships/slideLayout" Target="../slideLayouts/slideLayout270.xml"/><Relationship Id="rId10" Type="http://schemas.openxmlformats.org/officeDocument/2006/relationships/slideLayout" Target="../slideLayouts/slideLayout271.xml"/><Relationship Id="rId11" Type="http://schemas.openxmlformats.org/officeDocument/2006/relationships/slideLayout" Target="../slideLayouts/slideLayout272.xml"/><Relationship Id="rId12" Type="http://schemas.openxmlformats.org/officeDocument/2006/relationships/slideLayout" Target="../slideLayouts/slideLayout273.xml"/><Relationship Id="rId13" Type="http://schemas.openxmlformats.org/officeDocument/2006/relationships/slideLayout" Target="../slideLayouts/slideLayout274.xml"/><Relationship Id="rId14" Type="http://schemas.openxmlformats.org/officeDocument/2006/relationships/slideLayout" Target="../slideLayouts/slideLayout275.xml"/><Relationship Id="rId15"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7.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7075C-583F-4B4C-983F-2CB45D073B5A}"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0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08" name="PlaceHolder 3"/>
          <p:cNvSpPr>
            <a:spLocks noGrp="1"/>
          </p:cNvSpPr>
          <p:nvPr>
            <p:ph type="dt" idx="28"/>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09" name="PlaceHolder 4"/>
          <p:cNvSpPr>
            <a:spLocks noGrp="1"/>
          </p:cNvSpPr>
          <p:nvPr>
            <p:ph type="ftr" idx="29"/>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5"/>
          <p:cNvSpPr>
            <a:spLocks noGrp="1"/>
          </p:cNvSpPr>
          <p:nvPr>
            <p:ph type="sldNum" idx="30"/>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7649-FFA0-4B72-88BF-E5651FC7C721}"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7"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9" name="Right Triangle 13"/>
          <p:cNvGrpSpPr/>
          <p:nvPr/>
        </p:nvGrpSpPr>
        <p:grpSpPr>
          <a:xfrm>
            <a:off x="-6480" y="5791320"/>
            <a:ext cx="3402000" cy="1079280"/>
            <a:chOff x="-6480" y="5791320"/>
            <a:chExt cx="3402000" cy="1079280"/>
          </a:xfrm>
        </p:grpSpPr>
        <p:pic>
          <p:nvPicPr>
            <p:cNvPr id="450" name="Right Triangle 13" descr=""/>
            <p:cNvPicPr/>
            <p:nvPr/>
          </p:nvPicPr>
          <p:blipFill>
            <a:blip r:embed="rId3"/>
            <a:stretch/>
          </p:blipFill>
          <p:spPr>
            <a:xfrm>
              <a:off x="-6480" y="5791320"/>
              <a:ext cx="3402000" cy="1079280"/>
            </a:xfrm>
            <a:prstGeom prst="rect">
              <a:avLst/>
            </a:prstGeom>
            <a:ln w="0">
              <a:noFill/>
            </a:ln>
          </p:spPr>
        </p:pic>
        <p:sp>
          <p:nvSpPr>
            <p:cNvPr id="4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2" name="Straight Connector 14" descr=""/>
          <p:cNvPicPr/>
          <p:nvPr/>
        </p:nvPicPr>
        <p:blipFill>
          <a:blip r:embed="rId4"/>
          <a:stretch/>
        </p:blipFill>
        <p:spPr>
          <a:xfrm>
            <a:off x="-19080" y="5778360"/>
            <a:ext cx="3421080" cy="1098720"/>
          </a:xfrm>
          <a:prstGeom prst="rect">
            <a:avLst/>
          </a:prstGeom>
          <a:ln w="0">
            <a:noFill/>
          </a:ln>
        </p:spPr>
      </p:pic>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45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455" name="PlaceHolder 3"/>
          <p:cNvSpPr>
            <a:spLocks noGrp="1"/>
          </p:cNvSpPr>
          <p:nvPr>
            <p:ph type="dt" idx="31"/>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456" name="PlaceHolder 4"/>
          <p:cNvSpPr>
            <a:spLocks noGrp="1"/>
          </p:cNvSpPr>
          <p:nvPr>
            <p:ph type="ftr" idx="3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87B46-D501-4981-8C4D-C37C7E62A87C}"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9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96" name="PlaceHolder 3"/>
          <p:cNvSpPr>
            <a:spLocks noGrp="1"/>
          </p:cNvSpPr>
          <p:nvPr>
            <p:ph type="dt" idx="34"/>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497" name="PlaceHolder 4"/>
          <p:cNvSpPr>
            <a:spLocks noGrp="1"/>
          </p:cNvSpPr>
          <p:nvPr>
            <p:ph type="ftr" idx="3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6"/>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000000"/>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A23CE-7A34-45D6-8F08-CC01DE2DEC55}" type="slidenum">
              <a:rPr b="0" lang="fa-IR"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5"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7" name="Right Triangle 15"/>
          <p:cNvGrpSpPr/>
          <p:nvPr/>
        </p:nvGrpSpPr>
        <p:grpSpPr>
          <a:xfrm>
            <a:off x="-6480" y="5791320"/>
            <a:ext cx="3402000" cy="1079280"/>
            <a:chOff x="-6480" y="5791320"/>
            <a:chExt cx="3402000" cy="1079280"/>
          </a:xfrm>
        </p:grpSpPr>
        <p:pic>
          <p:nvPicPr>
            <p:cNvPr id="538" name="Right Triangle 15" descr=""/>
            <p:cNvPicPr/>
            <p:nvPr/>
          </p:nvPicPr>
          <p:blipFill>
            <a:blip r:embed="rId3"/>
            <a:stretch/>
          </p:blipFill>
          <p:spPr>
            <a:xfrm>
              <a:off x="-6480" y="5791320"/>
              <a:ext cx="3402000" cy="1079280"/>
            </a:xfrm>
            <a:prstGeom prst="rect">
              <a:avLst/>
            </a:prstGeom>
            <a:ln w="0">
              <a:noFill/>
            </a:ln>
          </p:spPr>
        </p:pic>
        <p:sp>
          <p:nvSpPr>
            <p:cNvPr id="53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0" name="Straight Connector 16" descr=""/>
          <p:cNvPicPr/>
          <p:nvPr/>
        </p:nvPicPr>
        <p:blipFill>
          <a:blip r:embed="rId4"/>
          <a:stretch/>
        </p:blipFill>
        <p:spPr>
          <a:xfrm>
            <a:off x="-19080" y="5778360"/>
            <a:ext cx="3421080" cy="1098720"/>
          </a:xfrm>
          <a:prstGeom prst="rect">
            <a:avLst/>
          </a:prstGeom>
          <a:ln w="0">
            <a:noFill/>
          </a:ln>
        </p:spPr>
      </p:pic>
      <p:sp>
        <p:nvSpPr>
          <p:cNvPr id="541"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45" name="PlaceHolder 3"/>
          <p:cNvSpPr>
            <a:spLocks noGrp="1"/>
          </p:cNvSpPr>
          <p:nvPr>
            <p:ph type="dt" idx="37"/>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546" name="PlaceHolder 4"/>
          <p:cNvSpPr>
            <a:spLocks noGrp="1"/>
          </p:cNvSpPr>
          <p:nvPr>
            <p:ph type="ftr" idx="3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9"/>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B96E-7236-4DDC-A6EB-2C847DC98052}"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5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6" name="Group 1"/>
          <p:cNvGrpSpPr/>
          <p:nvPr/>
        </p:nvGrpSpPr>
        <p:grpSpPr>
          <a:xfrm>
            <a:off x="-19080" y="203040"/>
            <a:ext cx="9181080" cy="648000"/>
            <a:chOff x="-19080" y="203040"/>
            <a:chExt cx="9181080" cy="648000"/>
          </a:xfrm>
        </p:grpSpPr>
        <p:grpSp>
          <p:nvGrpSpPr>
            <p:cNvPr id="587" name="Freeform 11"/>
            <p:cNvGrpSpPr/>
            <p:nvPr/>
          </p:nvGrpSpPr>
          <p:grpSpPr>
            <a:xfrm>
              <a:off x="-19080" y="203040"/>
              <a:ext cx="9156600" cy="648000"/>
              <a:chOff x="-19080" y="203040"/>
              <a:chExt cx="9156600" cy="648000"/>
            </a:xfrm>
          </p:grpSpPr>
          <p:pic>
            <p:nvPicPr>
              <p:cNvPr id="588" name="Freeform 11" descr=""/>
              <p:cNvPicPr/>
              <p:nvPr/>
            </p:nvPicPr>
            <p:blipFill>
              <a:blip r:embed="rId2"/>
              <a:stretch/>
            </p:blipFill>
            <p:spPr>
              <a:xfrm>
                <a:off x="3960" y="203040"/>
                <a:ext cx="9133560" cy="648000"/>
              </a:xfrm>
              <a:prstGeom prst="rect">
                <a:avLst/>
              </a:prstGeom>
              <a:ln w="0">
                <a:noFill/>
              </a:ln>
            </p:spPr>
          </p:pic>
          <p:sp>
            <p:nvSpPr>
              <p:cNvPr id="5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Freeform 12"/>
            <p:cNvGrpSpPr/>
            <p:nvPr/>
          </p:nvGrpSpPr>
          <p:grpSpPr>
            <a:xfrm>
              <a:off x="-19080" y="248040"/>
              <a:ext cx="9181080" cy="561600"/>
              <a:chOff x="-19080" y="248040"/>
              <a:chExt cx="9181080" cy="561600"/>
            </a:xfrm>
          </p:grpSpPr>
          <p:pic>
            <p:nvPicPr>
              <p:cNvPr id="591" name="Freeform 12" descr=""/>
              <p:cNvPicPr/>
              <p:nvPr/>
            </p:nvPicPr>
            <p:blipFill>
              <a:blip r:embed="rId3"/>
              <a:stretch/>
            </p:blipFill>
            <p:spPr>
              <a:xfrm>
                <a:off x="-3240" y="248040"/>
                <a:ext cx="9165240" cy="561600"/>
              </a:xfrm>
              <a:prstGeom prst="rect">
                <a:avLst/>
              </a:prstGeom>
              <a:ln w="0">
                <a:noFill/>
              </a:ln>
            </p:spPr>
          </p:pic>
          <p:sp>
            <p:nvSpPr>
              <p:cNvPr id="5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95"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596"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C2F0-018E-4113-BA4A-81CFFE67F41D}" type="slidenum">
              <a:rPr b="0" lang="en-US"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6" name="Group 1"/>
          <p:cNvGrpSpPr/>
          <p:nvPr/>
        </p:nvGrpSpPr>
        <p:grpSpPr>
          <a:xfrm>
            <a:off x="-19080" y="203040"/>
            <a:ext cx="9181080" cy="648000"/>
            <a:chOff x="-19080" y="203040"/>
            <a:chExt cx="9181080" cy="648000"/>
          </a:xfrm>
        </p:grpSpPr>
        <p:grpSp>
          <p:nvGrpSpPr>
            <p:cNvPr id="637" name="Freeform 11"/>
            <p:cNvGrpSpPr/>
            <p:nvPr/>
          </p:nvGrpSpPr>
          <p:grpSpPr>
            <a:xfrm>
              <a:off x="-19080" y="203040"/>
              <a:ext cx="9156600" cy="648000"/>
              <a:chOff x="-19080" y="203040"/>
              <a:chExt cx="9156600" cy="648000"/>
            </a:xfrm>
          </p:grpSpPr>
          <p:pic>
            <p:nvPicPr>
              <p:cNvPr id="638" name="Freeform 11" descr=""/>
              <p:cNvPicPr/>
              <p:nvPr/>
            </p:nvPicPr>
            <p:blipFill>
              <a:blip r:embed="rId2"/>
              <a:stretch/>
            </p:blipFill>
            <p:spPr>
              <a:xfrm>
                <a:off x="3960" y="203040"/>
                <a:ext cx="9133560" cy="648000"/>
              </a:xfrm>
              <a:prstGeom prst="rect">
                <a:avLst/>
              </a:prstGeom>
              <a:ln w="0">
                <a:noFill/>
              </a:ln>
            </p:spPr>
          </p:pic>
          <p:sp>
            <p:nvSpPr>
              <p:cNvPr id="6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Freeform 12"/>
            <p:cNvGrpSpPr/>
            <p:nvPr/>
          </p:nvGrpSpPr>
          <p:grpSpPr>
            <a:xfrm>
              <a:off x="-19080" y="248040"/>
              <a:ext cx="9181080" cy="561600"/>
              <a:chOff x="-19080" y="248040"/>
              <a:chExt cx="9181080" cy="561600"/>
            </a:xfrm>
          </p:grpSpPr>
          <p:pic>
            <p:nvPicPr>
              <p:cNvPr id="641" name="Freeform 12" descr=""/>
              <p:cNvPicPr/>
              <p:nvPr/>
            </p:nvPicPr>
            <p:blipFill>
              <a:blip r:embed="rId3"/>
              <a:stretch/>
            </p:blipFill>
            <p:spPr>
              <a:xfrm>
                <a:off x="-3240" y="248040"/>
                <a:ext cx="9165240" cy="561600"/>
              </a:xfrm>
              <a:prstGeom prst="rect">
                <a:avLst/>
              </a:prstGeom>
              <a:ln w="0">
                <a:noFill/>
              </a:ln>
            </p:spPr>
          </p:pic>
          <p:sp>
            <p:nvSpPr>
              <p:cNvPr id="6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45"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90AE-3DDB-4E04-9C72-29488AA3A45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6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6" name="Group 1"/>
          <p:cNvGrpSpPr/>
          <p:nvPr/>
        </p:nvGrpSpPr>
        <p:grpSpPr>
          <a:xfrm>
            <a:off x="-19080" y="203040"/>
            <a:ext cx="9181080" cy="648000"/>
            <a:chOff x="-19080" y="203040"/>
            <a:chExt cx="9181080" cy="648000"/>
          </a:xfrm>
        </p:grpSpPr>
        <p:grpSp>
          <p:nvGrpSpPr>
            <p:cNvPr id="687" name="Freeform 11"/>
            <p:cNvGrpSpPr/>
            <p:nvPr/>
          </p:nvGrpSpPr>
          <p:grpSpPr>
            <a:xfrm>
              <a:off x="-19080" y="203040"/>
              <a:ext cx="9156600" cy="648000"/>
              <a:chOff x="-19080" y="203040"/>
              <a:chExt cx="9156600" cy="648000"/>
            </a:xfrm>
          </p:grpSpPr>
          <p:pic>
            <p:nvPicPr>
              <p:cNvPr id="688" name="Freeform 11" descr=""/>
              <p:cNvPicPr/>
              <p:nvPr/>
            </p:nvPicPr>
            <p:blipFill>
              <a:blip r:embed="rId2"/>
              <a:stretch/>
            </p:blipFill>
            <p:spPr>
              <a:xfrm>
                <a:off x="3960" y="203040"/>
                <a:ext cx="9133560" cy="648000"/>
              </a:xfrm>
              <a:prstGeom prst="rect">
                <a:avLst/>
              </a:prstGeom>
              <a:ln w="0">
                <a:noFill/>
              </a:ln>
            </p:spPr>
          </p:pic>
          <p:sp>
            <p:nvSpPr>
              <p:cNvPr id="6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0" name="Freeform 12"/>
            <p:cNvGrpSpPr/>
            <p:nvPr/>
          </p:nvGrpSpPr>
          <p:grpSpPr>
            <a:xfrm>
              <a:off x="-19080" y="248040"/>
              <a:ext cx="9181080" cy="561600"/>
              <a:chOff x="-19080" y="248040"/>
              <a:chExt cx="9181080" cy="561600"/>
            </a:xfrm>
          </p:grpSpPr>
          <p:pic>
            <p:nvPicPr>
              <p:cNvPr id="691" name="Freeform 12" descr=""/>
              <p:cNvPicPr/>
              <p:nvPr/>
            </p:nvPicPr>
            <p:blipFill>
              <a:blip r:embed="rId3"/>
              <a:stretch/>
            </p:blipFill>
            <p:spPr>
              <a:xfrm>
                <a:off x="-3240" y="248040"/>
                <a:ext cx="9165240" cy="561600"/>
              </a:xfrm>
              <a:prstGeom prst="rect">
                <a:avLst/>
              </a:prstGeom>
              <a:ln w="0">
                <a:noFill/>
              </a:ln>
            </p:spPr>
          </p:pic>
          <p:sp>
            <p:nvSpPr>
              <p:cNvPr id="6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95"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5"/>
          <p:cNvSpPr>
            <a:spLocks noGrp="1"/>
          </p:cNvSpPr>
          <p:nvPr>
            <p:ph type="sldNum" idx="48"/>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1eaee"/>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55C1-3744-4CB5-A08F-2E8A5E957B35}" type="slidenum">
              <a:rPr b="0" lang="ar-SA" sz="1200" spc="-1" strike="noStrike">
                <a:solidFill>
                  <a:srgbClr val="d1eaee"/>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6" name="Group 1"/>
          <p:cNvGrpSpPr/>
          <p:nvPr/>
        </p:nvGrpSpPr>
        <p:grpSpPr>
          <a:xfrm>
            <a:off x="-19080" y="203040"/>
            <a:ext cx="9181080" cy="648000"/>
            <a:chOff x="-19080" y="203040"/>
            <a:chExt cx="9181080" cy="648000"/>
          </a:xfrm>
        </p:grpSpPr>
        <p:grpSp>
          <p:nvGrpSpPr>
            <p:cNvPr id="737" name="Freeform 11"/>
            <p:cNvGrpSpPr/>
            <p:nvPr/>
          </p:nvGrpSpPr>
          <p:grpSpPr>
            <a:xfrm>
              <a:off x="-19080" y="203040"/>
              <a:ext cx="9156600" cy="648000"/>
              <a:chOff x="-19080" y="203040"/>
              <a:chExt cx="9156600" cy="648000"/>
            </a:xfrm>
          </p:grpSpPr>
          <p:pic>
            <p:nvPicPr>
              <p:cNvPr id="738" name="Freeform 11" descr=""/>
              <p:cNvPicPr/>
              <p:nvPr/>
            </p:nvPicPr>
            <p:blipFill>
              <a:blip r:embed="rId2"/>
              <a:stretch/>
            </p:blipFill>
            <p:spPr>
              <a:xfrm>
                <a:off x="3960" y="203040"/>
                <a:ext cx="9133560" cy="648000"/>
              </a:xfrm>
              <a:prstGeom prst="rect">
                <a:avLst/>
              </a:prstGeom>
              <a:ln w="0">
                <a:noFill/>
              </a:ln>
            </p:spPr>
          </p:pic>
          <p:sp>
            <p:nvSpPr>
              <p:cNvPr id="7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0" name="Freeform 12"/>
            <p:cNvGrpSpPr/>
            <p:nvPr/>
          </p:nvGrpSpPr>
          <p:grpSpPr>
            <a:xfrm>
              <a:off x="-19080" y="248040"/>
              <a:ext cx="9181080" cy="561600"/>
              <a:chOff x="-19080" y="248040"/>
              <a:chExt cx="9181080" cy="561600"/>
            </a:xfrm>
          </p:grpSpPr>
          <p:pic>
            <p:nvPicPr>
              <p:cNvPr id="741" name="Freeform 12" descr=""/>
              <p:cNvPicPr/>
              <p:nvPr/>
            </p:nvPicPr>
            <p:blipFill>
              <a:blip r:embed="rId3"/>
              <a:stretch/>
            </p:blipFill>
            <p:spPr>
              <a:xfrm>
                <a:off x="-3240" y="248040"/>
                <a:ext cx="9165240" cy="561600"/>
              </a:xfrm>
              <a:prstGeom prst="rect">
                <a:avLst/>
              </a:prstGeom>
              <a:ln w="0">
                <a:noFill/>
              </a:ln>
            </p:spPr>
          </p:pic>
          <p:sp>
            <p:nvSpPr>
              <p:cNvPr id="7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45"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26250-0584-493D-9FD4-C8D6EC4C8F5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7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6" name="Group 1"/>
          <p:cNvGrpSpPr/>
          <p:nvPr/>
        </p:nvGrpSpPr>
        <p:grpSpPr>
          <a:xfrm>
            <a:off x="-19080" y="203040"/>
            <a:ext cx="9181080" cy="648000"/>
            <a:chOff x="-19080" y="203040"/>
            <a:chExt cx="9181080" cy="648000"/>
          </a:xfrm>
        </p:grpSpPr>
        <p:grpSp>
          <p:nvGrpSpPr>
            <p:cNvPr id="787" name="Freeform 11"/>
            <p:cNvGrpSpPr/>
            <p:nvPr/>
          </p:nvGrpSpPr>
          <p:grpSpPr>
            <a:xfrm>
              <a:off x="-19080" y="203040"/>
              <a:ext cx="9156600" cy="648000"/>
              <a:chOff x="-19080" y="203040"/>
              <a:chExt cx="9156600" cy="648000"/>
            </a:xfrm>
          </p:grpSpPr>
          <p:pic>
            <p:nvPicPr>
              <p:cNvPr id="788" name="Freeform 11" descr=""/>
              <p:cNvPicPr/>
              <p:nvPr/>
            </p:nvPicPr>
            <p:blipFill>
              <a:blip r:embed="rId2"/>
              <a:stretch/>
            </p:blipFill>
            <p:spPr>
              <a:xfrm>
                <a:off x="3960" y="203040"/>
                <a:ext cx="9133560" cy="648000"/>
              </a:xfrm>
              <a:prstGeom prst="rect">
                <a:avLst/>
              </a:prstGeom>
              <a:ln w="0">
                <a:noFill/>
              </a:ln>
            </p:spPr>
          </p:pic>
          <p:sp>
            <p:nvSpPr>
              <p:cNvPr id="7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Freeform 12"/>
            <p:cNvGrpSpPr/>
            <p:nvPr/>
          </p:nvGrpSpPr>
          <p:grpSpPr>
            <a:xfrm>
              <a:off x="-19080" y="248040"/>
              <a:ext cx="9181080" cy="561600"/>
              <a:chOff x="-19080" y="248040"/>
              <a:chExt cx="9181080" cy="561600"/>
            </a:xfrm>
          </p:grpSpPr>
          <p:pic>
            <p:nvPicPr>
              <p:cNvPr id="791" name="Freeform 12" descr=""/>
              <p:cNvPicPr/>
              <p:nvPr/>
            </p:nvPicPr>
            <p:blipFill>
              <a:blip r:embed="rId3"/>
              <a:stretch/>
            </p:blipFill>
            <p:spPr>
              <a:xfrm>
                <a:off x="-3240" y="248040"/>
                <a:ext cx="9165240" cy="561600"/>
              </a:xfrm>
              <a:prstGeom prst="rect">
                <a:avLst/>
              </a:prstGeom>
              <a:ln w="0">
                <a:noFill/>
              </a:ln>
            </p:spPr>
          </p:pic>
          <p:sp>
            <p:nvSpPr>
              <p:cNvPr id="7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95"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9877-5D85-4FED-8CDF-40AD5C0A1849}"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36" name="Group 1"/>
          <p:cNvGrpSpPr/>
          <p:nvPr/>
        </p:nvGrpSpPr>
        <p:grpSpPr>
          <a:xfrm>
            <a:off x="-19080" y="203040"/>
            <a:ext cx="9181080" cy="648000"/>
            <a:chOff x="-19080" y="203040"/>
            <a:chExt cx="9181080" cy="648000"/>
          </a:xfrm>
        </p:grpSpPr>
        <p:grpSp>
          <p:nvGrpSpPr>
            <p:cNvPr id="837" name="Freeform 11"/>
            <p:cNvGrpSpPr/>
            <p:nvPr/>
          </p:nvGrpSpPr>
          <p:grpSpPr>
            <a:xfrm>
              <a:off x="-19080" y="203040"/>
              <a:ext cx="9156600" cy="648000"/>
              <a:chOff x="-19080" y="203040"/>
              <a:chExt cx="9156600" cy="648000"/>
            </a:xfrm>
          </p:grpSpPr>
          <p:pic>
            <p:nvPicPr>
              <p:cNvPr id="838" name="Freeform 11" descr=""/>
              <p:cNvPicPr/>
              <p:nvPr/>
            </p:nvPicPr>
            <p:blipFill>
              <a:blip r:embed="rId2"/>
              <a:stretch/>
            </p:blipFill>
            <p:spPr>
              <a:xfrm>
                <a:off x="3960" y="203040"/>
                <a:ext cx="9133560" cy="648000"/>
              </a:xfrm>
              <a:prstGeom prst="rect">
                <a:avLst/>
              </a:prstGeom>
              <a:ln w="0">
                <a:noFill/>
              </a:ln>
            </p:spPr>
          </p:pic>
          <p:sp>
            <p:nvSpPr>
              <p:cNvPr id="8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Freeform 12"/>
            <p:cNvGrpSpPr/>
            <p:nvPr/>
          </p:nvGrpSpPr>
          <p:grpSpPr>
            <a:xfrm>
              <a:off x="-19080" y="248040"/>
              <a:ext cx="9181080" cy="561600"/>
              <a:chOff x="-19080" y="248040"/>
              <a:chExt cx="9181080" cy="561600"/>
            </a:xfrm>
          </p:grpSpPr>
          <p:pic>
            <p:nvPicPr>
              <p:cNvPr id="841" name="Freeform 12" descr=""/>
              <p:cNvPicPr/>
              <p:nvPr/>
            </p:nvPicPr>
            <p:blipFill>
              <a:blip r:embed="rId3"/>
              <a:stretch/>
            </p:blipFill>
            <p:spPr>
              <a:xfrm>
                <a:off x="-3240" y="248040"/>
                <a:ext cx="9165240" cy="561600"/>
              </a:xfrm>
              <a:prstGeom prst="rect">
                <a:avLst/>
              </a:prstGeom>
              <a:ln w="0">
                <a:noFill/>
              </a:ln>
            </p:spPr>
          </p:pic>
          <p:sp>
            <p:nvSpPr>
              <p:cNvPr id="8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5"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0E5A7-FD36-4E8A-B2A4-AB6185F77A98}"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7"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1FB5-782E-44CD-A8A9-A0D9B6B1CB0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grpSp>
        <p:nvGrpSpPr>
          <p:cNvPr id="54" name="Group 1"/>
          <p:cNvGrpSpPr/>
          <p:nvPr/>
        </p:nvGrpSpPr>
        <p:grpSpPr>
          <a:xfrm>
            <a:off x="-19080" y="203040"/>
            <a:ext cx="9181080" cy="648000"/>
            <a:chOff x="-19080" y="203040"/>
            <a:chExt cx="9181080" cy="648000"/>
          </a:xfrm>
        </p:grpSpPr>
        <p:grpSp>
          <p:nvGrpSpPr>
            <p:cNvPr id="55" name="Freeform 11"/>
            <p:cNvGrpSpPr/>
            <p:nvPr/>
          </p:nvGrpSpPr>
          <p:grpSpPr>
            <a:xfrm>
              <a:off x="-19080" y="203040"/>
              <a:ext cx="9156600" cy="648000"/>
              <a:chOff x="-19080" y="203040"/>
              <a:chExt cx="9156600" cy="648000"/>
            </a:xfrm>
          </p:grpSpPr>
          <p:pic>
            <p:nvPicPr>
              <p:cNvPr id="56" name="Freeform 11" descr=""/>
              <p:cNvPicPr/>
              <p:nvPr/>
            </p:nvPicPr>
            <p:blipFill>
              <a:blip r:embed="rId2"/>
              <a:stretch/>
            </p:blipFill>
            <p:spPr>
              <a:xfrm>
                <a:off x="3960" y="203040"/>
                <a:ext cx="9133560" cy="648000"/>
              </a:xfrm>
              <a:prstGeom prst="rect">
                <a:avLst/>
              </a:prstGeom>
              <a:ln w="0">
                <a:noFill/>
              </a:ln>
            </p:spPr>
          </p:pic>
          <p:sp>
            <p:nvSpPr>
              <p:cNvPr id="5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19080" y="248040"/>
              <a:ext cx="9181080" cy="561600"/>
              <a:chOff x="-19080" y="248040"/>
              <a:chExt cx="9181080" cy="561600"/>
            </a:xfrm>
          </p:grpSpPr>
          <p:pic>
            <p:nvPicPr>
              <p:cNvPr id="59" name="Freeform 12" descr=""/>
              <p:cNvPicPr/>
              <p:nvPr/>
            </p:nvPicPr>
            <p:blipFill>
              <a:blip r:embed="rId3"/>
              <a:stretch/>
            </p:blipFill>
            <p:spPr>
              <a:xfrm>
                <a:off x="-3240" y="248040"/>
                <a:ext cx="9165240" cy="561600"/>
              </a:xfrm>
              <a:prstGeom prst="rect">
                <a:avLst/>
              </a:prstGeom>
              <a:ln w="0">
                <a:noFill/>
              </a:ln>
            </p:spPr>
          </p:pic>
          <p:sp>
            <p:nvSpPr>
              <p:cNvPr id="6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6" name="Group 1"/>
          <p:cNvGrpSpPr/>
          <p:nvPr/>
        </p:nvGrpSpPr>
        <p:grpSpPr>
          <a:xfrm>
            <a:off x="-19080" y="203040"/>
            <a:ext cx="9181080" cy="648000"/>
            <a:chOff x="-19080" y="203040"/>
            <a:chExt cx="9181080" cy="648000"/>
          </a:xfrm>
        </p:grpSpPr>
        <p:grpSp>
          <p:nvGrpSpPr>
            <p:cNvPr id="887" name="Freeform 11"/>
            <p:cNvGrpSpPr/>
            <p:nvPr/>
          </p:nvGrpSpPr>
          <p:grpSpPr>
            <a:xfrm>
              <a:off x="-19080" y="203040"/>
              <a:ext cx="9156600" cy="648000"/>
              <a:chOff x="-19080" y="203040"/>
              <a:chExt cx="9156600" cy="648000"/>
            </a:xfrm>
          </p:grpSpPr>
          <p:pic>
            <p:nvPicPr>
              <p:cNvPr id="888" name="Freeform 11" descr=""/>
              <p:cNvPicPr/>
              <p:nvPr/>
            </p:nvPicPr>
            <p:blipFill>
              <a:blip r:embed="rId2"/>
              <a:stretch/>
            </p:blipFill>
            <p:spPr>
              <a:xfrm>
                <a:off x="3960" y="203040"/>
                <a:ext cx="9133560" cy="648000"/>
              </a:xfrm>
              <a:prstGeom prst="rect">
                <a:avLst/>
              </a:prstGeom>
              <a:ln w="0">
                <a:noFill/>
              </a:ln>
            </p:spPr>
          </p:pic>
          <p:sp>
            <p:nvSpPr>
              <p:cNvPr id="8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0" name="Freeform 12"/>
            <p:cNvGrpSpPr/>
            <p:nvPr/>
          </p:nvGrpSpPr>
          <p:grpSpPr>
            <a:xfrm>
              <a:off x="-19080" y="248040"/>
              <a:ext cx="9181080" cy="561600"/>
              <a:chOff x="-19080" y="248040"/>
              <a:chExt cx="9181080" cy="561600"/>
            </a:xfrm>
          </p:grpSpPr>
          <p:pic>
            <p:nvPicPr>
              <p:cNvPr id="891" name="Freeform 12" descr=""/>
              <p:cNvPicPr/>
              <p:nvPr/>
            </p:nvPicPr>
            <p:blipFill>
              <a:blip r:embed="rId3"/>
              <a:stretch/>
            </p:blipFill>
            <p:spPr>
              <a:xfrm>
                <a:off x="-3240" y="248040"/>
                <a:ext cx="9165240" cy="561600"/>
              </a:xfrm>
              <a:prstGeom prst="rect">
                <a:avLst/>
              </a:prstGeom>
              <a:ln w="0">
                <a:noFill/>
              </a:ln>
            </p:spPr>
          </p:pic>
          <p:sp>
            <p:nvSpPr>
              <p:cNvPr id="8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95"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488D-B0F4-40C3-902B-7AE7F57A2025}"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4"/>
    <p:sldLayoutId id="2147483897" r:id="rId5"/>
    <p:sldLayoutId id="2147483898" r:id="rId6"/>
    <p:sldLayoutId id="2147483899" r:id="rId7"/>
    <p:sldLayoutId id="2147483900" r:id="rId8"/>
    <p:sldLayoutId id="2147483901" r:id="rId9"/>
    <p:sldLayoutId id="2147483902" r:id="rId10"/>
    <p:sldLayoutId id="2147483903" r:id="rId11"/>
    <p:sldLayoutId id="2147483904" r:id="rId12"/>
    <p:sldLayoutId id="2147483905" r:id="rId13"/>
    <p:sldLayoutId id="2147483906" r:id="rId14"/>
    <p:sldLayoutId id="2147483907" r:id="rId15"/>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3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6" name="Group 1"/>
          <p:cNvGrpSpPr/>
          <p:nvPr/>
        </p:nvGrpSpPr>
        <p:grpSpPr>
          <a:xfrm>
            <a:off x="-19080" y="203040"/>
            <a:ext cx="9181080" cy="648000"/>
            <a:chOff x="-19080" y="203040"/>
            <a:chExt cx="9181080" cy="648000"/>
          </a:xfrm>
        </p:grpSpPr>
        <p:grpSp>
          <p:nvGrpSpPr>
            <p:cNvPr id="937" name="Freeform 11"/>
            <p:cNvGrpSpPr/>
            <p:nvPr/>
          </p:nvGrpSpPr>
          <p:grpSpPr>
            <a:xfrm>
              <a:off x="-19080" y="203040"/>
              <a:ext cx="9156600" cy="648000"/>
              <a:chOff x="-19080" y="203040"/>
              <a:chExt cx="9156600" cy="648000"/>
            </a:xfrm>
          </p:grpSpPr>
          <p:pic>
            <p:nvPicPr>
              <p:cNvPr id="938" name="Freeform 11" descr=""/>
              <p:cNvPicPr/>
              <p:nvPr/>
            </p:nvPicPr>
            <p:blipFill>
              <a:blip r:embed="rId2"/>
              <a:stretch/>
            </p:blipFill>
            <p:spPr>
              <a:xfrm>
                <a:off x="3960" y="203040"/>
                <a:ext cx="9133560" cy="648000"/>
              </a:xfrm>
              <a:prstGeom prst="rect">
                <a:avLst/>
              </a:prstGeom>
              <a:ln w="0">
                <a:noFill/>
              </a:ln>
            </p:spPr>
          </p:pic>
          <p:sp>
            <p:nvSpPr>
              <p:cNvPr id="93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0" name="Freeform 12"/>
            <p:cNvGrpSpPr/>
            <p:nvPr/>
          </p:nvGrpSpPr>
          <p:grpSpPr>
            <a:xfrm>
              <a:off x="-19080" y="248040"/>
              <a:ext cx="9181080" cy="561600"/>
              <a:chOff x="-19080" y="248040"/>
              <a:chExt cx="9181080" cy="561600"/>
            </a:xfrm>
          </p:grpSpPr>
          <p:pic>
            <p:nvPicPr>
              <p:cNvPr id="941" name="Freeform 12" descr=""/>
              <p:cNvPicPr/>
              <p:nvPr/>
            </p:nvPicPr>
            <p:blipFill>
              <a:blip r:embed="rId3"/>
              <a:stretch/>
            </p:blipFill>
            <p:spPr>
              <a:xfrm>
                <a:off x="-3240" y="248040"/>
                <a:ext cx="9165240" cy="561600"/>
              </a:xfrm>
              <a:prstGeom prst="rect">
                <a:avLst/>
              </a:prstGeom>
              <a:ln w="0">
                <a:noFill/>
              </a:ln>
            </p:spPr>
          </p:pic>
          <p:sp>
            <p:nvSpPr>
              <p:cNvPr id="94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45"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E76F-890A-44F1-9BA3-238DE602C550}"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984"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6" name="Group 1"/>
          <p:cNvGrpSpPr/>
          <p:nvPr/>
        </p:nvGrpSpPr>
        <p:grpSpPr>
          <a:xfrm>
            <a:off x="-19080" y="203040"/>
            <a:ext cx="9181080" cy="648000"/>
            <a:chOff x="-19080" y="203040"/>
            <a:chExt cx="9181080" cy="648000"/>
          </a:xfrm>
        </p:grpSpPr>
        <p:grpSp>
          <p:nvGrpSpPr>
            <p:cNvPr id="987" name="Freeform 11"/>
            <p:cNvGrpSpPr/>
            <p:nvPr/>
          </p:nvGrpSpPr>
          <p:grpSpPr>
            <a:xfrm>
              <a:off x="-19080" y="203040"/>
              <a:ext cx="9156600" cy="648000"/>
              <a:chOff x="-19080" y="203040"/>
              <a:chExt cx="9156600" cy="648000"/>
            </a:xfrm>
          </p:grpSpPr>
          <p:pic>
            <p:nvPicPr>
              <p:cNvPr id="988" name="Freeform 11" descr=""/>
              <p:cNvPicPr/>
              <p:nvPr/>
            </p:nvPicPr>
            <p:blipFill>
              <a:blip r:embed="rId2"/>
              <a:stretch/>
            </p:blipFill>
            <p:spPr>
              <a:xfrm>
                <a:off x="3960" y="203040"/>
                <a:ext cx="9133560" cy="648000"/>
              </a:xfrm>
              <a:prstGeom prst="rect">
                <a:avLst/>
              </a:prstGeom>
              <a:ln w="0">
                <a:noFill/>
              </a:ln>
            </p:spPr>
          </p:pic>
          <p:sp>
            <p:nvSpPr>
              <p:cNvPr id="98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0" name="Freeform 12"/>
            <p:cNvGrpSpPr/>
            <p:nvPr/>
          </p:nvGrpSpPr>
          <p:grpSpPr>
            <a:xfrm>
              <a:off x="-19080" y="248040"/>
              <a:ext cx="9181080" cy="561600"/>
              <a:chOff x="-19080" y="248040"/>
              <a:chExt cx="9181080" cy="561600"/>
            </a:xfrm>
          </p:grpSpPr>
          <p:pic>
            <p:nvPicPr>
              <p:cNvPr id="991" name="Freeform 12" descr=""/>
              <p:cNvPicPr/>
              <p:nvPr/>
            </p:nvPicPr>
            <p:blipFill>
              <a:blip r:embed="rId3"/>
              <a:stretch/>
            </p:blipFill>
            <p:spPr>
              <a:xfrm>
                <a:off x="-3240" y="248040"/>
                <a:ext cx="9165240" cy="561600"/>
              </a:xfrm>
              <a:prstGeom prst="rect">
                <a:avLst/>
              </a:prstGeom>
              <a:ln w="0">
                <a:noFill/>
              </a:ln>
            </p:spPr>
          </p:pic>
          <p:sp>
            <p:nvSpPr>
              <p:cNvPr id="99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9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99"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PlaceHolder 5"/>
          <p:cNvSpPr>
            <a:spLocks noGrp="1"/>
          </p:cNvSpPr>
          <p:nvPr>
            <p:ph type="sldNum" idx="6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639C8-7E48-4ABF-AF97-9D6A86C7782F}"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3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0" name="Group 1"/>
          <p:cNvGrpSpPr/>
          <p:nvPr/>
        </p:nvGrpSpPr>
        <p:grpSpPr>
          <a:xfrm>
            <a:off x="-19080" y="203040"/>
            <a:ext cx="9181080" cy="648000"/>
            <a:chOff x="-19080" y="203040"/>
            <a:chExt cx="9181080" cy="648000"/>
          </a:xfrm>
        </p:grpSpPr>
        <p:grpSp>
          <p:nvGrpSpPr>
            <p:cNvPr id="1041" name="Freeform 11"/>
            <p:cNvGrpSpPr/>
            <p:nvPr/>
          </p:nvGrpSpPr>
          <p:grpSpPr>
            <a:xfrm>
              <a:off x="-19080" y="203040"/>
              <a:ext cx="9156600" cy="648000"/>
              <a:chOff x="-19080" y="203040"/>
              <a:chExt cx="9156600" cy="648000"/>
            </a:xfrm>
          </p:grpSpPr>
          <p:pic>
            <p:nvPicPr>
              <p:cNvPr id="1042" name="Freeform 11" descr=""/>
              <p:cNvPicPr/>
              <p:nvPr/>
            </p:nvPicPr>
            <p:blipFill>
              <a:blip r:embed="rId2"/>
              <a:stretch/>
            </p:blipFill>
            <p:spPr>
              <a:xfrm>
                <a:off x="3960" y="203040"/>
                <a:ext cx="9133560" cy="648000"/>
              </a:xfrm>
              <a:prstGeom prst="rect">
                <a:avLst/>
              </a:prstGeom>
              <a:ln w="0">
                <a:noFill/>
              </a:ln>
            </p:spPr>
          </p:pic>
          <p:sp>
            <p:nvSpPr>
              <p:cNvPr id="104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Freeform 12"/>
            <p:cNvGrpSpPr/>
            <p:nvPr/>
          </p:nvGrpSpPr>
          <p:grpSpPr>
            <a:xfrm>
              <a:off x="-19080" y="248040"/>
              <a:ext cx="9181080" cy="561600"/>
              <a:chOff x="-19080" y="248040"/>
              <a:chExt cx="9181080" cy="561600"/>
            </a:xfrm>
          </p:grpSpPr>
          <p:pic>
            <p:nvPicPr>
              <p:cNvPr id="1045" name="Freeform 12" descr=""/>
              <p:cNvPicPr/>
              <p:nvPr/>
            </p:nvPicPr>
            <p:blipFill>
              <a:blip r:embed="rId3"/>
              <a:stretch/>
            </p:blipFill>
            <p:spPr>
              <a:xfrm>
                <a:off x="-3240" y="248040"/>
                <a:ext cx="9165240" cy="561600"/>
              </a:xfrm>
              <a:prstGeom prst="rect">
                <a:avLst/>
              </a:prstGeom>
              <a:ln w="0">
                <a:noFill/>
              </a:ln>
            </p:spPr>
          </p:pic>
          <p:sp>
            <p:nvSpPr>
              <p:cNvPr id="104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9"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7FA35-E4DA-4661-9899-B6D835537C7E}"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4"/>
    <p:sldLayoutId id="2147483936" r:id="rId5"/>
    <p:sldLayoutId id="2147483937" r:id="rId6"/>
    <p:sldLayoutId id="2147483938" r:id="rId7"/>
    <p:sldLayoutId id="2147483939" r:id="rId8"/>
    <p:sldLayoutId id="2147483940" r:id="rId9"/>
    <p:sldLayoutId id="2147483941" r:id="rId10"/>
    <p:sldLayoutId id="2147483942" r:id="rId11"/>
    <p:sldLayoutId id="2147483943" r:id="rId12"/>
    <p:sldLayoutId id="2147483944" r:id="rId13"/>
    <p:sldLayoutId id="2147483945" r:id="rId14"/>
    <p:sldLayoutId id="2147483946" r:id="rId15"/>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088"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0" name="Group 1"/>
          <p:cNvGrpSpPr/>
          <p:nvPr/>
        </p:nvGrpSpPr>
        <p:grpSpPr>
          <a:xfrm>
            <a:off x="-19080" y="203040"/>
            <a:ext cx="9181080" cy="648000"/>
            <a:chOff x="-19080" y="203040"/>
            <a:chExt cx="9181080" cy="648000"/>
          </a:xfrm>
        </p:grpSpPr>
        <p:grpSp>
          <p:nvGrpSpPr>
            <p:cNvPr id="1091" name="Freeform 11"/>
            <p:cNvGrpSpPr/>
            <p:nvPr/>
          </p:nvGrpSpPr>
          <p:grpSpPr>
            <a:xfrm>
              <a:off x="-19080" y="203040"/>
              <a:ext cx="9156600" cy="648000"/>
              <a:chOff x="-19080" y="203040"/>
              <a:chExt cx="9156600" cy="648000"/>
            </a:xfrm>
          </p:grpSpPr>
          <p:pic>
            <p:nvPicPr>
              <p:cNvPr id="1092" name="Freeform 11" descr=""/>
              <p:cNvPicPr/>
              <p:nvPr/>
            </p:nvPicPr>
            <p:blipFill>
              <a:blip r:embed="rId2"/>
              <a:stretch/>
            </p:blipFill>
            <p:spPr>
              <a:xfrm>
                <a:off x="3960" y="203040"/>
                <a:ext cx="9133560" cy="648000"/>
              </a:xfrm>
              <a:prstGeom prst="rect">
                <a:avLst/>
              </a:prstGeom>
              <a:ln w="0">
                <a:noFill/>
              </a:ln>
            </p:spPr>
          </p:pic>
          <p:sp>
            <p:nvSpPr>
              <p:cNvPr id="109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4" name="Freeform 12"/>
            <p:cNvGrpSpPr/>
            <p:nvPr/>
          </p:nvGrpSpPr>
          <p:grpSpPr>
            <a:xfrm>
              <a:off x="-19080" y="248040"/>
              <a:ext cx="9181080" cy="561600"/>
              <a:chOff x="-19080" y="248040"/>
              <a:chExt cx="9181080" cy="561600"/>
            </a:xfrm>
          </p:grpSpPr>
          <p:pic>
            <p:nvPicPr>
              <p:cNvPr id="1095" name="Freeform 12" descr=""/>
              <p:cNvPicPr/>
              <p:nvPr/>
            </p:nvPicPr>
            <p:blipFill>
              <a:blip r:embed="rId3"/>
              <a:stretch/>
            </p:blipFill>
            <p:spPr>
              <a:xfrm>
                <a:off x="-3240" y="248040"/>
                <a:ext cx="9165240" cy="561600"/>
              </a:xfrm>
              <a:prstGeom prst="rect">
                <a:avLst/>
              </a:prstGeom>
              <a:ln w="0">
                <a:noFill/>
              </a:ln>
            </p:spPr>
          </p:pic>
          <p:sp>
            <p:nvSpPr>
              <p:cNvPr id="109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9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99"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45c75"/>
                </a:solidFill>
                <a:latin typeface="Times New Roman"/>
                <a:ea typeface="Majalla U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4E275-7E19-45FF-9BF6-EDCF0C7E1CAB}" type="slidenum">
              <a:rPr b="0" lang="ar-SA" sz="1200" spc="-1" strike="noStrike">
                <a:solidFill>
                  <a:srgbClr val="045c75"/>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41"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4BF8-B86D-48BC-A376-821A7C208D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182"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2EB7-3624-402F-BCCB-C3BD6F29DC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23"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A58D-4DCE-4E5C-8B63-43BF3AF915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6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24C4-A6D0-401E-AAFD-CB6A463092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05"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65A34-C2B5-4A51-9B0B-3D174C7DFF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CC39-6A38-44FA-A9F7-0D74A367E3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46"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9B0F9-D742-4764-B2D9-0B38B0CDEF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87"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00BEA-4C8B-4BB0-9382-0146538817E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28"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D5776-F003-46E5-896A-5D63AD28A4A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69"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37DA-3EF2-4D7F-8273-12B04227A4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10"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C0EA6-3685-489D-8F3B-599DF02B33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51"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DB58-D0A2-4D37-9090-E057B45C23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92"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0902F-56A7-4F9C-8953-C5543A1E726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33"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4"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E23AE-3277-44E9-84FD-C6FFB5A225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74"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75031-7139-4E6C-8AC6-F3D91ED5107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5"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B18F-A458-41AC-AC69-B82EC285EC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4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804C-3CFB-4896-9C8D-EE5AAD6D1A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56"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7"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7EC5-C44F-49CA-B6E3-6736E89C2E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97"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8"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68B6B-68D4-48B5-A5FA-525387AC310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B0464-5E4A-4D98-8BF0-84EA0E0579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79"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0"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ABFC-2110-4A97-B746-4B861B6913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20"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4CD7-0942-4862-8A42-39DDF5C29E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961"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2"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B61C3-6864-4735-B112-4E8F9772F5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02"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3"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1752-49BC-418F-ABE7-F47FCEB493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43"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91A1-0954-4F2B-B7CD-C569CFC346A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084"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A383-6DC1-48A4-8C68-66C53FD729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25"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6"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C7B7-F115-4828-9ACE-FD63D5D00B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F740-3F58-4D0D-9CEA-26972A5BCC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66"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7"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17E42-536C-4356-8371-EF21B60EAA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07"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CC42-D857-441D-B9A6-424ABE73EB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48"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9"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6572A-10C3-4A1A-9397-1724AE9FAF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89"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B34C3-6A99-4F0D-8760-5313558F52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30"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1"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9760-0F23-442A-B8B9-60E3FB5120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371"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2"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EA20-34D1-4859-AEC0-96AFF53544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12"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3"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212D-8926-42DB-B2CE-D9F491DD43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53"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4"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83247-79ED-4240-8FA9-1DB566A524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494"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5"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2EE6-093E-48F7-8026-F6B091AD66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35"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6"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CE72-F1F7-4A26-B92C-F0193802CE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FB8C1-E84C-44F1-A1AB-FE6DC96780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76"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44D6-1802-456D-9792-6049A0EA5BC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17"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8"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5685-B614-4EB2-AD1E-F7CD6D394C2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58"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9"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3890-D7D7-4F62-8D3F-D8634DF174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699"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0"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AAA73-DF61-46AC-80D7-C0CC9170146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40"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1"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23EF-2730-4316-8AC9-12908C7EAB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781"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2"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9D55D-F2F4-4CE1-AA34-1657AA57AA0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22"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3"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85C78-9105-4908-B345-7E5D2FD272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863"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4"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499CC-EACE-4F3C-8490-53BF12C4B55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04"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5"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C7E38-8786-4D3A-A7A3-B587C15764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15"/>
          <p:cNvGrpSpPr/>
          <p:nvPr/>
        </p:nvGrpSpPr>
        <p:grpSpPr>
          <a:xfrm>
            <a:off x="-3240" y="4952880"/>
            <a:ext cx="9147240" cy="1911600"/>
            <a:chOff x="-3240" y="4952880"/>
            <a:chExt cx="9147240" cy="1911600"/>
          </a:xfrm>
        </p:grpSpPr>
        <p:sp>
          <p:nvSpPr>
            <p:cNvPr id="263"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5" name="Freeform 18"/>
            <p:cNvGrpSpPr/>
            <p:nvPr/>
          </p:nvGrpSpPr>
          <p:grpSpPr>
            <a:xfrm>
              <a:off x="8640" y="4998600"/>
              <a:ext cx="9129240" cy="1865880"/>
              <a:chOff x="8640" y="4998600"/>
              <a:chExt cx="9129240" cy="1865880"/>
            </a:xfrm>
          </p:grpSpPr>
          <p:pic>
            <p:nvPicPr>
              <p:cNvPr id="266" name="Freeform 18" descr=""/>
              <p:cNvPicPr/>
              <p:nvPr/>
            </p:nvPicPr>
            <p:blipFill>
              <a:blip r:embed="rId2"/>
              <a:stretch/>
            </p:blipFill>
            <p:spPr>
              <a:xfrm>
                <a:off x="8640" y="4998600"/>
                <a:ext cx="9129240" cy="1865880"/>
              </a:xfrm>
              <a:prstGeom prst="rect">
                <a:avLst/>
              </a:prstGeom>
              <a:ln w="0">
                <a:noFill/>
              </a:ln>
            </p:spPr>
          </p:pic>
          <p:sp>
            <p:nvSpPr>
              <p:cNvPr id="267"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68" name="Straight Connector 19" descr=""/>
            <p:cNvPicPr/>
            <p:nvPr/>
          </p:nvPicPr>
          <p:blipFill>
            <a:blip r:embed="rId3"/>
            <a:stretch/>
          </p:blipFill>
          <p:spPr>
            <a:xfrm>
              <a:off x="-3240" y="4992480"/>
              <a:ext cx="9147240" cy="804960"/>
            </a:xfrm>
            <a:prstGeom prst="rect">
              <a:avLst/>
            </a:prstGeom>
            <a:ln w="0">
              <a:noFill/>
            </a:ln>
          </p:spPr>
        </p:pic>
      </p:grpSp>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7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lgn="r" rtl="1">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1"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5422-CB77-4C81-9273-BD2B89459597}" type="slidenum">
              <a:rPr b="0" lang="fa-IR"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2" name="Right Triangle 13"/>
          <p:cNvGrpSpPr/>
          <p:nvPr/>
        </p:nvGrpSpPr>
        <p:grpSpPr>
          <a:xfrm>
            <a:off x="-6480" y="5791320"/>
            <a:ext cx="3402000" cy="1079280"/>
            <a:chOff x="-6480" y="5791320"/>
            <a:chExt cx="3402000" cy="1079280"/>
          </a:xfrm>
        </p:grpSpPr>
        <p:pic>
          <p:nvPicPr>
            <p:cNvPr id="313" name="Right Triangle 13" descr=""/>
            <p:cNvPicPr/>
            <p:nvPr/>
          </p:nvPicPr>
          <p:blipFill>
            <a:blip r:embed="rId3"/>
            <a:stretch/>
          </p:blipFill>
          <p:spPr>
            <a:xfrm>
              <a:off x="-6480" y="5791320"/>
              <a:ext cx="3402000" cy="1079280"/>
            </a:xfrm>
            <a:prstGeom prst="rect">
              <a:avLst/>
            </a:prstGeom>
            <a:ln w="0">
              <a:noFill/>
            </a:ln>
          </p:spPr>
        </p:pic>
        <p:sp>
          <p:nvSpPr>
            <p:cNvPr id="31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5" name="Straight Connector 14" descr=""/>
          <p:cNvPicPr/>
          <p:nvPr/>
        </p:nvPicPr>
        <p:blipFill>
          <a:blip r:embed="rId4"/>
          <a:stretch/>
        </p:blipFill>
        <p:spPr>
          <a:xfrm>
            <a:off x="-19080" y="5778360"/>
            <a:ext cx="3421080" cy="1098720"/>
          </a:xfrm>
          <a:prstGeom prst="rect">
            <a:avLst/>
          </a:prstGeom>
          <a:ln w="0">
            <a:noFill/>
          </a:ln>
        </p:spPr>
      </p:pic>
      <p:sp>
        <p:nvSpPr>
          <p:cNvPr id="316"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1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20"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21"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4891-13A9-4907-9837-A0266CC237CE}"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Right Triangle 13"/>
          <p:cNvGrpSpPr/>
          <p:nvPr/>
        </p:nvGrpSpPr>
        <p:grpSpPr>
          <a:xfrm>
            <a:off x="-6480" y="5791320"/>
            <a:ext cx="3402000" cy="1079280"/>
            <a:chOff x="-6480" y="5791320"/>
            <a:chExt cx="3402000" cy="1079280"/>
          </a:xfrm>
        </p:grpSpPr>
        <p:pic>
          <p:nvPicPr>
            <p:cNvPr id="362" name="Right Triangle 13" descr=""/>
            <p:cNvPicPr/>
            <p:nvPr/>
          </p:nvPicPr>
          <p:blipFill>
            <a:blip r:embed="rId3"/>
            <a:stretch/>
          </p:blipFill>
          <p:spPr>
            <a:xfrm>
              <a:off x="-6480" y="5791320"/>
              <a:ext cx="3402000" cy="1079280"/>
            </a:xfrm>
            <a:prstGeom prst="rect">
              <a:avLst/>
            </a:prstGeom>
            <a:ln w="0">
              <a:noFill/>
            </a:ln>
          </p:spPr>
        </p:pic>
        <p:sp>
          <p:nvSpPr>
            <p:cNvPr id="36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4" name="Straight Connector 14" descr=""/>
          <p:cNvPicPr/>
          <p:nvPr/>
        </p:nvPicPr>
        <p:blipFill>
          <a:blip r:embed="rId4"/>
          <a:stretch/>
        </p:blipFill>
        <p:spPr>
          <a:xfrm>
            <a:off x="-19080" y="5778360"/>
            <a:ext cx="3421080" cy="1098720"/>
          </a:xfrm>
          <a:prstGeom prst="rect">
            <a:avLst/>
          </a:prstGeom>
          <a:ln w="0">
            <a:noFill/>
          </a:ln>
        </p:spPr>
      </p:pic>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6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lgn="r" rtl="1">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lgn="r" rtl="1">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lgn="r" rtl="1">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lgn="r" rtl="1">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7"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68"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000" spc="-1" strike="noStrike">
                <a:solidFill>
                  <a:srgbClr val="ffffff"/>
                </a:solidFill>
                <a:latin typeface="Lucida Sans Unicode"/>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30D68-6CBC-4482-A82B-637BE4D12A5A}" type="slidenum">
              <a:rPr b="0" lang="fa-IR"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6.xml.rels><?xml version="1.0" encoding="UTF-8"?>
<Relationships xmlns="http://schemas.openxmlformats.org/package/2006/relationships"><Relationship Id="rId1" Type="http://schemas.openxmlformats.org/officeDocument/2006/relationships/hyperlink" Target="file:///&#1662;&#1740;&#1608;&#1587;&#1578;1.pdf" TargetMode="External"/><Relationship Id="rId2" Type="http://schemas.openxmlformats.org/officeDocument/2006/relationships/slideLayout" Target="../slideLayouts/slideLayout56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6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xml.rels><?xml version="1.0" encoding="UTF-8"?>
<Relationships xmlns="http://schemas.openxmlformats.org/package/2006/relationships"><Relationship Id="rId1"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8.jpeg"/><Relationship Id="rId3" Type="http://schemas.openxmlformats.org/officeDocument/2006/relationships/slideLayout" Target="../slideLayouts/slideLayout697.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697.xml"/>
</Relationships>
</file>

<file path=ppt/slides/_rels/slide22.xml.rels><?xml version="1.0" encoding="UTF-8"?>
<Relationships xmlns="http://schemas.openxmlformats.org/package/2006/relationships"><Relationship Id="rId1" Type="http://schemas.openxmlformats.org/officeDocument/2006/relationships/hyperlink" Target="http://www.21learn.org/arch/articles/brown_seely.html" TargetMode="External"/><Relationship Id="rId2" Type="http://schemas.openxmlformats.org/officeDocument/2006/relationships/hyperlink" Target="http://www.uwo.ca/" TargetMode="External"/><Relationship Id="rId3" Type="http://schemas.openxmlformats.org/officeDocument/2006/relationships/image" Target="../media/image22.jpeg"/><Relationship Id="rId4" Type="http://schemas.openxmlformats.org/officeDocument/2006/relationships/slideLayout" Target="../slideLayouts/slideLayout697.xml"/>
</Relationships>
</file>

<file path=ppt/slides/_rels/slide3.xml.rels><?xml version="1.0" encoding="UTF-8"?>
<Relationships xmlns="http://schemas.openxmlformats.org/package/2006/relationships"><Relationship Id="rId1" Type="http://schemas.openxmlformats.org/officeDocument/2006/relationships/hyperlink" Target="http://www.google.com/imgres?imgurl=http://www.22kh1388.ir/wp-content/uploads/2010/08/321.jpg&amp;imgrefurl=http://www.22kh1388.ir/&amp;docid=aD4107f2BBbvDM&amp;tbnid=1wlOyfQYm3_3pM&amp;w=400&amp;h=595&amp;ei=LTSjUayTOqnD4APemYDQDw&amp;ved=0CAkQxiAwBw&amp;iact=ricl" TargetMode="External"/><Relationship Id="rId2" Type="http://schemas.openxmlformats.org/officeDocument/2006/relationships/image" Target="../media/image13.jpeg"/><Relationship Id="rId3" Type="http://schemas.openxmlformats.org/officeDocument/2006/relationships/hyperlink" Target="http://www.google.com/url?sa=i&amp;rct=j&amp;q=&#1662;&#1585;&#1670;&#1605;+&#1575;&#1740;&#1585;&#1575;&#1606;+&#1605;&#1578;&#1581;&#1585;&#1705;+gif&amp;source=images&amp;cd=&amp;cad=rja&amp;docid=Sg89K_8pTF7FUM&amp;tbnid=mK7197zEm7NLLM:&amp;ved=0CAUQjRw&amp;url=http://feryz.blogfa.com/post/519&amp;ei=tCejUbT8D6PC0QWV14DwCg&amp;psig=AFQjCNFf8TFOi-SCaS0BuTAuEQbzrhNmHA&amp;ust=1369733398332990" TargetMode="External"/><Relationship Id="rId4" Type="http://schemas.openxmlformats.org/officeDocument/2006/relationships/image" Target="../media/image11.png"/><Relationship Id="rId5"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0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0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0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2" name="WordArt 2"/>
          <p:cNvSpPr txBox="1"/>
          <p:nvPr/>
        </p:nvSpPr>
        <p:spPr>
          <a:xfrm>
            <a:off x="1371600" y="1905120"/>
            <a:ext cx="5638680" cy="4572000"/>
          </a:xfrm>
          <a:prstGeom prst="rect">
            <a:avLst/>
          </a:prstGeom>
        </p:spPr>
        <p:txBody>
          <a:bodyPr wrap="none" fromWordArt="1" lIns="90000" rIns="90000" tIns="46800" bIns="46800" anchor="t" anchorCtr="1">
            <a:prstTxWarp prst="textArchUp">
              <a:avLst>
                <a:gd name="adj" fmla="val 10800005"/>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cap="sq" w="19080">
                  <a:solidFill>
                    <a:srgbClr val="99ccff"/>
                  </a:solidFill>
                  <a:miter/>
                </a:ln>
                <a:solidFill>
                  <a:srgbClr val="ff8119"/>
                </a:solidFill>
                <a:latin typeface="Times New Roman"/>
              </a:rPr>
              <a:t>به نام خداوند عليم </a:t>
            </a: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cap="sq" w="19080">
                <a:solidFill>
                  <a:srgbClr val="99ccff"/>
                </a:solidFill>
                <a:miter/>
              </a:ln>
              <a:solidFill>
                <a:srgbClr val="ff8119"/>
              </a:solidFill>
              <a:latin typeface="Times New Roman"/>
              <a:ea typeface="Times New Roman"/>
            </a:endParaRPr>
          </a:p>
        </p:txBody>
      </p:sp>
      <p:pic>
        <p:nvPicPr>
          <p:cNvPr id="2943" name="Picture 3" descr="Copy of ir_flag1"/>
          <p:cNvPicPr/>
          <p:nvPr/>
        </p:nvPicPr>
        <p:blipFill>
          <a:blip r:embed="rId1"/>
          <a:stretch/>
        </p:blipFill>
        <p:spPr>
          <a:xfrm>
            <a:off x="3124080" y="2209680"/>
            <a:ext cx="2316240" cy="1752840"/>
          </a:xfrm>
          <a:prstGeom prst="rect">
            <a:avLst/>
          </a:prstGeom>
          <a:ln w="0">
            <a:noFill/>
          </a:ln>
        </p:spPr>
      </p:pic>
      <p:sp>
        <p:nvSpPr>
          <p:cNvPr id="2944" name="Text Box 4"/>
          <p:cNvSpPr/>
          <p:nvPr/>
        </p:nvSpPr>
        <p:spPr>
          <a:xfrm>
            <a:off x="457200" y="4572000"/>
            <a:ext cx="7696080" cy="592200"/>
          </a:xfrm>
          <a:prstGeom prst="rect">
            <a:avLst/>
          </a:prstGeom>
          <a:noFill/>
          <a:ln w="0">
            <a:noFill/>
          </a:ln>
        </p:spPr>
        <p:style>
          <a:lnRef idx="0"/>
          <a:fillRef idx="0"/>
          <a:effectRef idx="0"/>
          <a:fontRef idx="minor"/>
        </p:style>
        <p:txBody>
          <a:bodyPr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5" name="Rectangle 4"/>
          <p:cNvSpPr/>
          <p:nvPr/>
        </p:nvSpPr>
        <p:spPr>
          <a:xfrm>
            <a:off x="228600" y="4419720"/>
            <a:ext cx="8686800" cy="9457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70c0"/>
                </a:solidFill>
                <a:latin typeface="Times New Roman"/>
                <a:cs typeface="B Titr"/>
              </a:rPr>
              <a:t>فبشر عبادالذين يستمعون القول فيتبعون احسنه اولئك الذين هداهم الله واولئك هم اولوالباب </a:t>
            </a:r>
            <a:r>
              <a:rPr b="1" lang="fa-IR" sz="800" spc="-1" strike="noStrike">
                <a:solidFill>
                  <a:srgbClr val="0070c0"/>
                </a:solidFill>
                <a:latin typeface="Times New Roman"/>
                <a:ea typeface="B Titr"/>
              </a:rPr>
              <a:t>(سوره ي زمر آيه</a:t>
            </a:r>
            <a:r>
              <a:rPr b="1" lang="fa-IR" sz="800" spc="-1" strike="noStrike">
                <a:solidFill>
                  <a:srgbClr val="0070c0"/>
                </a:solidFill>
                <a:latin typeface="Times New Roman"/>
                <a:ea typeface="B Titr"/>
              </a:rPr>
              <a:t>17</a:t>
            </a:r>
            <a:r>
              <a:rPr b="1" lang="fa-IR" sz="800" spc="-1" strike="noStrike">
                <a:solidFill>
                  <a:srgbClr val="0070c0"/>
                </a:solidFill>
                <a:latin typeface="Times New Roman"/>
                <a:ea typeface="B Titr"/>
              </a:rPr>
              <a:t> و</a:t>
            </a:r>
            <a:r>
              <a:rPr b="1" lang="fa-IR" sz="800" spc="-1" strike="noStrike">
                <a:solidFill>
                  <a:srgbClr val="0070c0"/>
                </a:solidFill>
                <a:latin typeface="Times New Roman"/>
                <a:ea typeface="B Titr"/>
              </a:rPr>
              <a:t>18</a:t>
            </a:r>
            <a:r>
              <a:rPr b="1" lang="fa-IR" sz="800" spc="-1" strike="noStrike">
                <a:solidFill>
                  <a:srgbClr val="0070c0"/>
                </a:solidFill>
                <a:latin typeface="Times New Roman"/>
                <a:ea typeface="B Titr"/>
              </a:rPr>
              <a:t>)</a:t>
            </a: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B Titr"/>
              </a:rPr>
              <a:t>«پس مژده ده بندگان مرا آنان كه مي شنوند سخن را وپيروي مي كنند از نيكوترين آن ؛ </a:t>
            </a:r>
            <a:endParaRPr b="0" lang="en-US" sz="1600" spc="-1" strike="noStrike">
              <a:solidFill>
                <a:srgbClr val="000000"/>
              </a:solidFill>
              <a:latin typeface="Arial"/>
            </a:endParaRPr>
          </a:p>
        </p:txBody>
      </p:sp>
    </p:spTree>
  </p:cSld>
  <p:transition>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u="sng">
                <a:solidFill>
                  <a:srgbClr val="ff0000"/>
                </a:solidFill>
                <a:uFillTx/>
                <a:latin typeface="Calibri"/>
                <a:cs typeface="B Nazanin"/>
              </a:rPr>
              <a:t>سؤال و فرضیه‌های پژوهشی در دو بخش کیفی و کمی</a:t>
            </a:r>
            <a:br>
              <a:rPr sz="2400"/>
            </a:br>
            <a:endParaRPr b="0" lang="en-US" sz="2800" spc="-1" strike="noStrike">
              <a:solidFill>
                <a:srgbClr val="000000"/>
              </a:solidFill>
              <a:latin typeface="Calibri"/>
            </a:endParaRPr>
          </a:p>
        </p:txBody>
      </p:sp>
      <p:sp>
        <p:nvSpPr>
          <p:cNvPr id="2970" name=""/>
          <p:cNvSpPr txBox="1"/>
          <p:nvPr/>
        </p:nvSpPr>
        <p:spPr>
          <a:xfrm>
            <a:off x="179280" y="1125360"/>
            <a:ext cx="8785440" cy="5616720"/>
          </a:xfrm>
          <a:prstGeom prst="rect">
            <a:avLst/>
          </a:prstGeom>
          <a:noFill/>
          <a:ln w="0">
            <a:noFill/>
          </a:ln>
        </p:spPr>
        <p:txBody>
          <a:bodyPr anchor="t">
            <a:normAutofit fontScale="83000"/>
          </a:bodyPr>
          <a:p>
            <a:pPr algn="just"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سؤال بخش کیف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سؤال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با توجه به اسناد و گزارش‌های کارگروه‌های کارورزی از اولین دورة اجرای برنامة کارورزی دانشگاه فرهنگیان، چه موانعی از کاربست موفق برنامة جدید کارورزی در تربیت معلم فکور جلوگیری می‌کنند؟</a:t>
            </a:r>
            <a:endParaRPr b="0" lang="en-US" sz="1800" spc="-1" strike="noStrike">
              <a:solidFill>
                <a:srgbClr val="000000"/>
              </a:solidFill>
              <a:latin typeface="Calibri"/>
            </a:endParaRPr>
          </a:p>
          <a:p>
            <a:pPr algn="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7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0000"/>
                </a:solidFill>
                <a:latin typeface="Calibri"/>
                <a:cs typeface="B Nazanin"/>
              </a:rPr>
              <a:t>فرضیه‌های بخش کمی</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1</a:t>
            </a:r>
            <a:r>
              <a:rPr b="1" lang="fa-IR" sz="1800" spc="-1" strike="noStrike">
                <a:solidFill>
                  <a:srgbClr val="000000"/>
                </a:solidFill>
                <a:latin typeface="Calibri"/>
                <a:ea typeface="B Nazanin"/>
              </a:rPr>
              <a:t>. عوامل شناسایی شده (مدیریتی/ ساختاری، مالی، برنامه و رویکردهای نظری، ارزشیابی و نظارت، انسانی و ارتباطی) مانع کاربست موفق برنامة جدید کارورزی در تربیت معلم فکور هست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2</a:t>
            </a:r>
            <a:r>
              <a:rPr b="1" lang="fa-IR" sz="1800" spc="-1" strike="noStrike">
                <a:solidFill>
                  <a:srgbClr val="000000"/>
                </a:solidFill>
                <a:latin typeface="Calibri"/>
                <a:ea typeface="B Nazanin"/>
              </a:rPr>
              <a:t>. عوامل مدیریتی/ ساختا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3</a:t>
            </a:r>
            <a:r>
              <a:rPr b="1" lang="fa-IR" sz="1800" spc="-1" strike="noStrike">
                <a:solidFill>
                  <a:srgbClr val="000000"/>
                </a:solidFill>
                <a:latin typeface="Calibri"/>
                <a:ea typeface="B Nazanin"/>
              </a:rPr>
              <a:t>. عوامل مال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4</a:t>
            </a:r>
            <a:r>
              <a:rPr b="1" lang="fa-IR" sz="1800" spc="-1" strike="noStrike">
                <a:solidFill>
                  <a:srgbClr val="000000"/>
                </a:solidFill>
                <a:latin typeface="Calibri"/>
                <a:ea typeface="B Nazanin"/>
              </a:rPr>
              <a:t>. عوامل برنامه‌ای و رویکردهای نظر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5</a:t>
            </a:r>
            <a:r>
              <a:rPr b="1" lang="fa-IR" sz="1800" spc="-1" strike="noStrike">
                <a:solidFill>
                  <a:srgbClr val="000000"/>
                </a:solidFill>
                <a:latin typeface="Calibri"/>
                <a:ea typeface="B Nazanin"/>
              </a:rPr>
              <a:t>. عوامل نظارتی و ارزشیاب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6</a:t>
            </a:r>
            <a:r>
              <a:rPr b="1" lang="fa-IR" sz="1800" spc="-1" strike="noStrike">
                <a:solidFill>
                  <a:srgbClr val="000000"/>
                </a:solidFill>
                <a:latin typeface="Calibri"/>
                <a:ea typeface="B Nazanin"/>
              </a:rPr>
              <a:t>. عوامل انسانی و ارتباطی از موانع کاربست موفق برنامة جدید کارورزی در تربیت معلم فکورند.</a:t>
            </a:r>
            <a:endParaRPr b="0" lang="en-US" sz="1800" spc="-1" strike="noStrike">
              <a:solidFill>
                <a:srgbClr val="000000"/>
              </a:solidFill>
              <a:latin typeface="Calibri"/>
            </a:endParaRPr>
          </a:p>
          <a:p>
            <a:pPr algn="r" rtl="1">
              <a:lnSpc>
                <a:spcPct val="107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alibri"/>
                <a:cs typeface="B Nazanin"/>
              </a:rPr>
              <a:t>فرضیة </a:t>
            </a:r>
            <a:r>
              <a:rPr b="1" lang="fa-IR" sz="1800" spc="-1" strike="noStrike">
                <a:solidFill>
                  <a:srgbClr val="000000"/>
                </a:solidFill>
                <a:latin typeface="Calibri"/>
                <a:ea typeface="B Nazanin"/>
              </a:rPr>
              <a:t>7</a:t>
            </a:r>
            <a:r>
              <a:rPr b="1" lang="fa-IR" sz="1800" spc="-1" strike="noStrike">
                <a:solidFill>
                  <a:srgbClr val="000000"/>
                </a:solidFill>
                <a:latin typeface="Calibri"/>
                <a:ea typeface="B Nazanin"/>
              </a:rPr>
              <a:t>. بین نظرات مدرسان دربارة میزان تأثیر هر یک از موانع بر اجرای برنامة کارورزی براساس سابقة تدریس آن‌ها، تفاوت وجود دارد.</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title"/>
          </p:nvPr>
        </p:nvSpPr>
        <p:spPr>
          <a:xfrm>
            <a:off x="1279080" y="115560"/>
            <a:ext cx="52578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alibri"/>
                <a:cs typeface="B Nazanin"/>
              </a:rPr>
              <a:t>ابزارهای گردآوری داده ها</a:t>
            </a:r>
            <a:r>
              <a:rPr b="1" lang="ar-SA" sz="4000" spc="-1" strike="noStrike">
                <a:solidFill>
                  <a:srgbClr val="ff0000"/>
                </a:solidFill>
                <a:latin typeface="Calibri"/>
                <a:ea typeface="B Nazanin"/>
              </a:rPr>
              <a:t>:</a:t>
            </a:r>
            <a:br>
              <a:rPr sz="4000"/>
            </a:br>
            <a:endParaRPr b="0" lang="en-US" sz="4000" spc="-1" strike="noStrike">
              <a:solidFill>
                <a:srgbClr val="000000"/>
              </a:solidFill>
              <a:latin typeface="Calibri"/>
            </a:endParaRPr>
          </a:p>
        </p:txBody>
      </p:sp>
      <p:sp>
        <p:nvSpPr>
          <p:cNvPr id="2972" name=""/>
          <p:cNvSpPr txBox="1"/>
          <p:nvPr/>
        </p:nvSpPr>
        <p:spPr>
          <a:xfrm>
            <a:off x="323640" y="907920"/>
            <a:ext cx="6119640" cy="5545440"/>
          </a:xfrm>
          <a:prstGeom prst="rect">
            <a:avLst/>
          </a:prstGeom>
          <a:noFill/>
          <a:ln w="0">
            <a:noFill/>
          </a:ln>
        </p:spPr>
        <p:txBody>
          <a:bodyPr anchor="t">
            <a:normAutofit fontScale="89000"/>
          </a:bodyPr>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یادداشتهای میدانی از تجربه های مشترک</a:t>
            </a:r>
            <a:r>
              <a:rPr b="1" lang="fa-IR" sz="2800" spc="-1" strike="noStrike">
                <a:solidFill>
                  <a:srgbClr val="000000"/>
                </a:solidFill>
                <a:latin typeface="Calibri"/>
                <a:ea typeface="B Nazanin"/>
              </a:rPr>
              <a:t> و تجربه زیسته محقق</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دفترچه یادداشت های روزانه</a:t>
            </a:r>
            <a:r>
              <a:rPr b="1" lang="fa-IR" sz="2800" spc="-1" strike="noStrike">
                <a:solidFill>
                  <a:srgbClr val="000000"/>
                </a:solidFill>
                <a:latin typeface="Calibri"/>
                <a:ea typeface="B Nazanin"/>
              </a:rPr>
              <a:t> از روند تدوین برنامه و اجرای آن در پردیس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صاحبه ها</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امه نگاری</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نوشت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خودزیست نگارانه و زیست نگار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نتایج گزارش کارگروه های کارورزی پردیس های سراسر کشور از اجرای برنامه کارورزی چهارگانه</a:t>
            </a:r>
            <a:endParaRPr b="0" lang="en-US" sz="2800" spc="-1" strike="noStrike">
              <a:solidFill>
                <a:srgbClr val="000000"/>
              </a:solidFill>
              <a:latin typeface="Calibri"/>
            </a:endParaRPr>
          </a:p>
          <a:p>
            <a:pPr marL="305280" indent="-3052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B Nazanin"/>
              </a:rPr>
              <a:t>منابع دیگر داده</a:t>
            </a:r>
            <a:r>
              <a:rPr b="1" lang="en-US" sz="2800" spc="-1" strike="noStrike">
                <a:solidFill>
                  <a:srgbClr val="000000"/>
                </a:solidFill>
                <a:latin typeface="Calibri"/>
                <a:ea typeface="B Nazanin"/>
              </a:rPr>
              <a:t> </a:t>
            </a:r>
            <a:r>
              <a:rPr b="1" lang="ar-SA" sz="2800" spc="-1" strike="noStrike">
                <a:solidFill>
                  <a:srgbClr val="000000"/>
                </a:solidFill>
                <a:latin typeface="Calibri"/>
                <a:cs typeface="B Nazanin"/>
              </a:rPr>
              <a:t>های روایی </a:t>
            </a:r>
            <a:endParaRPr b="0" lang="en-US" sz="2800" spc="-1" strike="noStrike">
              <a:solidFill>
                <a:srgbClr val="000000"/>
              </a:solidFill>
              <a:latin typeface="Calibri"/>
            </a:endParaRPr>
          </a:p>
          <a:p>
            <a:pPr marL="305280" indent="-305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973" name="Content Placeholder 3" descr="Image-10351.JPG"/>
          <p:cNvPicPr/>
          <p:nvPr/>
        </p:nvPicPr>
        <p:blipFill>
          <a:blip r:embed="rId1"/>
          <a:stretch/>
        </p:blipFill>
        <p:spPr>
          <a:xfrm>
            <a:off x="6629400" y="0"/>
            <a:ext cx="251460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4" name="PlaceHolder 1"/>
          <p:cNvSpPr>
            <a:spLocks noGrp="1"/>
          </p:cNvSpPr>
          <p:nvPr>
            <p:ph type="title"/>
          </p:nvPr>
        </p:nvSpPr>
        <p:spPr>
          <a:xfrm>
            <a:off x="2514240" y="-360"/>
            <a:ext cx="6450120" cy="7650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2  Nazanin"/>
              </a:rPr>
              <a:t>روش پژوهش</a:t>
            </a:r>
            <a:endParaRPr b="0" lang="en-US" sz="4400" spc="-1" strike="noStrike">
              <a:solidFill>
                <a:srgbClr val="000000"/>
              </a:solidFill>
              <a:latin typeface="Calibri"/>
            </a:endParaRPr>
          </a:p>
        </p:txBody>
      </p:sp>
      <p:sp>
        <p:nvSpPr>
          <p:cNvPr id="2975" name=""/>
          <p:cNvSpPr txBox="1"/>
          <p:nvPr/>
        </p:nvSpPr>
        <p:spPr>
          <a:xfrm>
            <a:off x="395280" y="764640"/>
            <a:ext cx="8569440" cy="5712120"/>
          </a:xfrm>
          <a:prstGeom prst="rect">
            <a:avLst/>
          </a:prstGeom>
          <a:noFill/>
          <a:ln w="0">
            <a:noFill/>
          </a:ln>
        </p:spPr>
        <p:txBody>
          <a:bodyPr anchor="t">
            <a:normAutofit fontScale="87000"/>
          </a:bodyPr>
          <a:p>
            <a:pPr algn="just" rtl="1">
              <a:lnSpc>
                <a:spcPct val="87000"/>
              </a:lnSpc>
              <a:spcBef>
                <a:spcPts val="751"/>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cs typeface="B Nazanin"/>
              </a:rPr>
              <a:t>از آنجا که پژوهش حاضر در صدد به دست آوردن شناختی همه‌جانبه از موانع اجرای موفق برنامة جدید کارورزی بود، بنابراین سعی شد از داده‌های کیفی و کمّی برای نیل به هدف یادشده استفاده شود. بنابراین، در این پژوهش از رویکرد ترکیبی، ابتدا کیفی و سپس کمّی بهره‌گیری شد.. نوع پژوهش از لحاظ هدف کاربردی بود. و از روش‌های پژوهش تحلیل محتوا و توصیفی- پیمایشی استفاده شد.. این پژوهش با جمع‌آوری و تحلیل داده‌های کیفی شروع شد و سپس داده‌های کمّی جمع‌آوری و تجزیه و تحلیل شدند. مرحلة کمّی بر مبنای مرحلة اول یا متصل به مرحله کیفی طراحی شد. بدین ترتیب که در بخش کیفی موانع پیاده‌سازی موفق برنامة جدید کارورزی در نظام تربیت معلم ایران، با توجه به اسناد شناسایی و استخراج شد و در بخش کمّی با روش پیمایشی دیدگاه اعضای هیئت علمی دربارة این موانع بررسی شد.</a:t>
            </a:r>
            <a:endParaRPr b="0" lang="en-US" sz="3000" spc="-1" strike="noStrike">
              <a:solidFill>
                <a:srgbClr val="000000"/>
              </a:solidFill>
              <a:latin typeface="Calibri"/>
            </a:endParaRPr>
          </a:p>
          <a:p>
            <a:pPr algn="r" rtl="1">
              <a:lnSpc>
                <a:spcPct val="80000"/>
              </a:lnSpc>
              <a:spcBef>
                <a:spcPts val="649"/>
              </a:spcBef>
              <a:tabLst>
                <a:tab algn="l" pos="0"/>
                <a:tab algn="r" pos="15840"/>
                <a:tab algn="r" pos="182520"/>
                <a:tab algn="r" pos="272880"/>
                <a:tab algn="r" pos="4816440"/>
                <a:tab algn="l" pos="5486400"/>
                <a:tab algn="l" pos="6400800"/>
                <a:tab algn="l" pos="7315200"/>
                <a:tab algn="l" pos="8229600"/>
                <a:tab algn="l" pos="9144000"/>
                <a:tab algn="l" pos="10058400"/>
              </a:tabLst>
            </a:pPr>
            <a:r>
              <a:rPr b="0" lang="fa-IR" sz="2600" spc="-1" strike="noStrike">
                <a:solidFill>
                  <a:srgbClr val="000000"/>
                </a:solidFill>
                <a:latin typeface="Calibri"/>
                <a:ea typeface="B Nazanin"/>
              </a:rPr>
              <a:t>- تحلیل محتوا تکنیکی برای استخراج داده‌ها از متن است.</a:t>
            </a:r>
            <a:endParaRPr b="0" lang="en-US" sz="2600" spc="-1" strike="noStrike">
              <a:solidFill>
                <a:srgbClr val="000000"/>
              </a:solidFill>
              <a:latin typeface="Calibri"/>
            </a:endParaRPr>
          </a:p>
          <a:p>
            <a:pPr algn="just">
              <a:lnSpc>
                <a:spcPct val="95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a:t>
            </a:r>
            <a:r>
              <a:rPr b="0" lang="en-US" sz="2200" spc="-1" strike="noStrike">
                <a:solidFill>
                  <a:srgbClr val="000000"/>
                </a:solidFill>
                <a:latin typeface="Times New Roman"/>
                <a:ea typeface="B Nazanin"/>
              </a:rPr>
              <a:t> Descriptive survey</a:t>
            </a:r>
            <a:endParaRPr b="0" lang="en-US" sz="2200" spc="-1" strike="noStrike">
              <a:solidFill>
                <a:srgbClr val="000000"/>
              </a:solidFill>
              <a:latin typeface="Calibri"/>
            </a:endParaRPr>
          </a:p>
          <a:p>
            <a:pPr algn="r" rtl="1">
              <a:lnSpc>
                <a:spcPct val="80000"/>
              </a:lnSpc>
              <a:spcBef>
                <a:spcPts val="550"/>
              </a:spcBef>
              <a:tabLst>
                <a:tab algn="l" pos="0"/>
                <a:tab algn="r" pos="15840"/>
                <a:tab algn="r" pos="182520"/>
                <a:tab algn="r" pos="272880"/>
                <a:tab algn="r" pos="481644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6" name="PlaceHolder 1"/>
          <p:cNvSpPr>
            <a:spLocks noGrp="1"/>
          </p:cNvSpPr>
          <p:nvPr>
            <p:ph type="title"/>
          </p:nvPr>
        </p:nvSpPr>
        <p:spPr>
          <a:xfrm>
            <a:off x="179280" y="1066680"/>
            <a:ext cx="8785440" cy="56023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alibri"/>
                <a:cs typeface="B Nazanin"/>
              </a:rPr>
              <a:t>جامعة مورد مطالعة پژوهش در بخش کیفی شامل گزارش‌های کارگروه کارورزی پردیس‌های سراسر کشور دانشگاه فرهنگیان از اولین دورة اجرای برنامة جدید کارورزی بود. </a:t>
            </a:r>
            <a:r>
              <a:rPr b="1" lang="fa-IR" sz="2800" spc="-1" strike="noStrike">
                <a:solidFill>
                  <a:srgbClr val="ff0000"/>
                </a:solidFill>
                <a:latin typeface="Calibri"/>
                <a:ea typeface="B Nazanin"/>
              </a:rPr>
              <a:t>27</a:t>
            </a:r>
            <a:r>
              <a:rPr b="1" lang="fa-IR" sz="2800" spc="-1" strike="noStrike">
                <a:solidFill>
                  <a:srgbClr val="ff0000"/>
                </a:solidFill>
                <a:latin typeface="Calibri"/>
                <a:ea typeface="B Nazanin"/>
              </a:rPr>
              <a:t> گزارش از پردیس‌های سراسر کشور دانشگاه فرهنگیان </a:t>
            </a:r>
            <a:r>
              <a:rPr b="0" lang="fa-IR" sz="2800" spc="-1" strike="noStrike">
                <a:solidFill>
                  <a:srgbClr val="000000"/>
                </a:solidFill>
                <a:latin typeface="Calibri"/>
                <a:cs typeface="B Nazanin"/>
              </a:rPr>
              <a:t>دربارة </a:t>
            </a:r>
            <a:r>
              <a:rPr b="0" lang="fa-IR" sz="2800" spc="-1" strike="noStrike">
                <a:solidFill>
                  <a:srgbClr val="ff0000"/>
                </a:solidFill>
                <a:latin typeface="Calibri"/>
                <a:cs typeface="B Nazanin"/>
              </a:rPr>
              <a:t>موانع پیاده‌سازی موفق اولین دورة اجرای برنامة جدید کارورزی </a:t>
            </a:r>
            <a:r>
              <a:rPr b="0" lang="fa-IR" sz="2800" spc="-1" strike="noStrike">
                <a:solidFill>
                  <a:srgbClr val="000000"/>
                </a:solidFill>
                <a:latin typeface="Calibri"/>
                <a:cs typeface="B Nazanin"/>
              </a:rPr>
              <a:t>به عنوان نمونة هدفمند و در دسترس برای مطالعه انتخاب شدند. جامعة آماری پژوهش در بخش کمّی شامل همة اعضای هیئت علمیِ مدرس کارورزی دانشگاه فرهنگیان کشور، به تعداد </a:t>
            </a:r>
            <a:r>
              <a:rPr b="0" lang="fa-IR" sz="2800" spc="-1" strike="noStrike">
                <a:solidFill>
                  <a:srgbClr val="000000"/>
                </a:solidFill>
                <a:latin typeface="Calibri"/>
                <a:ea typeface="B Nazanin"/>
              </a:rPr>
              <a:t>2057</a:t>
            </a:r>
            <a:r>
              <a:rPr b="0" lang="fa-IR" sz="2800" spc="-1" strike="noStrike">
                <a:solidFill>
                  <a:srgbClr val="000000"/>
                </a:solidFill>
                <a:latin typeface="Calibri"/>
                <a:ea typeface="B Nazanin"/>
              </a:rPr>
              <a:t> نفر بود. جامعة نمونه تحقیق شامل </a:t>
            </a:r>
            <a:r>
              <a:rPr b="0" lang="fa-IR" sz="2800" spc="-1" strike="noStrike">
                <a:solidFill>
                  <a:srgbClr val="000000"/>
                </a:solidFill>
                <a:latin typeface="Calibri"/>
                <a:ea typeface="B Nazanin"/>
              </a:rPr>
              <a:t>326</a:t>
            </a:r>
            <a:r>
              <a:rPr b="0" lang="fa-IR" sz="2800" spc="-1" strike="noStrike">
                <a:solidFill>
                  <a:srgbClr val="000000"/>
                </a:solidFill>
                <a:latin typeface="Calibri"/>
                <a:ea typeface="B Nazanin"/>
              </a:rPr>
              <a:t> نفر بود که با توجه به جدول مورگان براورد شد. در بخش کمّی از روش نمونه‌گیری خوشه‌ای چندمرحله‌ای استفاده شد. بدین ترتیب که ابتدا از استان‌های منتخب کشور (بر مبنای پنج استان که دارای بیشترین و کمترین میزان دانشجو معلم هستند) پردیس‌های مجری کارورزی مشخص شدند و در ادامه از پردیس‌های منتخب به طور تصادفی، استادان و مدرسان راهنمای تربیتی و تخصصی کارورزی انتخاب شدند.</a:t>
            </a:r>
            <a:endParaRPr b="0" lang="en-US" sz="2800" spc="-1" strike="noStrike">
              <a:solidFill>
                <a:srgbClr val="000000"/>
              </a:solidFill>
              <a:latin typeface="Calibri"/>
            </a:endParaRPr>
          </a:p>
        </p:txBody>
      </p:sp>
      <p:pic>
        <p:nvPicPr>
          <p:cNvPr id="2977" name="Content Placeholder 3" descr="Image-1002.jpg"/>
          <p:cNvPicPr/>
          <p:nvPr/>
        </p:nvPicPr>
        <p:blipFill>
          <a:blip r:embed="rId1"/>
          <a:stretch/>
        </p:blipFill>
        <p:spPr>
          <a:xfrm>
            <a:off x="-12600" y="-12600"/>
            <a:ext cx="9156600" cy="107928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8" name="PlaceHolder 1"/>
          <p:cNvSpPr>
            <a:spLocks noGrp="1"/>
          </p:cNvSpPr>
          <p:nvPr>
            <p:ph type="title"/>
          </p:nvPr>
        </p:nvSpPr>
        <p:spPr>
          <a:xfrm>
            <a:off x="2505240" y="188640"/>
            <a:ext cx="6448320" cy="765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rPr>
              <a:t>ابزارها</a:t>
            </a:r>
            <a:endParaRPr b="0" lang="en-US" sz="4400" spc="-1" strike="noStrike">
              <a:solidFill>
                <a:srgbClr val="000000"/>
              </a:solidFill>
              <a:latin typeface="Calibri"/>
            </a:endParaRPr>
          </a:p>
        </p:txBody>
      </p:sp>
      <p:sp>
        <p:nvSpPr>
          <p:cNvPr id="2979" name=""/>
          <p:cNvSpPr txBox="1"/>
          <p:nvPr/>
        </p:nvSpPr>
        <p:spPr>
          <a:xfrm>
            <a:off x="395280" y="1052640"/>
            <a:ext cx="8569440" cy="5424480"/>
          </a:xfrm>
          <a:prstGeom prst="rect">
            <a:avLst/>
          </a:prstGeom>
          <a:noFill/>
          <a:ln w="0">
            <a:noFill/>
          </a:ln>
        </p:spPr>
        <p:txBody>
          <a:bodyPr anchor="t">
            <a:normAutofit fontScale="85000"/>
          </a:bodyPr>
          <a:p>
            <a:pPr algn="just" rtl="1">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ابزار جمع‌آوری داده‌های بخش کیفی برگه‌های فیش برداری، فهرست­های وارسی (چک لیست‌ها) و فرم‌های محقق‌ساخته بودند. ابزار بخش کمی، پرسش­نامة محقق‌ساخته بود که بر اساس یافته‌ها و موانع شناسایی شده بخش کیفی از گزارش‌های کارگروه‌های کارورزی تهیه شد. روایی آن توسط خبرگان دانشگاهی تأیید شد و پایایی آن با استفاده از ضریب آلفای کرونباخ برابر با </a:t>
            </a:r>
            <a:r>
              <a:rPr b="0" lang="fa-IR" sz="2400" spc="-1" strike="noStrike">
                <a:solidFill>
                  <a:srgbClr val="000000"/>
                </a:solidFill>
                <a:latin typeface="Calibri"/>
                <a:ea typeface="B Nazanin"/>
              </a:rPr>
              <a:t>93/0</a:t>
            </a:r>
            <a:r>
              <a:rPr b="0" lang="fa-IR" sz="2400" spc="-1" strike="noStrike">
                <a:solidFill>
                  <a:srgbClr val="000000"/>
                </a:solidFill>
                <a:latin typeface="Calibri"/>
                <a:ea typeface="B Nazanin"/>
              </a:rPr>
              <a:t> به دست آمد.</a:t>
            </a:r>
            <a:endParaRPr b="0" lang="en-US" sz="2400" spc="-1" strike="noStrike">
              <a:solidFill>
                <a:srgbClr val="000000"/>
              </a:solidFill>
              <a:latin typeface="Calibri"/>
            </a:endParaRPr>
          </a:p>
          <a:p>
            <a:pPr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به‌منظور تجزیه‌وتحلیل داده‌های بخش کیفی و برای پاسخ به سؤال اول پژوهش، از تکنیک تحلیل محتوا استفاده شد. تحلیل محتوای اسناد و گزارش‌های بخش کیفی با استفاده از روش گال، مردیت؛ بورگ، والتر و گال، جویس (</a:t>
            </a:r>
            <a:r>
              <a:rPr b="0" lang="fa-IR" sz="2400" spc="-1" strike="noStrike">
                <a:solidFill>
                  <a:srgbClr val="000000"/>
                </a:solidFill>
                <a:latin typeface="Calibri"/>
                <a:ea typeface="B Nazanin"/>
              </a:rPr>
              <a:t>1994</a:t>
            </a:r>
            <a:r>
              <a:rPr b="0" lang="fa-IR" sz="2400" spc="-1" strike="noStrike">
                <a:solidFill>
                  <a:srgbClr val="000000"/>
                </a:solidFill>
                <a:latin typeface="Calibri"/>
                <a:ea typeface="B Nazanin"/>
              </a:rPr>
              <a:t>) در پنج مرحله انجام شد. در مرحلة اول گزارش‌های یادشده مورد مطالعه قرار گرفتند و تمام گزاره‌های مربوط به موانع پیاده‌سازی موفق برنامة کارورزی استخراج شدند. در مرحلة دوم روش مقوله‌بندی مناسب انتخاب شد. در مرحلة سوم هر یک از گزاره‌های جمع‌آوری‌شده برای قرار گرفتن در هر یک از مقوله‌ها، نشانه‌گذاری شدند. در مرحلة چهارم مقوله‌بندی با روش کدگذاری باز و کدگذاری محوری انجام شد و تفسیر و ارزشیابی یافته‌ها در مرحلة پنجم صورت گرفت. برای توصیف متغیرهای جمعیت شناختی و پاسخ به سؤال بخش کمّی، از روش‌های آمار توصیفی، از جمله جداول توزیع فراوانی و درصد، شاخص‌های میانگین و انحراف معیار بهره‌گیری شد. برای آزمون فرضیه‌های بخش کمی نیز از آزمون‌های آمار استنباطی، شامل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تک نمونه‌ای و آزمون </a:t>
            </a:r>
            <a:r>
              <a:rPr b="0" lang="en-US" sz="2400" spc="-1" strike="noStrike">
                <a:solidFill>
                  <a:srgbClr val="000000"/>
                </a:solidFill>
                <a:latin typeface="Calibri"/>
                <a:ea typeface="B Nazanin"/>
              </a:rPr>
              <a:t>t</a:t>
            </a:r>
            <a:r>
              <a:rPr b="0" lang="fa-IR" sz="2400" spc="-1" strike="noStrike">
                <a:solidFill>
                  <a:srgbClr val="000000"/>
                </a:solidFill>
                <a:latin typeface="Calibri"/>
                <a:ea typeface="B Nazanin"/>
              </a:rPr>
              <a:t> مستقل استفاده شد</a:t>
            </a:r>
            <a:r>
              <a:rPr b="0" lang="en-US" sz="2400" spc="-1" strike="noStrike">
                <a:solidFill>
                  <a:srgbClr val="000000"/>
                </a:solidFill>
                <a:latin typeface="Calibri"/>
                <a:ea typeface="B Nazanin"/>
              </a:rPr>
              <a:t>.</a:t>
            </a:r>
            <a:endParaRPr b="0" lang="en-US" sz="2400" spc="-1" strike="noStrike">
              <a:solidFill>
                <a:srgbClr val="000000"/>
              </a:solidFill>
              <a:latin typeface="Calibri"/>
            </a:endParaRPr>
          </a:p>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0"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1"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2" name=""/>
          <p:cNvSpPr txBox="1"/>
          <p:nvPr/>
        </p:nvSpPr>
        <p:spPr>
          <a:xfrm>
            <a:off x="250560" y="259920"/>
            <a:ext cx="8713800" cy="6216840"/>
          </a:xfrm>
          <a:prstGeom prst="rect">
            <a:avLst/>
          </a:prstGeom>
          <a:noFill/>
          <a:ln w="0">
            <a:noFill/>
          </a:ln>
        </p:spPr>
        <p:txBody>
          <a:bodyPr anchor="t">
            <a:normAutofit fontScale="83000"/>
          </a:bodyPr>
          <a:p>
            <a:pPr marL="284400" indent="-284400" algn="just"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000000"/>
                </a:solidFill>
                <a:latin typeface="Calibri"/>
                <a:cs typeface="B Nazanin"/>
              </a:rPr>
              <a:t>بررسی و جمع بندی نقد و نظر های استادان کارورزی مسایل و پیشهادهای ارایه شده از سوی مدرسان و استادان در مورد ارزیابی ،در این مجموعه کلی برنامه ، محتوا و سایر عوامل دخیل در اجرای </a:t>
            </a:r>
            <a:r>
              <a:rPr b="0" lang="fa-IR" sz="4400" spc="-1" strike="noStrike">
                <a:solidFill>
                  <a:srgbClr val="ff0000"/>
                </a:solidFill>
                <a:latin typeface="Calibri"/>
                <a:cs typeface="B Nazanin"/>
              </a:rPr>
              <a:t>کارورزی فکورانه که از پردیس های دانشگاه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فرهنگیان در </a:t>
            </a:r>
            <a:r>
              <a:rPr b="0" lang="fa-IR" sz="4400" spc="-1" strike="noStrike">
                <a:solidFill>
                  <a:srgbClr val="ff0000"/>
                </a:solidFill>
                <a:latin typeface="Calibri"/>
                <a:ea typeface="B Nazanin"/>
              </a:rPr>
              <a:t>2</a:t>
            </a:r>
            <a:r>
              <a:rPr b="0" lang="fa-IR" sz="4400" spc="-1" strike="noStrike">
                <a:solidFill>
                  <a:srgbClr val="ff0000"/>
                </a:solidFill>
                <a:latin typeface="Calibri"/>
                <a:ea typeface="B Nazanin"/>
              </a:rPr>
              <a:t> بر رسی ، جمع بندی و در  ،   استان کشور واصل شده </a:t>
            </a:r>
            <a:r>
              <a:rPr b="0" lang="fa-IR" sz="4400" spc="-1" strike="noStrike">
                <a:solidFill>
                  <a:srgbClr val="00b050"/>
                </a:solidFill>
                <a:latin typeface="Calibri"/>
                <a:cs typeface="B Nazanin"/>
              </a:rPr>
              <a:t>است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محور کلان و </a:t>
            </a:r>
            <a:r>
              <a:rPr b="0" lang="fa-IR" sz="4400" spc="-1" strike="noStrike">
                <a:solidFill>
                  <a:srgbClr val="00b050"/>
                </a:solidFill>
                <a:latin typeface="Calibri"/>
                <a:ea typeface="B Nazanin"/>
              </a:rPr>
              <a:t>7</a:t>
            </a:r>
            <a:r>
              <a:rPr b="0" lang="fa-IR" sz="4400" spc="-1" strike="noStrike">
                <a:solidFill>
                  <a:srgbClr val="00b050"/>
                </a:solidFill>
                <a:latin typeface="Calibri"/>
                <a:ea typeface="B Nazanin"/>
              </a:rPr>
              <a:t> خرد خلاصه </a:t>
            </a:r>
            <a:r>
              <a:rPr b="0" lang="fa-IR" sz="4400" spc="-1" strike="noStrike">
                <a:solidFill>
                  <a:srgbClr val="ff0000"/>
                </a:solidFill>
                <a:latin typeface="Calibri"/>
                <a:cs typeface="B Nazanin"/>
              </a:rPr>
              <a:t>و ارایه </a:t>
            </a:r>
            <a:r>
              <a:rPr b="0" lang="fa-IR" sz="4400" spc="-1" strike="noStrike">
                <a:solidFill>
                  <a:srgbClr val="000000"/>
                </a:solidFill>
                <a:latin typeface="Calibri"/>
                <a:cs typeface="B Nazanin"/>
              </a:rPr>
              <a:t>می گردد.</a:t>
            </a:r>
            <a:endParaRPr b="0" lang="en-US" sz="4400" spc="-1" strike="noStrike">
              <a:solidFill>
                <a:srgbClr val="000000"/>
              </a:solidFill>
              <a:latin typeface="Calibri"/>
            </a:endParaRPr>
          </a:p>
          <a:p>
            <a:pPr marL="284400" indent="-2844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u="sng">
                <a:solidFill>
                  <a:srgbClr val="0000ff"/>
                </a:solidFill>
                <a:uFillTx/>
                <a:latin typeface="Calibri"/>
                <a:cs typeface="B Nazanin"/>
                <a:hlinkClick r:id="rId1"/>
              </a:rPr>
              <a:t>استناد به گزارش کارگروه ه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3" name="PlaceHolder 1"/>
          <p:cNvSpPr>
            <a:spLocks noGrp="1"/>
          </p:cNvSpPr>
          <p:nvPr>
            <p:ph type="title"/>
          </p:nvPr>
        </p:nvSpPr>
        <p:spPr>
          <a:xfrm>
            <a:off x="2514240" y="115560"/>
            <a:ext cx="6450120" cy="64908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a-IR" sz="2800" spc="-1" strike="noStrike">
                <a:solidFill>
                  <a:srgbClr val="000000"/>
                </a:solidFill>
                <a:latin typeface="Calibri"/>
                <a:cs typeface="B Nazanin"/>
              </a:rPr>
              <a:t>یافته‌های بخش کیفی و سؤال اول پژوهش</a:t>
            </a:r>
            <a:br>
              <a:rPr sz="2400"/>
            </a:br>
            <a:endParaRPr b="0" lang="en-US" sz="2800" spc="-1" strike="noStrike">
              <a:solidFill>
                <a:srgbClr val="000000"/>
              </a:solidFill>
              <a:latin typeface="Calibri"/>
            </a:endParaRPr>
          </a:p>
        </p:txBody>
      </p:sp>
      <p:sp>
        <p:nvSpPr>
          <p:cNvPr id="2984" name=""/>
          <p:cNvSpPr txBox="1"/>
          <p:nvPr/>
        </p:nvSpPr>
        <p:spPr>
          <a:xfrm>
            <a:off x="395280" y="764640"/>
            <a:ext cx="8569440" cy="5712120"/>
          </a:xfrm>
          <a:prstGeom prst="rect">
            <a:avLst/>
          </a:prstGeom>
          <a:noFill/>
          <a:ln w="0">
            <a:noFill/>
          </a:ln>
        </p:spPr>
        <p:txBody>
          <a:bodyPr anchor="t">
            <a:normAutofit fontScale="88000"/>
          </a:bodyPr>
          <a:p>
            <a:pPr algn="r" rtl="1">
              <a:lnSpc>
                <a:spcPct val="87000"/>
              </a:lnSpc>
              <a:spcBef>
                <a:spcPts val="751"/>
              </a:spcBef>
              <a:tabLst>
                <a:tab algn="l" pos="0"/>
                <a:tab algn="r" pos="15840"/>
                <a:tab algn="r" pos="4816440"/>
                <a:tab algn="l" pos="5486400"/>
                <a:tab algn="l" pos="6400800"/>
                <a:tab algn="l" pos="7315200"/>
                <a:tab algn="l" pos="8229600"/>
                <a:tab algn="l" pos="9144000"/>
                <a:tab algn="l" pos="10058400"/>
              </a:tabLst>
            </a:pPr>
            <a:r>
              <a:rPr b="0" lang="fa-IR" sz="3000" spc="-1" strike="noStrike">
                <a:solidFill>
                  <a:srgbClr val="000000"/>
                </a:solidFill>
                <a:latin typeface="Calibri"/>
                <a:ea typeface="B Nazanin"/>
              </a:rPr>
              <a:t>    </a:t>
            </a:r>
            <a:r>
              <a:rPr b="0" lang="fa-IR" sz="3000" spc="-1" strike="noStrike">
                <a:solidFill>
                  <a:srgbClr val="ff0000"/>
                </a:solidFill>
                <a:latin typeface="Calibri"/>
                <a:cs typeface="B Nazanin"/>
              </a:rPr>
              <a:t>برای پاسخ به این سؤال که: چه موانعی از پیاده‌سازی موفق برنامة جدید کارورزی دانشگاه فرهنکیان در تربیت معلم فکور جلوگیری می‌کند؟ </a:t>
            </a:r>
            <a:r>
              <a:rPr b="0" lang="fa-IR" sz="3000" spc="-1" strike="noStrike">
                <a:solidFill>
                  <a:srgbClr val="000000"/>
                </a:solidFill>
                <a:latin typeface="Calibri"/>
                <a:cs typeface="B Nazanin"/>
              </a:rPr>
              <a:t>گزارش‌های کارگروه کارورزی پردیس‌های سراسر کشور از اولین دورة اجرای برنامة جدید کارورزی با </a:t>
            </a:r>
            <a:r>
              <a:rPr b="0" lang="fa-IR" sz="3000" spc="-1" strike="noStrike">
                <a:solidFill>
                  <a:srgbClr val="00b0f0"/>
                </a:solidFill>
                <a:latin typeface="Calibri"/>
                <a:cs typeface="B Nazanin"/>
              </a:rPr>
              <a:t>تکنیک تحلیل محتوا </a:t>
            </a:r>
            <a:r>
              <a:rPr b="0" lang="fa-IR" sz="3000" spc="-1" strike="noStrike">
                <a:solidFill>
                  <a:srgbClr val="000000"/>
                </a:solidFill>
                <a:latin typeface="Calibri"/>
                <a:cs typeface="B Nazanin"/>
              </a:rPr>
              <a:t>مورد تجزیه و تحلیل قرار گرفتند. در نتیجه موانع در پنج بعد کلی با عنوان­های موانع مدیریتی و ساختاری، موانع مالی، موانع برنامه و رویکردهای نظری درس کارورزی، موانع مربوط به نظارت و ارزشیابی برنامه، و موانع انسانی / ارتباطی، از درون این متون استخراج شدند. یافته‌ها نشان دادند،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2</a:t>
            </a:r>
            <a:r>
              <a:rPr b="0" lang="fa-IR" sz="3000" spc="-1" strike="noStrike">
                <a:solidFill>
                  <a:srgbClr val="ff0000"/>
                </a:solidFill>
                <a:latin typeface="Calibri"/>
                <a:ea typeface="B Nazanin"/>
              </a:rPr>
              <a:t> سند بر موانع مدیریتی و ساختاری</a:t>
            </a:r>
            <a:r>
              <a:rPr b="0" lang="fa-IR" sz="3000" spc="-1" strike="noStrike">
                <a:solidFill>
                  <a:srgbClr val="000000"/>
                </a:solidFill>
                <a:latin typeface="Calibri"/>
                <a:ea typeface="B Nazanin"/>
              </a:rPr>
              <a:t> اجرای برنامه،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مالی </a:t>
            </a:r>
            <a:r>
              <a:rPr b="0" lang="fa-IR" sz="3000" spc="-1" strike="noStrike">
                <a:solidFill>
                  <a:srgbClr val="000000"/>
                </a:solidFill>
                <a:latin typeface="Calibri"/>
                <a:cs typeface="B Nazanin"/>
              </a:rPr>
              <a:t>اجرای برنامه، در </a:t>
            </a:r>
            <a:r>
              <a:rPr b="0" lang="fa-IR" sz="3000" spc="-1" strike="noStrike">
                <a:solidFill>
                  <a:srgbClr val="ff0000"/>
                </a:solidFill>
                <a:latin typeface="Calibri"/>
                <a:ea typeface="B Nazanin"/>
              </a:rPr>
              <a:t>9</a:t>
            </a:r>
            <a:r>
              <a:rPr b="0" lang="fa-IR" sz="3000" spc="-1" strike="noStrike">
                <a:solidFill>
                  <a:srgbClr val="ff0000"/>
                </a:solidFill>
                <a:latin typeface="Calibri"/>
                <a:ea typeface="B Nazanin"/>
              </a:rPr>
              <a:t> سند بر موانع برنامه‌ای </a:t>
            </a:r>
            <a:r>
              <a:rPr b="0" lang="fa-IR" sz="3000" spc="-1" strike="noStrike">
                <a:solidFill>
                  <a:srgbClr val="000000"/>
                </a:solidFill>
                <a:latin typeface="Calibri"/>
                <a:cs typeface="B Nazanin"/>
              </a:rPr>
              <a:t>رویکردهای نظری درس کارورزی، </a:t>
            </a:r>
            <a:r>
              <a:rPr b="0" lang="fa-IR" sz="3000" spc="-1" strike="noStrike">
                <a:solidFill>
                  <a:srgbClr val="ff0000"/>
                </a:solidFill>
                <a:latin typeface="Calibri"/>
                <a:cs typeface="B Nazanin"/>
              </a:rPr>
              <a:t>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مرتبط با فرایند نظارت و ارزشیابی</a:t>
            </a:r>
            <a:r>
              <a:rPr b="0" lang="fa-IR" sz="3000" spc="-1" strike="noStrike">
                <a:solidFill>
                  <a:srgbClr val="000000"/>
                </a:solidFill>
                <a:latin typeface="Calibri"/>
                <a:cs typeface="B Nazanin"/>
              </a:rPr>
              <a:t>، و در </a:t>
            </a:r>
            <a:r>
              <a:rPr b="0" lang="fa-IR" sz="3000" spc="-1" strike="noStrike">
                <a:solidFill>
                  <a:srgbClr val="ff0000"/>
                </a:solidFill>
                <a:latin typeface="Calibri"/>
                <a:ea typeface="B Nazanin"/>
              </a:rPr>
              <a:t>11</a:t>
            </a:r>
            <a:r>
              <a:rPr b="0" lang="fa-IR" sz="3000" spc="-1" strike="noStrike">
                <a:solidFill>
                  <a:srgbClr val="ff0000"/>
                </a:solidFill>
                <a:latin typeface="Calibri"/>
                <a:ea typeface="B Nazanin"/>
              </a:rPr>
              <a:t> سند بر موانع انسانی و ارتباطی تأکید شده بود </a:t>
            </a:r>
            <a:r>
              <a:rPr b="0" lang="fa-IR" sz="3000" spc="-1" strike="noStrike">
                <a:solidFill>
                  <a:srgbClr val="000000"/>
                </a:solidFill>
                <a:latin typeface="Calibri"/>
                <a:ea typeface="B Nazanin"/>
              </a:rPr>
              <a:t>(جدول </a:t>
            </a:r>
            <a:r>
              <a:rPr b="0" lang="fa-IR" sz="3000" spc="-1" strike="noStrike">
                <a:solidFill>
                  <a:srgbClr val="000000"/>
                </a:solidFill>
                <a:latin typeface="Calibri"/>
                <a:ea typeface="B Nazanin"/>
              </a:rPr>
              <a:t>2</a:t>
            </a:r>
            <a:r>
              <a:rPr b="0" lang="fa-IR" sz="3000" spc="-1" strike="noStrike">
                <a:solidFill>
                  <a:srgbClr val="000000"/>
                </a:solidFill>
                <a:latin typeface="Calibri"/>
                <a:ea typeface="B Nazanin"/>
              </a:rPr>
              <a:t>). </a:t>
            </a:r>
            <a:r>
              <a:rPr b="0" lang="fa-IR" sz="3000" spc="-1" strike="noStrike" u="sng">
                <a:solidFill>
                  <a:srgbClr val="00b050"/>
                </a:solidFill>
                <a:uFillTx/>
                <a:latin typeface="Calibri"/>
                <a:cs typeface="B Nazanin"/>
              </a:rPr>
              <a:t>گویه های پرسش­نامة بخش کمّی بر اساس </a:t>
            </a:r>
            <a:r>
              <a:rPr b="0" lang="fa-IR" sz="3000" spc="-1" strike="noStrike" u="sng">
                <a:solidFill>
                  <a:srgbClr val="00b050"/>
                </a:solidFill>
                <a:uFillTx/>
                <a:latin typeface="Calibri"/>
                <a:ea typeface="B Nazanin"/>
              </a:rPr>
              <a:t>52</a:t>
            </a:r>
            <a:r>
              <a:rPr b="0" lang="fa-IR" sz="3000" spc="-1" strike="noStrike" u="sng">
                <a:solidFill>
                  <a:srgbClr val="00b050"/>
                </a:solidFill>
                <a:uFillTx/>
                <a:latin typeface="Calibri"/>
                <a:ea typeface="B Nazanin"/>
              </a:rPr>
              <a:t> سند بررسی‌شده، طراحی شدند</a:t>
            </a:r>
            <a:r>
              <a:rPr b="0" lang="fa-IR" sz="3000" spc="-1" strike="noStrike">
                <a:solidFill>
                  <a:srgbClr val="000000"/>
                </a:solidFill>
                <a:latin typeface="Calibri"/>
                <a:ea typeface="B Nazanin"/>
              </a:rPr>
              <a:t>.</a:t>
            </a:r>
            <a:endParaRPr b="0" lang="en-US" sz="3000" spc="-1" strike="noStrike">
              <a:solidFill>
                <a:srgbClr val="000000"/>
              </a:solidFill>
              <a:latin typeface="Calibri"/>
            </a:endParaRPr>
          </a:p>
          <a:p>
            <a:pPr algn="r" rtl="1">
              <a:lnSpc>
                <a:spcPct val="80000"/>
              </a:lnSpc>
              <a:spcBef>
                <a:spcPts val="751"/>
              </a:spcBef>
              <a:tabLst>
                <a:tab algn="l" pos="0"/>
                <a:tab algn="r" pos="15840"/>
                <a:tab algn="r" pos="481644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5" name="Group 2"/>
          <p:cNvGrpSpPr/>
          <p:nvPr/>
        </p:nvGrpSpPr>
        <p:grpSpPr>
          <a:xfrm>
            <a:off x="2895480" y="838080"/>
            <a:ext cx="3047760" cy="5867280"/>
            <a:chOff x="2895480" y="838080"/>
            <a:chExt cx="3047760" cy="5867280"/>
          </a:xfrm>
        </p:grpSpPr>
        <p:sp>
          <p:nvSpPr>
            <p:cNvPr id="2986" name="AutoShape 3"/>
            <p:cNvSpPr/>
            <p:nvPr/>
          </p:nvSpPr>
          <p:spPr>
            <a:xfrm>
              <a:off x="2895480" y="838080"/>
              <a:ext cx="3004560" cy="522720"/>
            </a:xfrm>
            <a:prstGeom prst="roundRect">
              <a:avLst>
                <a:gd name="adj" fmla="val 16667"/>
              </a:avLst>
            </a:prstGeom>
            <a:solidFill>
              <a:srgbClr val="ffffff"/>
            </a:solidFill>
            <a:ln w="31680">
              <a:solidFill>
                <a:srgbClr val="c0504d"/>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alibri"/>
                  <a:cs typeface="B Nazanin"/>
                </a:rPr>
                <a:t>پژوهش</a:t>
              </a:r>
              <a:endParaRPr b="0" lang="en-US" sz="1600" spc="-1" strike="noStrike">
                <a:solidFill>
                  <a:srgbClr val="000000"/>
                </a:solidFill>
                <a:latin typeface="Arial"/>
              </a:endParaRPr>
            </a:p>
          </p:txBody>
        </p:sp>
        <p:sp>
          <p:nvSpPr>
            <p:cNvPr id="2987" name="AutoShape 4"/>
            <p:cNvSpPr/>
            <p:nvPr/>
          </p:nvSpPr>
          <p:spPr>
            <a:xfrm>
              <a:off x="2970720" y="1681920"/>
              <a:ext cx="2972520" cy="795240"/>
            </a:xfrm>
            <a:prstGeom prst="downArrowCallout">
              <a:avLst>
                <a:gd name="adj1" fmla="val 93456"/>
                <a:gd name="adj2" fmla="val 9344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شناسایی پدیده برای کشفی که به مسئله آموزشی توجه میکند</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988" name="AutoShape 5"/>
            <p:cNvSpPr/>
            <p:nvPr/>
          </p:nvSpPr>
          <p:spPr>
            <a:xfrm>
              <a:off x="2970720" y="4691880"/>
              <a:ext cx="2929320" cy="814680"/>
            </a:xfrm>
            <a:prstGeom prst="downArrowCallout">
              <a:avLst>
                <a:gd name="adj1" fmla="val 89900"/>
                <a:gd name="adj2" fmla="val 89892"/>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همکاری با شرکت کننده- بیان کننده داستان</a:t>
              </a:r>
              <a:endParaRPr b="0" lang="en-US" sz="1200" spc="-1" strike="noStrike">
                <a:solidFill>
                  <a:srgbClr val="000000"/>
                </a:solidFill>
                <a:latin typeface="Arial"/>
              </a:endParaRPr>
            </a:p>
          </p:txBody>
        </p:sp>
        <p:sp>
          <p:nvSpPr>
            <p:cNvPr id="2989" name="AutoShape 6"/>
            <p:cNvSpPr/>
            <p:nvPr/>
          </p:nvSpPr>
          <p:spPr>
            <a:xfrm>
              <a:off x="2970720" y="2479680"/>
              <a:ext cx="2972520" cy="865440"/>
            </a:xfrm>
            <a:prstGeom prst="downArrowCallout">
              <a:avLst>
                <a:gd name="adj1" fmla="val 85875"/>
                <a:gd name="adj2" fmla="val 85867"/>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انتخاب قاطعانه فرد از کسی که میتوانید در مورد پدیده یاد بگیرید</a:t>
              </a:r>
              <a:endParaRPr b="0" lang="en-US" sz="1200" spc="-1" strike="noStrike">
                <a:solidFill>
                  <a:srgbClr val="000000"/>
                </a:solidFill>
                <a:latin typeface="Arial"/>
              </a:endParaRPr>
            </a:p>
          </p:txBody>
        </p:sp>
        <p:sp>
          <p:nvSpPr>
            <p:cNvPr id="2990" name="AutoShape 7"/>
            <p:cNvSpPr/>
            <p:nvPr/>
          </p:nvSpPr>
          <p:spPr>
            <a:xfrm>
              <a:off x="2970720" y="4048200"/>
              <a:ext cx="2960280" cy="627840"/>
            </a:xfrm>
            <a:prstGeom prst="downArrowCallout">
              <a:avLst>
                <a:gd name="adj1" fmla="val 117886"/>
                <a:gd name="adj2" fmla="val 117876"/>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بیان دوباره یا بازگویی داستان فرد</a:t>
              </a:r>
              <a:endParaRPr b="0" lang="en-US" sz="1200" spc="-1" strike="noStrike">
                <a:solidFill>
                  <a:srgbClr val="000000"/>
                </a:solidFill>
                <a:latin typeface="Arial"/>
              </a:endParaRPr>
            </a:p>
          </p:txBody>
        </p:sp>
        <p:sp>
          <p:nvSpPr>
            <p:cNvPr id="2991" name="AutoShape 8"/>
            <p:cNvSpPr/>
            <p:nvPr/>
          </p:nvSpPr>
          <p:spPr>
            <a:xfrm>
              <a:off x="2970720" y="5520600"/>
              <a:ext cx="2929320" cy="807120"/>
            </a:xfrm>
            <a:prstGeom prst="downArrowCallout">
              <a:avLst>
                <a:gd name="adj1" fmla="val 90742"/>
                <a:gd name="adj2" fmla="val 90734"/>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rtl="1">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نوشتن داستانی در مورد تجربیات شرکت کننده</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2" name="Rectangle 9"/>
            <p:cNvSpPr/>
            <p:nvPr/>
          </p:nvSpPr>
          <p:spPr>
            <a:xfrm>
              <a:off x="2970720" y="6341760"/>
              <a:ext cx="2929320" cy="363600"/>
            </a:xfrm>
            <a:prstGeom prst="rect">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Times New Roman"/>
                  <a:cs typeface="B Nazanin"/>
                </a:rPr>
                <a:t>تأیید صحت گزارش</a:t>
              </a:r>
              <a:endParaRPr b="0" lang="en-US" sz="1200" spc="-1" strike="noStrike">
                <a:solidFill>
                  <a:srgbClr val="000000"/>
                </a:solidFill>
                <a:latin typeface="Arial"/>
              </a:endParaRPr>
            </a:p>
          </p:txBody>
        </p:sp>
        <p:sp>
          <p:nvSpPr>
            <p:cNvPr id="2993" name="AutoShape 10"/>
            <p:cNvSpPr/>
            <p:nvPr/>
          </p:nvSpPr>
          <p:spPr>
            <a:xfrm>
              <a:off x="4024080" y="1360800"/>
              <a:ext cx="819720" cy="320760"/>
            </a:xfrm>
            <a:prstGeom prst="downArrow">
              <a:avLst>
                <a:gd name="adj1" fmla="val 50000"/>
                <a:gd name="adj2" fmla="val 25000"/>
              </a:avLst>
            </a:prstGeom>
            <a:solidFill>
              <a:srgbClr val="ffffff"/>
            </a:solidFill>
            <a:ln w="31680">
              <a:solidFill>
                <a:srgbClr val="4bacc6"/>
              </a:solidFill>
              <a:miter/>
            </a:ln>
          </p:spPr>
          <p:style>
            <a:lnRef idx="0"/>
            <a:fillRef idx="0"/>
            <a:effectRef idx="0"/>
            <a:fontRef idx="minor"/>
          </p:style>
          <p:txBody>
            <a:bodyPr lIns="90000" rIns="90000" tIns="46800" bIns="46800" anchor="t" vert="eaVe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4" name="AutoShape 11"/>
            <p:cNvSpPr/>
            <p:nvPr/>
          </p:nvSpPr>
          <p:spPr>
            <a:xfrm>
              <a:off x="2958480" y="3366000"/>
              <a:ext cx="2972880" cy="677160"/>
            </a:xfrm>
            <a:prstGeom prst="downArrowCallout">
              <a:avLst>
                <a:gd name="adj1" fmla="val 109765"/>
                <a:gd name="adj2" fmla="val 109755"/>
                <a:gd name="adj3" fmla="val 16667"/>
                <a:gd name="adj4" fmla="val 66667"/>
              </a:avLst>
            </a:prstGeom>
            <a:solidFill>
              <a:srgbClr val="ffffff"/>
            </a:solidFill>
            <a:ln w="31680">
              <a:solidFill>
                <a:srgbClr val="4bacc6"/>
              </a:solidFill>
              <a:miter/>
            </a:ln>
          </p:spPr>
          <p:style>
            <a:lnRef idx="0"/>
            <a:fillRef idx="0"/>
            <a:effectRef idx="0"/>
            <a:fontRef idx="minor"/>
          </p:style>
          <p:txBody>
            <a:bodyPr lIns="90000" rIns="90000" tIns="46800" bIns="46800" anchor="t">
              <a:norm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200" spc="-1" strike="noStrike">
                  <a:solidFill>
                    <a:srgbClr val="000000"/>
                  </a:solidFill>
                  <a:latin typeface="Calibri"/>
                  <a:cs typeface="B Nazanin"/>
                </a:rPr>
                <a:t>جمع آوری روایت از آن فرد</a:t>
              </a:r>
              <a:endParaRPr b="0" lang="en-US" sz="1200" spc="-1" strike="noStrike">
                <a:solidFill>
                  <a:srgbClr val="000000"/>
                </a:solidFill>
                <a:latin typeface="Arial"/>
              </a:endParaRPr>
            </a:p>
          </p:txBody>
        </p:sp>
      </p:grpSp>
      <p:sp>
        <p:nvSpPr>
          <p:cNvPr id="2995" name="Rectangle 12"/>
          <p:cNvSpPr/>
          <p:nvPr/>
        </p:nvSpPr>
        <p:spPr>
          <a:xfrm>
            <a:off x="4267080" y="-18720"/>
            <a:ext cx="47246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مودار مراحل اجرای پژوه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6" name="Rectangle 3"/>
          <p:cNvGrpSpPr/>
          <p:nvPr/>
        </p:nvGrpSpPr>
        <p:grpSpPr>
          <a:xfrm>
            <a:off x="-60480" y="1060560"/>
            <a:ext cx="9198000" cy="5816520"/>
            <a:chOff x="-60480" y="1060560"/>
            <a:chExt cx="9198000" cy="5816520"/>
          </a:xfrm>
        </p:grpSpPr>
        <p:pic>
          <p:nvPicPr>
            <p:cNvPr id="2997" name="Rectangle 3" descr=""/>
            <p:cNvPicPr/>
            <p:nvPr/>
          </p:nvPicPr>
          <p:blipFill>
            <a:blip r:embed="rId1"/>
            <a:stretch/>
          </p:blipFill>
          <p:spPr>
            <a:xfrm>
              <a:off x="-60480" y="1060560"/>
              <a:ext cx="9198000" cy="5816520"/>
            </a:xfrm>
            <a:prstGeom prst="rect">
              <a:avLst/>
            </a:prstGeom>
            <a:ln w="0">
              <a:noFill/>
            </a:ln>
          </p:spPr>
        </p:pic>
        <p:sp>
          <p:nvSpPr>
            <p:cNvPr id="2998" name=""/>
            <p:cNvSpPr/>
            <p:nvPr/>
          </p:nvSpPr>
          <p:spPr>
            <a:xfrm>
              <a:off x="173160" y="1197000"/>
              <a:ext cx="878508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 مجموع یافته‌های پژوهش نتیجه گرفته شد که، پیاده‌سازی موفق برنامة جدید کارورزی دانشگاه فرهنگیان کشورمان با موانعی روبه‌روست که مهم‌ترین آن‌ها عبارت‌اند از: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موانع مرتبط با تعامل ضعیف مجموعة مدیریتی و ساختاری دانشگاه فرهنگیان با ادارات کل آموزش و پرورش استان‌ها و مدیران مدرسه­ه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تخصیص نیافتن منابع مالی مناسب و کاف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ضعف در طراحی، اجرا و ارزشیابی برنامة جدید کارورزی؛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شفاف نبودن سطح وظیفه­های استادن راهنمای تربیتی و تخصصی، معلمان راهنما و عوامل اجرایی مدرسه­ها؛</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Symbol" charset="2"/>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ناآگاهی بخشی و اجرای آموزش ضمن خدمت معلمان راهنما. </a:t>
              </a:r>
              <a:endParaRPr b="0" lang="en-US" sz="1800" spc="-1" strike="noStrike">
                <a:solidFill>
                  <a:srgbClr val="000000"/>
                </a:solidFill>
                <a:latin typeface="Arial"/>
              </a:endParaRPr>
            </a:p>
            <a:p>
              <a:pPr marL="343080" indent="-343080" algn="just" rtl="1">
                <a:lnSpc>
                  <a:spcPct val="107000"/>
                </a:lnSpc>
                <a:spcBef>
                  <a:spcPts val="451"/>
                </a:spcBef>
                <a:buClr>
                  <a:srgbClr val="000000"/>
                </a:buClr>
                <a:buFont typeface="Arial"/>
                <a:buChar char="•"/>
                <a:tabLst>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ea typeface="B Nazanin"/>
                </a:rPr>
                <a:t>  براساس یافته‌های این پژوهش می‌توان نتیجه گرفت که تمامی موانع پنج­گانة یاد شده در جلوگیری از کاربست موفق برنامة جدید کارورزی در تربیت معلم فکور تأثیرگذار هستند. نتایج پژوهش حاضر می‌تواند دریچه‌های جدیدی برای توجه بنیادی‌تر به موضوع کارورزی دانشجو معلمان باز کند. برنامه‌ریزان و مسئولان وزارت آموزش و پرورش و دانشگاه فرهنگیان می‌توانند این یافته‌ها را در ایجاد تغییرات مطلوب در برنامة جدیدکارورزی مد نظر قرار دهند و در فرایند بازنگری برنامة جدید کارورزی نسبت به تعدیل و رفع موانع شناسایی شده اقدام کنند. برای نیل به چنین هدفی براساس نتایج به دست آمده از پژوهش، پیشنهادهای زیر ارائه می‌شوند:</a:t>
              </a:r>
              <a:endParaRPr b="0" lang="en-US" sz="1800" spc="-1" strike="noStrike">
                <a:solidFill>
                  <a:srgbClr val="000000"/>
                </a:solidFill>
                <a:latin typeface="Arial"/>
              </a:endParaRPr>
            </a:p>
          </p:txBody>
        </p:sp>
      </p:grpSp>
      <p:pic>
        <p:nvPicPr>
          <p:cNvPr id="2999" name="Content Placeholder 3" descr="Image-1002.jpg"/>
          <p:cNvPicPr/>
          <p:nvPr/>
        </p:nvPicPr>
        <p:blipFill>
          <a:blip r:embed="rId2"/>
          <a:stretch/>
        </p:blipFill>
        <p:spPr>
          <a:xfrm>
            <a:off x="-12600" y="-12600"/>
            <a:ext cx="9156600" cy="1079280"/>
          </a:xfrm>
          <a:prstGeom prst="rect">
            <a:avLst/>
          </a:prstGeom>
          <a:ln w="0">
            <a:noFill/>
          </a:ln>
        </p:spPr>
      </p:pic>
      <p:sp>
        <p:nvSpPr>
          <p:cNvPr id="3000" name="Rectangle 1"/>
          <p:cNvSpPr/>
          <p:nvPr/>
        </p:nvSpPr>
        <p:spPr>
          <a:xfrm>
            <a:off x="6845760" y="173160"/>
            <a:ext cx="214380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پیشنهاده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6"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بیان حضرت امام خميني (ره)   </a:t>
            </a:r>
            <a:endParaRPr b="0" lang="en-US" sz="3600" spc="-1" strike="noStrike">
              <a:solidFill>
                <a:srgbClr val="000000"/>
              </a:solidFill>
              <a:latin typeface="Arial"/>
            </a:endParaRPr>
          </a:p>
        </p:txBody>
      </p:sp>
      <p:pic>
        <p:nvPicPr>
          <p:cNvPr id="2947" name="Picture 6" descr="http://uploadpa.com/beta/12/nxv0icep46awvmgvb1n6.gif">
            <a:hlinkClick r:id="rId1"/>
          </p:cNvPr>
          <p:cNvPicPr/>
          <p:nvPr/>
        </p:nvPicPr>
        <p:blipFill>
          <a:blip r:embed="rId2"/>
          <a:stretch/>
        </p:blipFill>
        <p:spPr>
          <a:xfrm>
            <a:off x="152280" y="76320"/>
            <a:ext cx="1600200" cy="990360"/>
          </a:xfrm>
          <a:prstGeom prst="rect">
            <a:avLst/>
          </a:prstGeom>
          <a:ln w="0">
            <a:noFill/>
          </a:ln>
        </p:spPr>
      </p:pic>
      <p:sp>
        <p:nvSpPr>
          <p:cNvPr id="2948" name="Rectangle 5"/>
          <p:cNvSpPr/>
          <p:nvPr/>
        </p:nvSpPr>
        <p:spPr>
          <a:xfrm>
            <a:off x="380880" y="2666880"/>
            <a:ext cx="8229600" cy="39344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Arial"/>
                <a:cs typeface="B Davat"/>
              </a:rPr>
              <a:t>به مناسبت بازگشايي مراكز تربيت معلم: «شما عزيزان كه دامن به كمر زده و در راه تربيت معلم قدم بر مي داريد از عمق ارزش كار خود آگاه باشيد و در راه اين هدف مقدس از هيچ كوششي دريغ نورزيد.»</a:t>
            </a:r>
            <a:endParaRPr b="0" lang="en-US" sz="3600" spc="-1" strike="noStrike">
              <a:solidFill>
                <a:srgbClr val="000000"/>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49" name="Picture 2" descr="C:\Users\afzali1.MPA\Pictures\untitled.png"/>
          <p:cNvPicPr/>
          <p:nvPr/>
        </p:nvPicPr>
        <p:blipFill>
          <a:blip r:embed="rId3"/>
          <a:stretch/>
        </p:blipFill>
        <p:spPr>
          <a:xfrm>
            <a:off x="6781680" y="533520"/>
            <a:ext cx="1524240" cy="1998720"/>
          </a:xfrm>
          <a:prstGeom prst="rect">
            <a:avLst/>
          </a:prstGeom>
          <a:ln w="0">
            <a:noFill/>
          </a:ln>
        </p:spPr>
      </p:pic>
      <p:sp>
        <p:nvSpPr>
          <p:cNvPr id="2950" name="Rectangle 7"/>
          <p:cNvSpPr/>
          <p:nvPr/>
        </p:nvSpPr>
        <p:spPr>
          <a:xfrm>
            <a:off x="764280" y="5257800"/>
            <a:ext cx="1194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Davat"/>
              </a:rPr>
              <a:t>1360/10/7</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1" name="Rectangle 3"/>
          <p:cNvGrpSpPr/>
          <p:nvPr/>
        </p:nvGrpSpPr>
        <p:grpSpPr>
          <a:xfrm>
            <a:off x="-36360" y="957240"/>
            <a:ext cx="9156600" cy="5742000"/>
            <a:chOff x="-36360" y="957240"/>
            <a:chExt cx="9156600" cy="5742000"/>
          </a:xfrm>
        </p:grpSpPr>
        <p:pic>
          <p:nvPicPr>
            <p:cNvPr id="3002" name="Rectangle 3" descr=""/>
            <p:cNvPicPr/>
            <p:nvPr/>
          </p:nvPicPr>
          <p:blipFill>
            <a:blip r:embed="rId1"/>
            <a:stretch/>
          </p:blipFill>
          <p:spPr>
            <a:xfrm>
              <a:off x="-36360" y="957240"/>
              <a:ext cx="9156600" cy="5742000"/>
            </a:xfrm>
            <a:prstGeom prst="rect">
              <a:avLst/>
            </a:prstGeom>
            <a:ln w="0">
              <a:noFill/>
            </a:ln>
          </p:spPr>
        </p:pic>
        <p:sp>
          <p:nvSpPr>
            <p:cNvPr id="3003" name=""/>
            <p:cNvSpPr/>
            <p:nvPr/>
          </p:nvSpPr>
          <p:spPr>
            <a:xfrm>
              <a:off x="173160" y="1093680"/>
              <a:ext cx="8785080" cy="547236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در ساختار سازمانی اجرای طرح کارورزی و طراحی سازوکار مؤثر برای هماهنگی‌ها و تعامل لازم بین مناطق آموزش و پرورش، مدرسه­ها و پردیس‌های دانشگاه فرهنگیان در سراسر کشور.</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شویق مدیران ستادی به‌منظور حمایت از برنامة جدید کارورزی و پیگیری برای اجرا و ارزشیابی مناسب برنامه.</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رنامه‌ریزی و طراحی نظام تخصیص منابع مالی کافی برای اجرای برنامة جدید کارورزی در بازنگری، اجرا، و نظارت و ارزشیاب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هیه و تصویب منابع و سرفصل درسی متناسب با درس کارورزی در رشته‌های علوم تربیتی و سایر رشته‌های کارشناسی پیوسته، به‌ویژه در برنامة درسی کارورزی </a:t>
              </a:r>
              <a:r>
                <a:rPr b="0" lang="fa-IR" sz="1600" spc="-1" strike="noStrike">
                  <a:solidFill>
                    <a:srgbClr val="000000"/>
                  </a:solidFill>
                  <a:latin typeface="Calibri"/>
                  <a:ea typeface="B Nazanin"/>
                </a:rPr>
                <a:t>3</a:t>
              </a:r>
              <a:r>
                <a:rPr b="0" lang="fa-IR" sz="1600" spc="-1" strike="noStrike">
                  <a:solidFill>
                    <a:srgbClr val="000000"/>
                  </a:solidFill>
                  <a:latin typeface="Calibri"/>
                  <a:ea typeface="B Nazanin"/>
                </a:rPr>
                <a:t> و </a:t>
              </a:r>
              <a:r>
                <a:rPr b="0" lang="fa-IR" sz="1600" spc="-1" strike="noStrike">
                  <a:solidFill>
                    <a:srgbClr val="000000"/>
                  </a:solidFill>
                  <a:latin typeface="Calibri"/>
                  <a:ea typeface="B Nazanin"/>
                </a:rPr>
                <a:t>4</a:t>
              </a:r>
              <a:r>
                <a:rPr b="0" lang="fa-IR" sz="1600" spc="-1" strike="noStrike">
                  <a:solidFill>
                    <a:srgbClr val="000000"/>
                  </a:solidFill>
                  <a:latin typeface="Calibri"/>
                  <a:ea typeface="B Nazanin"/>
                </a:rPr>
                <a:t>.</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بازنگری کلی در برنامة جدید کارورزی دانشگاه فرهنگیان.</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نظارت و ارزیابی مناسب فرایند و برایند برنامة جدید کارورزی و استفاده از نتایج آن برای بازنگری در برنامة جدی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تدوین و تصویب آیین‌نامة مدرسه­های وابسته به دانشگاه فرهنگیان به عنوان مدرسه­های کارورزی که شرایط و امکانات لازم برای اجرای درس کارورزی از نظر نیروی انسانی، فضا و تجهیزات در آن‌ها فراهم شود.</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پیش‌بینی دوره‌های بازآموزی مؤثر برای استادان راهنما و معلمان راهنمای کاروزی در مدرسه­ها به تفکیک رشته‌های تحصیلی و حوزة کاری.</a:t>
              </a:r>
              <a:endParaRPr b="0" lang="en-US" sz="1600" spc="-1" strike="noStrike">
                <a:solidFill>
                  <a:srgbClr val="000000"/>
                </a:solidFill>
                <a:latin typeface="Arial"/>
              </a:endParaRPr>
            </a:p>
            <a:p>
              <a:pPr marL="343080" indent="-343080" algn="just" rtl="1">
                <a:lnSpc>
                  <a:spcPct val="107000"/>
                </a:lnSpc>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cs typeface="B Nazanin"/>
                </a:rPr>
                <a:t>اطلاع‌رسانی و آگاهی‌بخشی، با برگزاری نشست‌های تخصصی با حضور استادان دانشگاه فرهنگیان، مدیران مدرسه­ها و معلمان راهنمای کارورزی، به منظور تبیین فرایند اجرا و دستیابی به فهم مشترک از برنامة جدید کارورزی در تربیت معلم.</a:t>
              </a:r>
              <a:endParaRPr b="0" lang="en-US" sz="1600" spc="-1" strike="noStrike">
                <a:solidFill>
                  <a:srgbClr val="000000"/>
                </a:solidFill>
                <a:latin typeface="Arial"/>
              </a:endParaRPr>
            </a:p>
          </p:txBody>
        </p:sp>
      </p:grpSp>
      <p:pic>
        <p:nvPicPr>
          <p:cNvPr id="3004" name="Content Placeholder 3" descr="Image-1002.jpg"/>
          <p:cNvPicPr/>
          <p:nvPr/>
        </p:nvPicPr>
        <p:blipFill>
          <a:blip r:embed="rId2"/>
          <a:stretch/>
        </p:blipFill>
        <p:spPr>
          <a:xfrm>
            <a:off x="-12600" y="-12600"/>
            <a:ext cx="9156600" cy="1079280"/>
          </a:xfrm>
          <a:prstGeom prst="rect">
            <a:avLst/>
          </a:prstGeom>
          <a:ln w="0">
            <a:noFill/>
          </a:ln>
        </p:spPr>
      </p:pic>
      <p:sp>
        <p:nvSpPr>
          <p:cNvPr id="3005" name="Rectangle 5"/>
          <p:cNvSpPr/>
          <p:nvPr/>
        </p:nvSpPr>
        <p:spPr>
          <a:xfrm>
            <a:off x="5362200" y="150840"/>
            <a:ext cx="3929760" cy="61524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ea typeface="B Nazanin"/>
              </a:rPr>
              <a:t> بحث و نتیجه گیر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6" name="Title 1" descr=""/>
          <p:cNvPicPr/>
          <p:nvPr/>
        </p:nvPicPr>
        <p:blipFill>
          <a:blip r:embed="rId1"/>
          <a:stretch/>
        </p:blipFill>
        <p:spPr>
          <a:xfrm>
            <a:off x="530280" y="-23760"/>
            <a:ext cx="8272440" cy="6669000"/>
          </a:xfrm>
          <a:prstGeom prst="rect">
            <a:avLst/>
          </a:prstGeom>
          <a:ln w="0">
            <a:noFill/>
          </a:ln>
        </p:spPr>
      </p:pic>
      <p:pic>
        <p:nvPicPr>
          <p:cNvPr id="3007" name="Content Placeholder 3" descr="Image-2343.JPG"/>
          <p:cNvPicPr/>
          <p:nvPr/>
        </p:nvPicPr>
        <p:blipFill>
          <a:blip r:embed="rId2"/>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8" name="PlaceHolder 1"/>
          <p:cNvSpPr>
            <a:spLocks noGrp="1"/>
          </p:cNvSpPr>
          <p:nvPr>
            <p:ph type="title"/>
          </p:nvPr>
        </p:nvSpPr>
        <p:spPr>
          <a:xfrm>
            <a:off x="539640" y="333360"/>
            <a:ext cx="8229600" cy="6308640"/>
          </a:xfrm>
          <a:prstGeom prst="rect">
            <a:avLst/>
          </a:prstGeom>
          <a:noFill/>
          <a:ln w="0">
            <a:noFill/>
          </a:ln>
        </p:spPr>
        <p:txBody>
          <a:bodyPr anchor="ctr">
            <a:noAutofit/>
          </a:bodyPr>
          <a:p>
            <a:pPr marL="15840" indent="0" rtl="1">
              <a:lnSpc>
                <a:spcPct val="10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r>
              <a:rPr b="1" lang="fa-IR" sz="1200" spc="-1" strike="noStrike">
                <a:solidFill>
                  <a:srgbClr val="000000"/>
                </a:solidFill>
                <a:latin typeface="2  Nazanin"/>
                <a:cs typeface="B Nazanin"/>
              </a:rPr>
              <a:t>فهرست منابع</a:t>
            </a:r>
            <a:br>
              <a:rPr sz="1200"/>
            </a:br>
            <a:br>
              <a:rPr sz="1200"/>
            </a:b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Brown, N. (2008). </a:t>
            </a:r>
            <a:r>
              <a:rPr b="0" i="1" lang="fa-IR" sz="1200" spc="-1" strike="noStrike">
                <a:solidFill>
                  <a:srgbClr val="000000"/>
                </a:solidFill>
                <a:latin typeface="Times New Roman"/>
                <a:ea typeface="B Nazanin"/>
              </a:rPr>
              <a:t>Assessment in the Professional </a:t>
            </a:r>
            <a:r>
              <a:rPr b="0" i="1" lang="en-US" sz="1200" spc="-1" strike="noStrike">
                <a:solidFill>
                  <a:srgbClr val="000000"/>
                </a:solidFill>
                <a:latin typeface="Times New Roman"/>
                <a:ea typeface="B Nazanin"/>
              </a:rPr>
              <a:t>A</a:t>
            </a:r>
            <a:r>
              <a:rPr b="0" i="1" lang="fa-IR" sz="1200" spc="-1" strike="noStrike">
                <a:solidFill>
                  <a:srgbClr val="000000"/>
                </a:solidFill>
                <a:latin typeface="Times New Roman"/>
                <a:ea typeface="B Nazanin"/>
              </a:rPr>
              <a:t>rea Context. Center</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for the Advancement of Learning and Teaching</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University of</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asmania. 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1"/>
              </a:rPr>
              <a:t>http://www.21learn.org/arch/articles/brown_seely.html</a:t>
            </a:r>
            <a:br>
              <a:rPr sz="1100"/>
            </a:br>
            <a:r>
              <a:rPr b="0" lang="fa-IR" sz="1200" spc="-1" strike="noStrike">
                <a:solidFill>
                  <a:srgbClr val="000000"/>
                </a:solidFill>
                <a:latin typeface="Times New Roman"/>
                <a:ea typeface="B Nazanin"/>
              </a:rPr>
              <a:t>Brown, J</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Seely, 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Ann</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H.</a:t>
            </a:r>
            <a:r>
              <a:rPr b="0" lang="en-US" sz="1200" spc="-1" strike="noStrike">
                <a:solidFill>
                  <a:srgbClr val="000000"/>
                </a:solidFill>
                <a:latin typeface="Times New Roman"/>
                <a:ea typeface="B Nazanin"/>
              </a:rPr>
              <a:t> (1991).</a:t>
            </a:r>
            <a:r>
              <a:rPr b="0" lang="fa-IR" sz="1200" spc="-1" strike="noStrike">
                <a:solidFill>
                  <a:srgbClr val="000000"/>
                </a:solidFill>
                <a:latin typeface="Times New Roman"/>
                <a:ea typeface="B Nazanin"/>
              </a:rPr>
              <a:t> Cognitive Apprenticeship: Making</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Thinking Visible. 21st Century Learning Initiative</a:t>
            </a:r>
            <a:r>
              <a:rPr b="0" lang="en-US" sz="1200" spc="-1" strike="noStrike">
                <a:solidFill>
                  <a:srgbClr val="000000"/>
                </a:solidFill>
                <a:latin typeface="Times New Roman"/>
                <a:ea typeface="B Nazanin"/>
              </a:rPr>
              <a:t>. Educational Researcher, 18 (1). 42-31.</a:t>
            </a:r>
            <a:br>
              <a:rPr sz="1100"/>
            </a:br>
            <a:r>
              <a:rPr b="0" lang="fa-IR" sz="1200" spc="-1" strike="noStrike">
                <a:solidFill>
                  <a:srgbClr val="000000"/>
                </a:solidFill>
                <a:latin typeface="Times New Roman"/>
                <a:ea typeface="B Nazanin"/>
              </a:rPr>
              <a:t>Bukaliya</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 (2012).The potential benefits and challenges of intership programnes in an</a:t>
            </a:r>
            <a:r>
              <a:rPr b="0" lang="en-US" sz="1200" spc="-1" strike="noStrike">
                <a:solidFill>
                  <a:srgbClr val="000000"/>
                </a:solidFill>
                <a:latin typeface="Times New Roman"/>
                <a:ea typeface="B Nazanin"/>
              </a:rPr>
              <a:t> Old</a:t>
            </a:r>
            <a:r>
              <a:rPr b="0" lang="fa-IR" sz="1200" spc="-1" strike="noStrike">
                <a:solidFill>
                  <a:srgbClr val="000000"/>
                </a:solidFill>
                <a:latin typeface="Times New Roman"/>
                <a:ea typeface="B Nazanin"/>
              </a:rPr>
              <a:t> institutions: a case for the zimbabaw open university. </a:t>
            </a:r>
            <a:r>
              <a:rPr b="0" i="1" lang="fa-IR" sz="1200" spc="-1" strike="noStrike">
                <a:solidFill>
                  <a:srgbClr val="000000"/>
                </a:solidFill>
                <a:latin typeface="Times New Roman"/>
                <a:ea typeface="B Nazanin"/>
              </a:rPr>
              <a:t>International journal on nrw trends in education on thir implication</a:t>
            </a:r>
            <a:r>
              <a:rPr b="0" lang="en-US" sz="1200" spc="-1" strike="noStrike">
                <a:solidFill>
                  <a:srgbClr val="000000"/>
                </a:solidFill>
                <a:latin typeface="Times New Roman"/>
                <a:ea typeface="B Nazanin"/>
              </a:rPr>
              <a:t>, 3 (13), 6249</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1309</a:t>
            </a:r>
            <a:r>
              <a:rPr b="0" lang="fa-IR"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Bukaliya, M. (2015). Exploring the effectiveness of student re</a:t>
            </a:r>
            <a:r>
              <a:rPr b="0" lang="en-US" sz="1200" spc="-1" strike="noStrike">
                <a:solidFill>
                  <a:srgbClr val="000000"/>
                </a:solidFill>
                <a:latin typeface="Times New Roman"/>
                <a:ea typeface="B Nazanin"/>
              </a:rPr>
              <a:t>p</a:t>
            </a:r>
            <a:r>
              <a:rPr b="0" lang="fa-IR" sz="1200" spc="-1" strike="noStrike">
                <a:solidFill>
                  <a:srgbClr val="000000"/>
                </a:solidFill>
                <a:latin typeface="Times New Roman"/>
                <a:ea typeface="B Nazanin"/>
              </a:rPr>
              <a:t>resentative councils in open and distance learning a case for Zimbabwe in open university</a:t>
            </a:r>
            <a:r>
              <a:rPr b="0" lang="en-US" sz="1200" spc="-1" strike="noStrike">
                <a:solidFill>
                  <a:srgbClr val="000000"/>
                </a:solidFill>
                <a:latin typeface="Times New Roman"/>
                <a:ea typeface="B Nazanin"/>
              </a:rPr>
              <a:t>, </a:t>
            </a:r>
            <a:r>
              <a:rPr b="0" i="1" lang="fa-IR" sz="1200" spc="-1" strike="noStrike">
                <a:solidFill>
                  <a:srgbClr val="000000"/>
                </a:solidFill>
                <a:latin typeface="Times New Roman"/>
                <a:ea typeface="B Nazanin"/>
              </a:rPr>
              <a:t>international journal on new trends in education and their implications</a:t>
            </a:r>
            <a:r>
              <a:rPr b="0" lang="fa-IR" sz="1200" spc="-1" strike="noStrike">
                <a:solidFill>
                  <a:srgbClr val="000000"/>
                </a:solidFill>
                <a:latin typeface="Times New Roman"/>
                <a:ea typeface="B Nazanin"/>
              </a:rPr>
              <a:t>, 3 (1),</a:t>
            </a:r>
            <a:r>
              <a:rPr b="0" lang="en-US" sz="1200" spc="-1" strike="noStrike">
                <a:solidFill>
                  <a:srgbClr val="000000"/>
                </a:solidFill>
                <a:latin typeface="Times New Roman"/>
                <a:ea typeface="B Nazanin"/>
              </a:rPr>
              <a:t>90</a:t>
            </a:r>
            <a:r>
              <a:rPr b="0" lang="fa-IR" sz="1200" spc="-1" strike="noStrike">
                <a:solidFill>
                  <a:srgbClr val="000000"/>
                </a:solidFill>
                <a:latin typeface="Times New Roman"/>
                <a:ea typeface="B Nazanin"/>
              </a:rPr>
              <a:t>-</a:t>
            </a:r>
            <a:r>
              <a:rPr b="0" lang="en-US" sz="1200" spc="-1" strike="noStrike">
                <a:solidFill>
                  <a:srgbClr val="000000"/>
                </a:solidFill>
                <a:latin typeface="Times New Roman"/>
                <a:ea typeface="B Nazanin"/>
              </a:rPr>
              <a:t>80</a:t>
            </a:r>
            <a:br>
              <a:rPr sz="1100"/>
            </a:br>
            <a:r>
              <a:rPr b="0" lang="fa-IR" sz="1200" spc="-1" strike="noStrike">
                <a:solidFill>
                  <a:srgbClr val="000000"/>
                </a:solidFill>
                <a:latin typeface="Times New Roman"/>
                <a:ea typeface="B Nazanin"/>
              </a:rPr>
              <a:t>Creswell, J.</a:t>
            </a:r>
            <a:r>
              <a:rPr b="0" lang="en-US"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W. (2007)</a:t>
            </a:r>
            <a:r>
              <a:rPr b="0" lang="ar-SA" sz="1200" spc="-1" strike="noStrike">
                <a:solidFill>
                  <a:srgbClr val="000000"/>
                </a:solidFill>
                <a:latin typeface="Times New Roman"/>
                <a:ea typeface="B Nazanin"/>
              </a:rPr>
              <a:t>.</a:t>
            </a:r>
            <a:r>
              <a:rPr b="0" lang="ar-SA" sz="1200" spc="-1" strike="noStrike">
                <a:solidFill>
                  <a:srgbClr val="000000"/>
                </a:solidFill>
                <a:latin typeface="Calibri"/>
                <a:ea typeface="Times New Roman"/>
              </a:rPr>
              <a:t> </a:t>
            </a:r>
            <a:r>
              <a:rPr b="0" i="1" lang="fa-IR" sz="1200" spc="-1" strike="noStrike">
                <a:solidFill>
                  <a:srgbClr val="000000"/>
                </a:solidFill>
                <a:latin typeface="Times New Roman"/>
                <a:ea typeface="B Nazanin"/>
              </a:rPr>
              <a:t>The designing and conducting mixed methods</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research. Thousand Oak</a:t>
            </a:r>
            <a:r>
              <a:rPr b="0" lang="fa-IR" sz="1200" spc="-1" strike="noStrike">
                <a:solidFill>
                  <a:srgbClr val="000000"/>
                </a:solidFill>
                <a:latin typeface="Times New Roman"/>
                <a:ea typeface="B Nazanin"/>
              </a:rPr>
              <a:t>s</a:t>
            </a:r>
            <a:r>
              <a:rPr b="0" lang="ar-SA" sz="1200" spc="-1" strike="noStrike">
                <a:solidFill>
                  <a:srgbClr val="000000"/>
                </a:solidFill>
                <a:latin typeface="Times New Roman"/>
                <a:ea typeface="B Nazanin"/>
              </a:rPr>
              <a:t>.</a:t>
            </a:r>
            <a:r>
              <a:rPr b="0" lang="fa-IR" sz="1200" spc="-1" strike="noStrike">
                <a:solidFill>
                  <a:srgbClr val="000000"/>
                </a:solidFill>
                <a:latin typeface="Times New Roman"/>
                <a:ea typeface="B Nazanin"/>
              </a:rPr>
              <a:t> CA: Sage.</a:t>
            </a:r>
            <a:br>
              <a:rPr sz="1100"/>
            </a:br>
            <a:r>
              <a:rPr b="0" lang="fa-IR" sz="1200" spc="-1" strike="noStrike">
                <a:solidFill>
                  <a:srgbClr val="000000"/>
                </a:solidFill>
                <a:latin typeface="Times New Roman"/>
                <a:ea typeface="B Nazanin"/>
              </a:rPr>
              <a:t>La</a:t>
            </a:r>
            <a:r>
              <a:rPr b="0" lang="en-US" sz="1200" spc="-1" strike="noStrike">
                <a:solidFill>
                  <a:srgbClr val="000000"/>
                </a:solidFill>
                <a:latin typeface="Times New Roman"/>
                <a:ea typeface="B Nazanin"/>
              </a:rPr>
              <a:t>b</a:t>
            </a:r>
            <a:r>
              <a:rPr b="0" lang="fa-IR" sz="1200" spc="-1" strike="noStrike">
                <a:solidFill>
                  <a:srgbClr val="000000"/>
                </a:solidFill>
                <a:latin typeface="Times New Roman"/>
                <a:ea typeface="B Nazanin"/>
              </a:rPr>
              <a:t>oskey, V. K. (2014). Development of reflectivle practice: A study</a:t>
            </a:r>
            <a:r>
              <a:rPr b="0" lang="fa-IR" sz="1200" spc="-1" strike="noStrike">
                <a:solidFill>
                  <a:srgbClr val="000000"/>
                </a:solidFill>
                <a:latin typeface="B Nazanin"/>
                <a:ea typeface="Arial"/>
              </a:rPr>
              <a:t> </a:t>
            </a:r>
            <a:r>
              <a:rPr b="0" lang="fa-IR" sz="1200" spc="-1" strike="noStrike">
                <a:solidFill>
                  <a:srgbClr val="000000"/>
                </a:solidFill>
                <a:latin typeface="Times New Roman"/>
                <a:ea typeface="B Nazanin"/>
              </a:rPr>
              <a:t>of preservice teachers. New York: </a:t>
            </a:r>
            <a:r>
              <a:rPr b="0" i="1" lang="fa-IR" sz="1200" spc="-1" strike="noStrike">
                <a:solidFill>
                  <a:srgbClr val="000000"/>
                </a:solidFill>
                <a:latin typeface="Times New Roman"/>
                <a:ea typeface="B Nazanin"/>
              </a:rPr>
              <a:t>Teachers College Press</a:t>
            </a:r>
            <a:r>
              <a:rPr b="0" lang="fa-IR" sz="1200" spc="-1" strike="noStrike">
                <a:solidFill>
                  <a:srgbClr val="000000"/>
                </a:solidFill>
                <a:latin typeface="Times New Roman"/>
                <a:ea typeface="B Nazanin"/>
              </a:rPr>
              <a:t>. </a:t>
            </a:r>
            <a:r>
              <a:rPr b="0" i="1" lang="en-US" sz="1200" spc="-1" strike="noStrike">
                <a:solidFill>
                  <a:srgbClr val="000000"/>
                </a:solidFill>
                <a:latin typeface="Times New Roman"/>
                <a:ea typeface="B Nazanin"/>
              </a:rPr>
              <a:t>International handbook of self-study of teaching and teacher education practices,</a:t>
            </a:r>
            <a:r>
              <a:rPr b="0" lang="en-US" sz="1200" spc="-1" strike="noStrike">
                <a:solidFill>
                  <a:srgbClr val="000000"/>
                </a:solidFill>
                <a:latin typeface="Times New Roman"/>
                <a:ea typeface="B Nazanin"/>
              </a:rPr>
              <a:t> 869 -817.</a:t>
            </a:r>
            <a:br>
              <a:rPr sz="1100"/>
            </a:br>
            <a:r>
              <a:rPr b="0" lang="en-US" sz="1200" spc="-1" strike="noStrike">
                <a:solidFill>
                  <a:srgbClr val="000000"/>
                </a:solidFill>
                <a:latin typeface="Times New Roman"/>
                <a:ea typeface="B Nazanin"/>
              </a:rPr>
              <a:t>Padgett, D. K. (2008). </a:t>
            </a:r>
            <a:r>
              <a:rPr b="0" i="1" lang="en-US" sz="1200" spc="-1" strike="noStrike">
                <a:solidFill>
                  <a:srgbClr val="000000"/>
                </a:solidFill>
                <a:latin typeface="Times New Roman"/>
                <a:ea typeface="B Nazanin"/>
              </a:rPr>
              <a:t>Qualitative methods in social work research</a:t>
            </a:r>
            <a:r>
              <a:rPr b="0" lang="en-US" sz="1200" spc="-1" strike="noStrike">
                <a:solidFill>
                  <a:srgbClr val="000000"/>
                </a:solidFill>
                <a:latin typeface="Times New Roman"/>
                <a:ea typeface="B Nazanin"/>
              </a:rPr>
              <a:t>. London: SAGE.</a:t>
            </a:r>
            <a:br>
              <a:rPr sz="1100"/>
            </a:br>
            <a:r>
              <a:rPr b="0" lang="en-US" sz="1200" spc="-1" strike="noStrike">
                <a:solidFill>
                  <a:srgbClr val="000000"/>
                </a:solidFill>
                <a:latin typeface="Times New Roman"/>
                <a:ea typeface="B Nazanin"/>
              </a:rPr>
              <a:t>Sacks, T. (2015). New pathways to analysis through thick description: Historical trauma and emerging qualitative research. </a:t>
            </a:r>
            <a:r>
              <a:rPr b="0" i="1" lang="en-US" sz="1200" spc="-1" strike="noStrike">
                <a:solidFill>
                  <a:srgbClr val="000000"/>
                </a:solidFill>
                <a:latin typeface="Times New Roman"/>
                <a:ea typeface="B Nazanin"/>
              </a:rPr>
              <a:t>Qualitative Social Work</a:t>
            </a:r>
            <a:r>
              <a:rPr b="0" lang="en-US" sz="1200" spc="-1" strike="noStrike">
                <a:solidFill>
                  <a:srgbClr val="000000"/>
                </a:solidFill>
                <a:latin typeface="Times New Roman"/>
                <a:ea typeface="B Nazanin"/>
              </a:rPr>
              <a:t>, 14(6),757-753.</a:t>
            </a:r>
            <a:br>
              <a:rPr sz="1100"/>
            </a:br>
            <a:r>
              <a:rPr b="0" lang="fa-IR" sz="1200" spc="-1" strike="noStrike">
                <a:solidFill>
                  <a:srgbClr val="000000"/>
                </a:solidFill>
                <a:latin typeface="Times New Roman"/>
                <a:ea typeface="B Nazanin"/>
              </a:rPr>
              <a:t>Teacher Candidate Internship Handbook (2015). </a:t>
            </a:r>
            <a:r>
              <a:rPr b="0" i="1" lang="fa-IR" sz="1200" spc="-1" strike="noStrike">
                <a:solidFill>
                  <a:srgbClr val="000000"/>
                </a:solidFill>
                <a:latin typeface="Times New Roman"/>
                <a:ea typeface="B Nazanin"/>
              </a:rPr>
              <a:t>Darden College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University of Western Ontario</a:t>
            </a:r>
            <a:r>
              <a:rPr b="0" lang="en-US" sz="1200" spc="-1" strike="noStrike">
                <a:solidFill>
                  <a:srgbClr val="000000"/>
                </a:solidFill>
                <a:latin typeface="Times New Roman"/>
                <a:ea typeface="B Nazanin"/>
              </a:rPr>
              <a:t>. (2016,</a:t>
            </a:r>
            <a:r>
              <a:rPr b="0" lang="en-US" sz="1200" spc="-1" strike="noStrike">
                <a:solidFill>
                  <a:srgbClr val="000000"/>
                </a:solidFill>
                <a:latin typeface="Calibri"/>
                <a:ea typeface="Arial"/>
              </a:rPr>
              <a:t> </a:t>
            </a:r>
            <a:r>
              <a:rPr b="0" lang="fa-IR" sz="1200" spc="-1" strike="noStrike">
                <a:solidFill>
                  <a:srgbClr val="000000"/>
                </a:solidFill>
                <a:latin typeface="Times New Roman"/>
                <a:ea typeface="B Nazanin"/>
              </a:rPr>
              <a:t>January 9). Training program (</a:t>
            </a:r>
            <a:r>
              <a:rPr b="0" lang="en-US" sz="1200" spc="-1" strike="noStrike">
                <a:solidFill>
                  <a:srgbClr val="000000"/>
                </a:solidFill>
                <a:latin typeface="Times New Roman"/>
                <a:ea typeface="B Nazanin"/>
              </a:rPr>
              <a:t>I</a:t>
            </a:r>
            <a:r>
              <a:rPr b="0" lang="fa-IR" sz="1200" spc="-1" strike="noStrike">
                <a:solidFill>
                  <a:srgbClr val="000000"/>
                </a:solidFill>
                <a:latin typeface="Times New Roman"/>
                <a:ea typeface="B Nazanin"/>
              </a:rPr>
              <a:t>nternship) of the education students of the faculty of education</a:t>
            </a:r>
            <a:r>
              <a:rPr b="0" lang="en-US" sz="1200" spc="-1" strike="noStrike">
                <a:solidFill>
                  <a:srgbClr val="000000"/>
                </a:solidFill>
                <a:latin typeface="Times New Roman"/>
                <a:ea typeface="B Nazanin"/>
              </a:rPr>
              <a:t>. </a:t>
            </a:r>
            <a:r>
              <a:rPr b="0" lang="fa-IR" sz="1200" spc="-1" strike="noStrike">
                <a:solidFill>
                  <a:srgbClr val="000000"/>
                </a:solidFill>
                <a:latin typeface="Times New Roman"/>
                <a:ea typeface="B Nazanin"/>
              </a:rPr>
              <a:t>Retrieved from</a:t>
            </a:r>
            <a:r>
              <a:rPr b="0" lang="en-US" sz="1200" spc="-1" strike="noStrike">
                <a:solidFill>
                  <a:srgbClr val="000000"/>
                </a:solidFill>
                <a:latin typeface="Times New Roman"/>
                <a:ea typeface="B Nazanin"/>
              </a:rPr>
              <a:t>, </a:t>
            </a:r>
            <a:r>
              <a:rPr b="0" lang="fa-IR" sz="1200" spc="-1" strike="noStrike" u="sng">
                <a:solidFill>
                  <a:srgbClr val="0000ff"/>
                </a:solidFill>
                <a:uFillTx/>
                <a:latin typeface="Times New Roman"/>
                <a:ea typeface="B Nazanin"/>
                <a:hlinkClick r:id="rId2"/>
              </a:rPr>
              <a:t>www.uwo.ca</a:t>
            </a:r>
            <a:r>
              <a:rPr b="0" i="1" lang="en-US" sz="1200" spc="-1" strike="noStrike">
                <a:solidFill>
                  <a:srgbClr val="000000"/>
                </a:solidFill>
                <a:latin typeface="Times New Roman"/>
                <a:ea typeface="B Nazanin"/>
              </a:rPr>
              <a:t>.</a:t>
            </a:r>
            <a:br>
              <a:rPr sz="1100"/>
            </a:br>
            <a:r>
              <a:rPr b="0" lang="fa-IR" sz="1200" spc="-1" strike="noStrike">
                <a:solidFill>
                  <a:srgbClr val="000000"/>
                </a:solidFill>
                <a:latin typeface="Times New Roman"/>
                <a:ea typeface="B Nazanin"/>
              </a:rPr>
              <a:t>UNESCO</a:t>
            </a:r>
            <a:r>
              <a:rPr b="0" lang="en-US" sz="1200" spc="-1" strike="noStrike">
                <a:solidFill>
                  <a:srgbClr val="000000"/>
                </a:solidFill>
                <a:latin typeface="Times New Roman"/>
                <a:ea typeface="B Nazanin"/>
              </a:rPr>
              <a:t>.</a:t>
            </a:r>
            <a:r>
              <a:rPr b="0" lang="en-US" sz="1200" spc="-1" strike="noStrike">
                <a:solidFill>
                  <a:srgbClr val="000000"/>
                </a:solidFill>
                <a:latin typeface="B Nazanin"/>
                <a:ea typeface="Arial"/>
              </a:rPr>
              <a:t> </a:t>
            </a:r>
            <a:r>
              <a:rPr b="0" lang="fa-IR" sz="1200" spc="-1" strike="noStrike">
                <a:solidFill>
                  <a:srgbClr val="000000"/>
                </a:solidFill>
                <a:latin typeface="Times New Roman"/>
                <a:ea typeface="B Nazanin"/>
              </a:rPr>
              <a:t>(1990). </a:t>
            </a:r>
            <a:r>
              <a:rPr b="0" i="1" lang="fa-IR" sz="1200" spc="-1" strike="noStrike">
                <a:solidFill>
                  <a:srgbClr val="000000"/>
                </a:solidFill>
                <a:latin typeface="Times New Roman"/>
                <a:ea typeface="B Nazanin"/>
              </a:rPr>
              <a:t>Education for the Future, Regional meeting in</a:t>
            </a:r>
            <a:r>
              <a:rPr b="0" i="1" lang="fa-IR" sz="1200" spc="-1" strike="noStrike">
                <a:solidFill>
                  <a:srgbClr val="000000"/>
                </a:solidFill>
                <a:latin typeface="B Nazanin"/>
                <a:ea typeface="Arial"/>
              </a:rPr>
              <a:t> </a:t>
            </a:r>
            <a:r>
              <a:rPr b="0" i="1" lang="fa-IR" sz="1200" spc="-1" strike="noStrike">
                <a:solidFill>
                  <a:srgbClr val="000000"/>
                </a:solidFill>
                <a:latin typeface="Times New Roman"/>
                <a:ea typeface="B Nazanin"/>
              </a:rPr>
              <a:t>Bangkok, Educational Research of the Ministry of Education</a:t>
            </a:r>
            <a:r>
              <a:rPr b="0" lang="fa-IR" sz="1200" spc="-1" strike="noStrike">
                <a:solidFill>
                  <a:srgbClr val="000000"/>
                </a:solidFill>
                <a:latin typeface="Times New Roman"/>
                <a:ea typeface="B Nazanin"/>
              </a:rPr>
              <a:t>. </a:t>
            </a:r>
            <a:br>
              <a:rPr sz="1100"/>
            </a:br>
            <a:r>
              <a:rPr b="0" lang="fa-IR" sz="1200" spc="-1" strike="noStrike">
                <a:solidFill>
                  <a:srgbClr val="000000"/>
                </a:solidFill>
                <a:latin typeface="Times New Roman"/>
                <a:ea typeface="B Nazanin"/>
              </a:rPr>
              <a:t>Xiuli, M. (2012). </a:t>
            </a:r>
            <a:r>
              <a:rPr b="0" i="1" lang="fa-IR" sz="1200" spc="-1" strike="noStrike">
                <a:solidFill>
                  <a:srgbClr val="000000"/>
                </a:solidFill>
                <a:latin typeface="Times New Roman"/>
                <a:ea typeface="B Nazanin"/>
              </a:rPr>
              <a:t>Student Teachers</a:t>
            </a:r>
            <a:r>
              <a:rPr b="0" i="1" lang="en-US" sz="1200" spc="-1" strike="noStrike">
                <a:solidFill>
                  <a:srgbClr val="000000"/>
                </a:solidFill>
                <a:latin typeface="Times New Roman"/>
                <a:ea typeface="B Nazanin"/>
              </a:rPr>
              <a:t>,</a:t>
            </a:r>
            <a:r>
              <a:rPr b="0" i="1" lang="fa-IR" sz="1200" spc="-1" strike="noStrike">
                <a:solidFill>
                  <a:srgbClr val="000000"/>
                </a:solidFill>
                <a:latin typeface="Times New Roman"/>
                <a:ea typeface="B Nazanin"/>
              </a:rPr>
              <a:t> Professional Learning in Teaching Practicum</a:t>
            </a:r>
            <a:r>
              <a:rPr b="0" lang="fa-IR" sz="1200" spc="-1" strike="noStrike">
                <a:solidFill>
                  <a:srgbClr val="000000"/>
                </a:solidFill>
                <a:latin typeface="Times New Roman"/>
                <a:ea typeface="B Nazanin"/>
              </a:rPr>
              <a:t>, For the Degree of Doctor of Philosophy at the University of Hong Kong</a:t>
            </a:r>
            <a:r>
              <a:rPr b="0" lang="fa-IR" sz="1200" spc="-1" strike="noStrike">
                <a:solidFill>
                  <a:srgbClr val="000000"/>
                </a:solidFill>
                <a:latin typeface="Times New Roman"/>
                <a:ea typeface="B Nazanin"/>
              </a:rPr>
              <a:t>.</a:t>
            </a: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200"/>
            </a:br>
            <a:br>
              <a:rPr sz="1000"/>
            </a:br>
            <a:br>
              <a:rPr sz="1000"/>
            </a:br>
            <a:br>
              <a:rPr sz="1000"/>
            </a:br>
            <a:br>
              <a:rPr sz="1000"/>
            </a:br>
            <a:br>
              <a:rPr sz="1000"/>
            </a:br>
            <a:br>
              <a:rPr sz="1000"/>
            </a:br>
            <a:br>
              <a:rPr sz="1000"/>
            </a:br>
            <a:br>
              <a:rPr sz="1000"/>
            </a:br>
            <a:br>
              <a:rPr sz="1000"/>
            </a:br>
            <a:br>
              <a:rPr sz="1000"/>
            </a:br>
            <a:br>
              <a:rPr sz="1000"/>
            </a:br>
            <a:endParaRPr b="0" lang="en-US" sz="1200" spc="-1" strike="noStrike">
              <a:solidFill>
                <a:srgbClr val="000000"/>
              </a:solidFill>
              <a:latin typeface="Calibri"/>
            </a:endParaRPr>
          </a:p>
        </p:txBody>
      </p:sp>
      <p:pic>
        <p:nvPicPr>
          <p:cNvPr id="3009" name="Content Placeholder 3" descr="Image-2343.JPG"/>
          <p:cNvPicPr/>
          <p:nvPr/>
        </p:nvPicPr>
        <p:blipFill>
          <a:blip r:embed="rId3"/>
          <a:stretch/>
        </p:blipFill>
        <p:spPr>
          <a:xfrm>
            <a:off x="0" y="5105520"/>
            <a:ext cx="1905120" cy="167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Rectangle 1"/>
          <p:cNvSpPr/>
          <p:nvPr/>
        </p:nvSpPr>
        <p:spPr>
          <a:xfrm>
            <a:off x="533520" y="1413360"/>
            <a:ext cx="8153280" cy="49698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Arial"/>
                <a:cs typeface="B Davat"/>
              </a:rPr>
              <a:t>دانشگاه فرهنگیان خیلی مهم است اینجا شخصیت معلمی ساخته می شود</a:t>
            </a:r>
            <a:r>
              <a:rPr b="1" lang="en-US" sz="4000" spc="-1" strike="noStrike">
                <a:solidFill>
                  <a:srgbClr val="000000"/>
                </a:solidFill>
                <a:latin typeface="Arial"/>
                <a:ea typeface="B Davat"/>
              </a:rPr>
              <a:t>.</a:t>
            </a:r>
            <a:r>
              <a:rPr b="1" lang="fa-IR" sz="4000" spc="-1" strike="noStrike">
                <a:solidFill>
                  <a:srgbClr val="000000"/>
                </a:solidFill>
                <a:latin typeface="Arial"/>
                <a:ea typeface="B Davat"/>
              </a:rPr>
              <a:t> شخصیت معلم یعنی همان چیزی که آموزش داده می شود. معلم در کلاس شخصیت خود را می آموزد نه معلومات خود را.                           </a:t>
            </a:r>
            <a:r>
              <a:rPr b="1" lang="fa-IR" sz="2800" spc="-1" strike="noStrike">
                <a:solidFill>
                  <a:srgbClr val="000000"/>
                </a:solidFill>
                <a:latin typeface="Arial"/>
                <a:ea typeface="B Davat"/>
              </a:rPr>
              <a:t>92/2/9</a:t>
            </a:r>
            <a:endParaRPr b="0" lang="en-US" sz="2800" spc="-1" strike="noStrike">
              <a:solidFill>
                <a:srgbClr val="000000"/>
              </a:solidFill>
              <a:latin typeface="Arial"/>
            </a:endParaRPr>
          </a:p>
        </p:txBody>
      </p:sp>
      <p:sp>
        <p:nvSpPr>
          <p:cNvPr id="2952" name="TextBox 4"/>
          <p:cNvSpPr/>
          <p:nvPr/>
        </p:nvSpPr>
        <p:spPr>
          <a:xfrm>
            <a:off x="1143000" y="1447920"/>
            <a:ext cx="586728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Arial"/>
                <a:cs typeface="B Titr"/>
              </a:rPr>
              <a:t>مقام معظم رهبری (مدظله العالی)</a:t>
            </a:r>
            <a:endParaRPr b="0" lang="en-US" sz="3600" spc="-1" strike="noStrike">
              <a:solidFill>
                <a:srgbClr val="000000"/>
              </a:solidFill>
              <a:latin typeface="Arial"/>
            </a:endParaRPr>
          </a:p>
        </p:txBody>
      </p:sp>
      <p:pic>
        <p:nvPicPr>
          <p:cNvPr id="2953" name="Picture 2" descr="http://t3.gstatic.com/images?q=tbn:ANd9GcQh4sBVG3ICIqaLsAYb3lQgeinAS4r0NQqeluz_ca2iRoE_8zi-PhqPYw">
            <a:hlinkClick r:id="rId1"/>
          </p:cNvPr>
          <p:cNvPicPr/>
          <p:nvPr/>
        </p:nvPicPr>
        <p:blipFill>
          <a:blip r:embed="rId2"/>
          <a:stretch/>
        </p:blipFill>
        <p:spPr>
          <a:xfrm>
            <a:off x="7086600" y="152280"/>
            <a:ext cx="1371600" cy="2040120"/>
          </a:xfrm>
          <a:prstGeom prst="rect">
            <a:avLst/>
          </a:prstGeom>
          <a:ln w="0">
            <a:noFill/>
          </a:ln>
        </p:spPr>
      </p:pic>
      <p:pic>
        <p:nvPicPr>
          <p:cNvPr id="2954" name="Picture 6" descr="http://uploadpa.com/beta/12/nxv0icep46awvmgvb1n6.gif">
            <a:hlinkClick r:id="rId3"/>
          </p:cNvPr>
          <p:cNvPicPr/>
          <p:nvPr/>
        </p:nvPicPr>
        <p:blipFill>
          <a:blip r:embed="rId4"/>
          <a:stretch/>
        </p:blipFill>
        <p:spPr>
          <a:xfrm>
            <a:off x="152280" y="76320"/>
            <a:ext cx="1600200" cy="990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
          <p:cNvSpPr txBox="1"/>
          <p:nvPr/>
        </p:nvSpPr>
        <p:spPr>
          <a:xfrm>
            <a:off x="0" y="0"/>
            <a:ext cx="9144000" cy="6858000"/>
          </a:xfrm>
          <a:prstGeom prst="rect">
            <a:avLst/>
          </a:prstGeom>
          <a:noFill/>
          <a:ln w="0">
            <a:noFill/>
          </a:ln>
        </p:spPr>
        <p:txBody>
          <a:bodyPr lIns="82440" rIns="82440" tIns="41040" bIns="41040" anchor="t">
            <a:normAutofit/>
          </a:bodyPr>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معاونت پژوهشی و فناوری </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دانشگاه فرهنگیان</a:t>
            </a:r>
            <a:endParaRPr b="0" lang="en-US" sz="40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4000" spc="-1" strike="noStrike">
                <a:solidFill>
                  <a:srgbClr val="7d3c4a"/>
                </a:solidFill>
                <a:latin typeface="Lucida Sans Unicode"/>
                <a:cs typeface="B Nazanin"/>
              </a:rPr>
              <a:t>آذرماه</a:t>
            </a:r>
            <a:r>
              <a:rPr b="1" i="1" lang="fa-IR" sz="5400" spc="-1" strike="noStrike">
                <a:solidFill>
                  <a:srgbClr val="7d3c4a"/>
                </a:solidFill>
                <a:latin typeface="Lucida Sans Unicode"/>
                <a:ea typeface="B Nazanin"/>
              </a:rPr>
              <a:t>97</a:t>
            </a:r>
            <a:endParaRPr b="0" lang="en-US" sz="5400" spc="-1" strike="noStrike">
              <a:solidFill>
                <a:srgbClr val="000000"/>
              </a:solidFill>
              <a:latin typeface="Lucida Sans Unicode"/>
            </a:endParaRPr>
          </a:p>
          <a:p>
            <a:pPr marL="365040" indent="-255600"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5400" spc="-1" strike="noStrike">
                <a:solidFill>
                  <a:srgbClr val="7d3c4a"/>
                </a:solidFill>
                <a:latin typeface="Lucida Sans Unicode"/>
                <a:cs typeface="B Nazanin"/>
              </a:rPr>
              <a:t>پژآهنگ پانزدهم</a:t>
            </a:r>
            <a:endParaRPr b="0" lang="en-US" sz="5400" spc="-1" strike="noStrike">
              <a:solidFill>
                <a:srgbClr val="000000"/>
              </a:solidFill>
              <a:latin typeface="Lucida Sans Unicode"/>
            </a:endParaRPr>
          </a:p>
          <a:p>
            <a:pPr marL="365040" indent="-255600" algn="ctr" rtl="1">
              <a:lnSpc>
                <a:spcPct val="107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واکاوی موانع پیاده‌سازی موفق برنامة جدید کارورزی در دانشگاه فرهنگیان</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خنران: دکتر اسد حجازی</a:t>
            </a:r>
            <a:endParaRPr b="0" lang="en-US" sz="2400" spc="-1" strike="noStrike">
              <a:solidFill>
                <a:srgbClr val="000000"/>
              </a:solidFill>
              <a:latin typeface="Lucida Sans Unicode"/>
            </a:endParaRPr>
          </a:p>
          <a:p>
            <a:pPr marL="365040" indent="-255600" algn="ctr" rtl="1">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ستادیار گروه مدیریت آموزشی</a:t>
            </a:r>
            <a:endParaRPr b="0" lang="en-US" sz="2400" spc="-1" strike="noStrike">
              <a:solidFill>
                <a:srgbClr val="000000"/>
              </a:solidFill>
              <a:latin typeface="Lucida Sans Unicode"/>
            </a:endParaRPr>
          </a:p>
          <a:p>
            <a:pPr marL="365040" indent="-255600"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56" name="Picture 2" descr="arm1[1]"/>
          <p:cNvPicPr/>
          <p:nvPr/>
        </p:nvPicPr>
        <p:blipFill>
          <a:blip r:embed="rId1"/>
          <a:stretch/>
        </p:blipFill>
        <p:spPr>
          <a:xfrm>
            <a:off x="3571920" y="214200"/>
            <a:ext cx="2224080" cy="1270080"/>
          </a:xfrm>
          <a:prstGeom prst="rect">
            <a:avLst/>
          </a:prstGeom>
          <a:ln w="0">
            <a:noFill/>
          </a:ln>
        </p:spPr>
      </p:pic>
    </p:spTree>
  </p:cSld>
  <p:transition>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title"/>
          </p:nvPr>
        </p:nvSpPr>
        <p:spPr>
          <a:xfrm>
            <a:off x="971280" y="189000"/>
            <a:ext cx="8064360" cy="6480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alibri"/>
                <a:cs typeface="B Nazanin"/>
              </a:rPr>
              <a:t>کارورزی:</a:t>
            </a:r>
            <a:br>
              <a:rPr sz="2800"/>
            </a:br>
            <a:r>
              <a:rPr b="0" lang="fa-IR" sz="2800" spc="-1" strike="noStrike">
                <a:solidFill>
                  <a:srgbClr val="000000"/>
                </a:solidFill>
                <a:latin typeface="Calibri"/>
                <a:ea typeface="B Nazanin"/>
              </a:rPr>
              <a:t> </a:t>
            </a:r>
            <a:r>
              <a:rPr b="0" lang="fa-IR" sz="2000" spc="-1" strike="noStrike">
                <a:solidFill>
                  <a:srgbClr val="000000"/>
                </a:solidFill>
                <a:latin typeface="Calibri"/>
                <a:ea typeface="B Lotus"/>
              </a:rPr>
              <a:t> </a:t>
            </a:r>
            <a:r>
              <a:rPr b="0" lang="fa-IR" sz="2800" spc="-1" strike="noStrike">
                <a:solidFill>
                  <a:srgbClr val="000000"/>
                </a:solidFill>
                <a:latin typeface="Calibri"/>
                <a:cs typeface="B Lotus"/>
              </a:rPr>
              <a:t>اصل کلمة کارورزی‌کردن</a:t>
            </a:r>
            <a:r>
              <a:rPr b="0" lang="fa-IR" sz="2800" spc="-1" strike="noStrike" baseline="30000">
                <a:solidFill>
                  <a:srgbClr val="000000"/>
                </a:solidFill>
                <a:latin typeface="Calibri"/>
                <a:ea typeface="B Lotus"/>
              </a:rPr>
              <a:t> </a:t>
            </a:r>
            <a:r>
              <a:rPr b="0" lang="fa-IR" sz="2800" spc="-1" strike="noStrike">
                <a:solidFill>
                  <a:srgbClr val="000000"/>
                </a:solidFill>
                <a:latin typeface="Calibri"/>
                <a:cs typeface="B Lotus"/>
              </a:rPr>
              <a:t>به واژة </a:t>
            </a:r>
            <a:r>
              <a:rPr b="1" lang="fa-IR" sz="2800" spc="-1" strike="noStrike">
                <a:solidFill>
                  <a:srgbClr val="ff0000"/>
                </a:solidFill>
                <a:latin typeface="Calibri"/>
                <a:ea typeface="B Lotus"/>
              </a:rPr>
              <a:t>«کارورز» </a:t>
            </a:r>
            <a:r>
              <a:rPr b="0" lang="fa-IR" sz="2800" spc="-1" strike="noStrike">
                <a:solidFill>
                  <a:srgbClr val="000000"/>
                </a:solidFill>
                <a:latin typeface="Calibri"/>
                <a:cs typeface="B Lotus"/>
              </a:rPr>
              <a:t>بر می‌گردد و به فردی گفته </a:t>
            </a:r>
            <a:br>
              <a:rPr sz="2800"/>
            </a:br>
            <a:r>
              <a:rPr b="0" lang="fa-IR" sz="2800" spc="-1" strike="noStrike">
                <a:solidFill>
                  <a:srgbClr val="000000"/>
                </a:solidFill>
                <a:latin typeface="Calibri"/>
                <a:cs typeface="B Lotus"/>
              </a:rPr>
              <a:t>می‌شود که در حین تحصیل در آموزش عالی یا بلافاصله بعد از پایان دوران تحصیل، تنها با هدف کسب تجربه و مهارت کاری و عملی، در مؤسسه‌ای مشغول به کار می‌شود.</a:t>
            </a:r>
            <a:r>
              <a:rPr b="0" lang="en-US" sz="2800" spc="-1" strike="noStrike">
                <a:solidFill>
                  <a:srgbClr val="000000"/>
                </a:solidFill>
                <a:latin typeface="Calibri"/>
                <a:ea typeface="B Lotus"/>
              </a:rPr>
              <a:t> </a:t>
            </a:r>
            <a:br>
              <a:rPr sz="2800"/>
            </a:br>
            <a:r>
              <a:rPr b="1" lang="fa-IR" sz="2800" spc="-1" strike="noStrike">
                <a:solidFill>
                  <a:srgbClr val="ff0000"/>
                </a:solidFill>
                <a:latin typeface="Calibri"/>
                <a:cs typeface="B Lotus"/>
              </a:rPr>
              <a:t>بنابر تعاریف ارائه‌شده، </a:t>
            </a:r>
            <a:r>
              <a:rPr b="0" lang="fa-IR" sz="2800" spc="-1" strike="noStrike">
                <a:solidFill>
                  <a:srgbClr val="000000"/>
                </a:solidFill>
                <a:latin typeface="Calibri"/>
                <a:cs typeface="B Lotus"/>
              </a:rPr>
              <a:t>کارورزی تمهیداتی رسمی با هدف ایجاد فرصت‌هایی برای دانشجویان به منظور مطالعه و تجربة علاقه­های شغلی خارج از محیط دانشگاه در قالب برنامه‌ای عملی و تحت نظر یک گروه دانشگاهی و نوعی فرایند تبادل نظریه و عمل است که امکان کاربرد آموخته‌های نظری را در محیطی واقعی فراهم می‌آورد. </a:t>
            </a:r>
            <a:br>
              <a:rPr sz="2800"/>
            </a:br>
            <a:br>
              <a:rPr sz="2800"/>
            </a:br>
            <a:endParaRPr b="0" lang="en-US" sz="2800" spc="-1" strike="noStrike">
              <a:solidFill>
                <a:srgbClr val="000000"/>
              </a:solidFill>
              <a:latin typeface="Calibri"/>
            </a:endParaRPr>
          </a:p>
        </p:txBody>
      </p:sp>
      <p:pic>
        <p:nvPicPr>
          <p:cNvPr id="2958" name="Content Placeholder 1" descr=""/>
          <p:cNvPicPr/>
          <p:nvPr/>
        </p:nvPicPr>
        <p:blipFill>
          <a:blip r:embed="rId1"/>
          <a:stretch/>
        </p:blipFill>
        <p:spPr>
          <a:xfrm>
            <a:off x="30240" y="189000"/>
            <a:ext cx="1085760" cy="640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title"/>
          </p:nvPr>
        </p:nvSpPr>
        <p:spPr>
          <a:xfrm>
            <a:off x="3504960" y="152280"/>
            <a:ext cx="5530680" cy="8287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alibri"/>
                <a:cs typeface="B Nazanin"/>
              </a:rPr>
              <a:t>کارورزی در کشورهای توسعه یافته</a:t>
            </a:r>
            <a:r>
              <a:rPr b="1" lang="ar-SA" sz="3200" spc="-1" strike="noStrike">
                <a:solidFill>
                  <a:srgbClr val="000000"/>
                </a:solidFill>
                <a:latin typeface="Calibri"/>
                <a:ea typeface="B Nazanin"/>
              </a:rPr>
              <a:t>:</a:t>
            </a:r>
            <a:br>
              <a:rPr sz="3200"/>
            </a:br>
            <a:endParaRPr b="0" lang="en-US" sz="3200" spc="-1" strike="noStrike">
              <a:solidFill>
                <a:srgbClr val="000000"/>
              </a:solidFill>
              <a:latin typeface="Calibri"/>
            </a:endParaRPr>
          </a:p>
        </p:txBody>
      </p:sp>
      <p:sp>
        <p:nvSpPr>
          <p:cNvPr id="2960" name=""/>
          <p:cNvSpPr txBox="1"/>
          <p:nvPr/>
        </p:nvSpPr>
        <p:spPr>
          <a:xfrm>
            <a:off x="1828800" y="1218960"/>
            <a:ext cx="7315200" cy="5638680"/>
          </a:xfrm>
          <a:prstGeom prst="rect">
            <a:avLst/>
          </a:prstGeom>
          <a:noFill/>
          <a:ln w="0">
            <a:noFill/>
          </a:ln>
        </p:spPr>
        <p:txBody>
          <a:bodyPr anchor="t">
            <a:normAutofit fontScale="87000"/>
          </a:bodyPr>
          <a:p>
            <a:pPr algn="just" rtl="1">
              <a:lnSpc>
                <a:spcPct val="107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cs typeface="B Nazanin"/>
              </a:rPr>
              <a:t>در چند دهة گذشته کشورهای بسیاری برای فائق‌آمدن بر مشکلات نظام‌های آموزشی قبل از دانشگاه، در زمینة کارورزی به راه‌حل‌هایی از جمله آموزش کارورزی فکورانه، توسعة فرهنگ کارورزی، انجام حمایت‌های لازم از تربیت معلم و انجام تحقیقات لازم در این زمینه روی آورده‌اند. برای مثال، مدرسان و معلمان راهنمای کارورزی </a:t>
            </a:r>
            <a:r>
              <a:rPr b="0" lang="fa-IR" sz="2000" spc="-1" strike="noStrike">
                <a:solidFill>
                  <a:srgbClr val="ff0000"/>
                </a:solidFill>
                <a:latin typeface="Calibri"/>
                <a:cs typeface="B Nazanin"/>
              </a:rPr>
              <a:t>در کشورهای انگلستان و فرانسه </a:t>
            </a:r>
            <a:r>
              <a:rPr b="0" lang="fa-IR" sz="2000" spc="-1" strike="noStrike">
                <a:solidFill>
                  <a:srgbClr val="000000"/>
                </a:solidFill>
                <a:latin typeface="Calibri"/>
                <a:cs typeface="B Nazanin"/>
              </a:rPr>
              <a:t>از مجرب‌ترین استادان انتخاب می‌شوند و از وظایف خود آگاهی دارند. در انگلستان و فرانسه کارورزی در طول برنامة درسی تربیت معلم و به روش تلفیقی با سایر واحدها برنامه‌ریزی می‌شود تا دانشجو معلمان بتوانند، دربارة تجربه­های خود در کلاس درس با استادان و هم­کلاسی‌هایشان خود تبادل نظر کنند. </a:t>
            </a:r>
            <a:endParaRPr b="0" lang="en-US" sz="20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alibri"/>
                <a:cs typeface="B Nazanin"/>
              </a:rPr>
              <a:t>از</a:t>
            </a:r>
            <a:r>
              <a:rPr b="1" lang="fa-IR" sz="1800" spc="-1" strike="noStrike">
                <a:solidFill>
                  <a:srgbClr val="000000"/>
                </a:solidFill>
                <a:latin typeface="Calibri"/>
                <a:ea typeface="B Nazanin"/>
              </a:rPr>
              <a:t> سوی دیگر </a:t>
            </a:r>
            <a:r>
              <a:rPr b="1" lang="fa-IR" sz="1800" spc="-1" strike="noStrike">
                <a:solidFill>
                  <a:srgbClr val="ff0000"/>
                </a:solidFill>
                <a:latin typeface="Calibri"/>
                <a:cs typeface="B Nazanin"/>
              </a:rPr>
              <a:t>در آمریکا </a:t>
            </a:r>
            <a:r>
              <a:rPr b="1" lang="fa-IR" sz="1800" spc="-1" strike="noStrike">
                <a:solidFill>
                  <a:srgbClr val="000000"/>
                </a:solidFill>
                <a:latin typeface="Calibri"/>
                <a:cs typeface="B Nazanin"/>
              </a:rPr>
              <a:t>برنامة آماده‌سازی نومعلمان موفق، عمیقاً در روابط حرفه‌ای میان مدیران مدارس، نظارت بالینی دانشکده، دانشجویان تربیت معلم و سرپرستان دانشگاه ریشه دارد (راهنمای کارورزی دانشجومعلمان آمریکا، </a:t>
            </a:r>
            <a:r>
              <a:rPr b="1" lang="fa-IR" sz="1800" spc="-1" strike="noStrike">
                <a:solidFill>
                  <a:srgbClr val="000000"/>
                </a:solidFill>
                <a:latin typeface="Calibri"/>
                <a:ea typeface="B Nazanin"/>
              </a:rPr>
              <a:t>2015</a:t>
            </a:r>
            <a:r>
              <a:rPr b="1" lang="fa-IR" sz="1800" spc="-1" strike="noStrike">
                <a:solidFill>
                  <a:srgbClr val="000000"/>
                </a:solidFill>
                <a:latin typeface="Calibri"/>
                <a:ea typeface="B Nazanin"/>
              </a:rPr>
              <a:t>). در دانشکدة آموزش و پرورش دانشگاه </a:t>
            </a:r>
            <a:r>
              <a:rPr b="1" lang="fa-IR" sz="1800" spc="-1" strike="noStrike">
                <a:solidFill>
                  <a:srgbClr val="ff0000"/>
                </a:solidFill>
                <a:latin typeface="Calibri"/>
                <a:cs typeface="B Nazanin"/>
              </a:rPr>
              <a:t>وسترن آنتاریو</a:t>
            </a:r>
            <a:r>
              <a:rPr b="1" lang="fa-IR" sz="1800" spc="-1" strike="noStrike" baseline="30000">
                <a:solidFill>
                  <a:srgbClr val="ff0000"/>
                </a:solidFill>
                <a:latin typeface="Calibri"/>
                <a:ea typeface="B Nazanin"/>
              </a:rPr>
              <a:t> </a:t>
            </a:r>
            <a:r>
              <a:rPr b="1" lang="fa-IR" sz="1800" spc="-1" strike="noStrike">
                <a:solidFill>
                  <a:srgbClr val="ff0000"/>
                </a:solidFill>
                <a:latin typeface="Calibri"/>
                <a:cs typeface="B Nazanin"/>
              </a:rPr>
              <a:t>از کشور کانادا، کارآموزی (کارورزی) </a:t>
            </a:r>
            <a:r>
              <a:rPr b="1" lang="fa-IR" sz="1800" spc="-1" strike="noStrike">
                <a:solidFill>
                  <a:srgbClr val="000000"/>
                </a:solidFill>
                <a:latin typeface="Calibri"/>
                <a:cs typeface="B Nazanin"/>
              </a:rPr>
              <a:t>دانشجو معلمان از سه جزء شامل؛ تمرین تدریس در مدارس انتخابی، تجربة میدانی جایگزین در سال دوم برنامه، و اجرای کارگاه‌های آموزشی برای حمایت از کارحرفه‌ای با برنامه‌ریزی هفتگی برای کسب صلاحیت معلمی تشکیل شده است.</a:t>
            </a:r>
            <a:endParaRPr b="0" lang="en-US" sz="18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merican Student Training Guide, U.S. Department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University of Western Ontario: UWO, Canada School of Education</a:t>
            </a:r>
            <a:endParaRPr b="0" lang="en-US" sz="1400" spc="-1" strike="noStrike">
              <a:solidFill>
                <a:srgbClr val="000000"/>
              </a:solidFill>
              <a:latin typeface="Calibri"/>
            </a:endParaRPr>
          </a:p>
          <a:p>
            <a:pPr algn="just">
              <a:lnSpc>
                <a:spcPct val="11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000" spc="-1" strike="noStrike">
                <a:solidFill>
                  <a:srgbClr val="000000"/>
                </a:solidFill>
                <a:latin typeface="Calibri"/>
                <a:ea typeface="Times New Roman"/>
              </a:rPr>
              <a:t>-</a:t>
            </a:r>
            <a:r>
              <a:rPr b="0" lang="en-US" sz="1400" spc="-1" strike="noStrike">
                <a:solidFill>
                  <a:srgbClr val="000000"/>
                </a:solidFill>
                <a:latin typeface="Times New Roman"/>
                <a:ea typeface="B Nazanin"/>
              </a:rPr>
              <a:t> A Bachelor of Education (B.Ed.)</a:t>
            </a:r>
            <a:endParaRPr b="0" lang="en-US" sz="1400" spc="-1" strike="noStrike">
              <a:solidFill>
                <a:srgbClr val="000000"/>
              </a:solidFill>
              <a:latin typeface="Calibri"/>
            </a:endParaRPr>
          </a:p>
          <a:p>
            <a:pPr algn="just" rtl="1">
              <a:lnSpc>
                <a:spcPct val="107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61"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2" name="PlaceHolder 1"/>
          <p:cNvSpPr>
            <a:spLocks noGrp="1"/>
          </p:cNvSpPr>
          <p:nvPr>
            <p:ph type="title"/>
          </p:nvPr>
        </p:nvSpPr>
        <p:spPr>
          <a:xfrm>
            <a:off x="2556000" y="151920"/>
            <a:ext cx="6480000" cy="9003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f6228"/>
                </a:solidFill>
                <a:latin typeface="Calibri"/>
                <a:cs typeface="B Nazanin"/>
              </a:rPr>
              <a:t>کارورزی در دانشگاه فرهنگیان ایران</a:t>
            </a:r>
            <a:r>
              <a:rPr b="1" lang="ar-SA" sz="3200" spc="-1" strike="noStrike">
                <a:solidFill>
                  <a:srgbClr val="4f6228"/>
                </a:solidFill>
                <a:latin typeface="Calibri"/>
                <a:ea typeface="B Nazanin"/>
              </a:rPr>
              <a:t>:</a:t>
            </a:r>
            <a:br>
              <a:rPr sz="2800"/>
            </a:br>
            <a:endParaRPr b="0" lang="en-US" sz="3200" spc="-1" strike="noStrike">
              <a:solidFill>
                <a:srgbClr val="000000"/>
              </a:solidFill>
              <a:latin typeface="Calibri"/>
            </a:endParaRPr>
          </a:p>
        </p:txBody>
      </p:sp>
      <p:sp>
        <p:nvSpPr>
          <p:cNvPr id="2963" name=""/>
          <p:cNvSpPr txBox="1"/>
          <p:nvPr/>
        </p:nvSpPr>
        <p:spPr>
          <a:xfrm>
            <a:off x="1828800" y="1218960"/>
            <a:ext cx="7315200" cy="5638680"/>
          </a:xfrm>
          <a:prstGeom prst="rect">
            <a:avLst/>
          </a:prstGeom>
          <a:noFill/>
          <a:ln w="0">
            <a:noFill/>
          </a:ln>
        </p:spPr>
        <p:txBody>
          <a:bodyPr anchor="t">
            <a:normAutofit fontScale="87000"/>
          </a:bodyPr>
          <a:p>
            <a:pPr algn="just"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Calibri"/>
                <a:ea typeface="B Nazanin"/>
              </a:rPr>
              <a:t> </a:t>
            </a:r>
            <a:r>
              <a:rPr b="0" lang="fa-IR" sz="3200" spc="-1" strike="noStrike">
                <a:solidFill>
                  <a:srgbClr val="000000"/>
                </a:solidFill>
                <a:latin typeface="Calibri"/>
                <a:cs typeface="B Nazanin"/>
              </a:rPr>
              <a:t>در دانشگاه فرهنگیان، با استناد به مفاد «طرح اجرایی کارورزی رشته‌های تربیت‌معلم، بخشنامة شمارة </a:t>
            </a:r>
            <a:r>
              <a:rPr b="0" lang="fa-IR" sz="3200" spc="-1" strike="noStrike">
                <a:solidFill>
                  <a:srgbClr val="000000"/>
                </a:solidFill>
                <a:latin typeface="Calibri"/>
                <a:ea typeface="B Nazanin"/>
              </a:rPr>
              <a:t>140623</a:t>
            </a:r>
            <a:r>
              <a:rPr b="0" lang="fa-IR" sz="3200" spc="-1" strike="noStrike">
                <a:solidFill>
                  <a:srgbClr val="000000"/>
                </a:solidFill>
                <a:latin typeface="Calibri"/>
                <a:ea typeface="B Nazanin"/>
              </a:rPr>
              <a:t> مورخ </a:t>
            </a:r>
            <a:r>
              <a:rPr b="0" lang="fa-IR" sz="3200" spc="-1" strike="noStrike">
                <a:solidFill>
                  <a:srgbClr val="000000"/>
                </a:solidFill>
                <a:latin typeface="Calibri"/>
                <a:ea typeface="B Nazanin"/>
              </a:rPr>
              <a:t>1393/7/7</a:t>
            </a:r>
            <a:r>
              <a:rPr b="0" lang="fa-IR" sz="3200" spc="-1" strike="noStrike">
                <a:solidFill>
                  <a:srgbClr val="000000"/>
                </a:solidFill>
                <a:latin typeface="Calibri"/>
                <a:ea typeface="B Nazanin"/>
              </a:rPr>
              <a:t> مقام عالی وزارت آموزش‌وپرورش»، و «برنامة درسی ملی تربیت معلم» از یک‌سو و تبصرة </a:t>
            </a:r>
            <a:r>
              <a:rPr b="0" lang="fa-IR" sz="3200" spc="-1" strike="noStrike">
                <a:solidFill>
                  <a:srgbClr val="000000"/>
                </a:solidFill>
                <a:latin typeface="Calibri"/>
                <a:ea typeface="B Nazanin"/>
              </a:rPr>
              <a:t>3</a:t>
            </a:r>
            <a:r>
              <a:rPr b="0" lang="fa-IR" sz="3200" spc="-1" strike="noStrike">
                <a:solidFill>
                  <a:srgbClr val="000000"/>
                </a:solidFill>
                <a:latin typeface="Calibri"/>
                <a:ea typeface="B Nazanin"/>
              </a:rPr>
              <a:t> ذیل مادة </a:t>
            </a:r>
            <a:r>
              <a:rPr b="0" lang="fa-IR" sz="3200" spc="-1" strike="noStrike">
                <a:solidFill>
                  <a:srgbClr val="000000"/>
                </a:solidFill>
                <a:latin typeface="Calibri"/>
                <a:ea typeface="B Nazanin"/>
              </a:rPr>
              <a:t>23</a:t>
            </a:r>
            <a:r>
              <a:rPr b="0" lang="fa-IR" sz="3200" spc="-1" strike="noStrike">
                <a:solidFill>
                  <a:srgbClr val="000000"/>
                </a:solidFill>
                <a:latin typeface="Calibri"/>
                <a:ea typeface="B Nazanin"/>
              </a:rPr>
              <a:t> اساسنامة دانشگاه از سوی دیگر، به موضوع کارورزی اهمیت ویژه‌ای داده شده و آن را بخش جدانشدنی دورة چهار سالة تربیت‌معلم دانسته است. به عبارت دیگر، از سال سوم تحصیل دانشجویان کارشناسی پیوسته، در هر نیم­سال، دانشجو معلم علاوه بر گذراندن واحدهای درسی مشخص، دوره‌های کارورزی مشخصی را نیز می‌گذراند.</a:t>
            </a:r>
            <a:r>
              <a:rPr b="0" lang="en-US" sz="1600" spc="-1" strike="noStrike">
                <a:solidFill>
                  <a:srgbClr val="000000"/>
                </a:solidFill>
                <a:latin typeface="Calibri"/>
                <a:ea typeface="B Nazanin"/>
              </a:rPr>
              <a:t> </a:t>
            </a:r>
            <a:endParaRPr b="0" lang="en-US" sz="1600" spc="-1" strike="noStrike">
              <a:solidFill>
                <a:srgbClr val="000000"/>
              </a:solidFill>
              <a:latin typeface="Calibri"/>
            </a:endParaRPr>
          </a:p>
        </p:txBody>
      </p:sp>
      <p:pic>
        <p:nvPicPr>
          <p:cNvPr id="2964" name="Content Placeholder 5" descr="Image-9674.JPG"/>
          <p:cNvPicPr/>
          <p:nvPr/>
        </p:nvPicPr>
        <p:blipFill>
          <a:blip r:embed="rId1"/>
          <a:stretch/>
        </p:blipFill>
        <p:spPr>
          <a:xfrm>
            <a:off x="-12600" y="-12600"/>
            <a:ext cx="1689120" cy="687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title"/>
          </p:nvPr>
        </p:nvSpPr>
        <p:spPr>
          <a:xfrm>
            <a:off x="179280" y="189000"/>
            <a:ext cx="8785440" cy="792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برنامه چهارگانه کارورزی در تربیت معلم فکور دانشگاه فرهنگیان</a:t>
            </a:r>
            <a:br>
              <a:rPr sz="3200"/>
            </a:br>
            <a:endParaRPr b="0" lang="en-US" sz="2800" spc="-1" strike="noStrike">
              <a:solidFill>
                <a:srgbClr val="000000"/>
              </a:solidFill>
              <a:latin typeface="Calibri"/>
            </a:endParaRPr>
          </a:p>
        </p:txBody>
      </p:sp>
      <p:graphicFrame>
        <p:nvGraphicFramePr>
          <p:cNvPr id="2966" name=""/>
          <p:cNvGraphicFramePr/>
          <p:nvPr/>
        </p:nvGraphicFramePr>
        <p:xfrm>
          <a:off x="158760" y="907920"/>
          <a:ext cx="8756640" cy="5492880"/>
        </p:xfrm>
        <a:graphic>
          <a:graphicData uri="http://schemas.openxmlformats.org/drawingml/2006/table">
            <a:tbl>
              <a:tblPr/>
              <a:tblGrid>
                <a:gridCol w="2241720"/>
                <a:gridCol w="2184120"/>
                <a:gridCol w="2229120"/>
                <a:gridCol w="2101680"/>
              </a:tblGrid>
              <a:tr h="5492880">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قوم</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نامه قوم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c>
                  <a:txBody>
                    <a:bodyPr lIns="68400" rIns="68400" tIns="0" bIns="0" anchor="t">
                      <a:noAutofit/>
                    </a:bodyPr>
                    <a:p>
                      <a:pPr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Mitra"/>
                        </a:rPr>
                        <a:t>زندگی</a:t>
                      </a:r>
                      <a:endParaRPr b="0" lang="en-US" sz="2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fa7a6"/>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title"/>
          </p:nvPr>
        </p:nvSpPr>
        <p:spPr>
          <a:xfrm>
            <a:off x="3131640" y="188640"/>
            <a:ext cx="5257800" cy="663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Calibri"/>
                <a:cs typeface="B Nazanin"/>
              </a:rPr>
              <a:t>ابزارهای گردآوری داده ها</a:t>
            </a:r>
            <a:r>
              <a:rPr b="1" lang="ar-SA" sz="4000" spc="-1" strike="noStrike">
                <a:solidFill>
                  <a:srgbClr val="000000"/>
                </a:solidFill>
                <a:latin typeface="Calibri"/>
                <a:ea typeface="B Nazanin"/>
              </a:rPr>
              <a:t>:</a:t>
            </a:r>
            <a:br>
              <a:rPr sz="4000"/>
            </a:br>
            <a:endParaRPr b="0" lang="en-US" sz="4000" spc="-1" strike="noStrike">
              <a:solidFill>
                <a:srgbClr val="000000"/>
              </a:solidFill>
              <a:latin typeface="Calibri"/>
            </a:endParaRPr>
          </a:p>
        </p:txBody>
      </p:sp>
      <p:sp>
        <p:nvSpPr>
          <p:cNvPr id="2968" name=""/>
          <p:cNvSpPr txBox="1"/>
          <p:nvPr/>
        </p:nvSpPr>
        <p:spPr>
          <a:xfrm>
            <a:off x="179280" y="981000"/>
            <a:ext cx="8785440" cy="5616720"/>
          </a:xfrm>
          <a:prstGeom prst="rect">
            <a:avLst/>
          </a:prstGeom>
          <a:noFill/>
          <a:ln w="0">
            <a:noFill/>
          </a:ln>
        </p:spPr>
        <p:txBody>
          <a:bodyPr anchor="t">
            <a:normAutofit fontScale="89000"/>
          </a:bodyPr>
          <a:p>
            <a:pPr algn="just" rtl="1">
              <a:lnSpc>
                <a:spcPct val="107000"/>
              </a:lnSpc>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دیابی اجمالی پیاده‌سازی موفق برنامة جدید کارورزی در تربیت معلم فکور نشان می‌دهد، </a:t>
            </a:r>
            <a:r>
              <a:rPr b="0" lang="fa-IR" sz="2400" spc="-1" strike="noStrike">
                <a:solidFill>
                  <a:srgbClr val="000000"/>
                </a:solidFill>
                <a:latin typeface="Calibri"/>
                <a:cs typeface="B Nazanin"/>
              </a:rPr>
              <a:t>از برنامة پیشنهادی کارورزی، </a:t>
            </a:r>
            <a:r>
              <a:rPr b="0" lang="fa-IR" sz="2400" spc="-1" strike="noStrike">
                <a:solidFill>
                  <a:srgbClr val="00b050"/>
                </a:solidFill>
                <a:latin typeface="Calibri"/>
                <a:cs typeface="B Nazanin"/>
              </a:rPr>
              <a:t>در اجرا </a:t>
            </a:r>
            <a:r>
              <a:rPr b="0" lang="fa-IR" sz="2400" spc="-1" strike="noStrike">
                <a:solidFill>
                  <a:srgbClr val="000000"/>
                </a:solidFill>
                <a:latin typeface="Calibri"/>
                <a:cs typeface="B Nazanin"/>
              </a:rPr>
              <a:t>کم و بیش استفادة مؤثری نشده و از نتایج تحقیقات انجام‌شده در زمینة موضوع، جز در نظریه‌پردازی‌ها و یا حداکثر نقل قول یافته‌ها در محافل علمی، فرهنگی و پژوهشی استفاده نمی‌شود. وجود چنین سیمایی از برنامة یادشده، پیامدهایی ازجمله تقویت نگرش منفی یا بی‌توجهی مسئولان مدرسه­ها به کارورزی، دلسردی در پژوهشگران، و اتلاف منابع انسانی و مالی صرف‌شده در مسیر انجام کارورزی را به دنبال خواهد داشت (کرامتی و احمدآباد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جازی،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زارع‌صفت، </a:t>
            </a:r>
            <a:r>
              <a:rPr b="0" lang="fa-IR" sz="2400" spc="-1" strike="noStrike">
                <a:solidFill>
                  <a:srgbClr val="000000"/>
                </a:solidFill>
                <a:latin typeface="Calibri"/>
                <a:ea typeface="B Nazanin"/>
              </a:rPr>
              <a:t>1396</a:t>
            </a:r>
            <a:r>
              <a:rPr b="0" lang="fa-IR" sz="2400" spc="-1" strike="noStrike">
                <a:solidFill>
                  <a:srgbClr val="000000"/>
                </a:solidFill>
                <a:latin typeface="Calibri"/>
                <a:cs typeface="B Nazanin"/>
              </a:rPr>
              <a:t>؛ حداد و خروشی، </a:t>
            </a:r>
            <a:r>
              <a:rPr b="0" lang="fa-IR" sz="2400" spc="-1" strike="noStrike">
                <a:solidFill>
                  <a:srgbClr val="000000"/>
                </a:solidFill>
                <a:latin typeface="Calibri"/>
                <a:ea typeface="B Nazanin"/>
              </a:rPr>
              <a:t>1395</a:t>
            </a:r>
            <a:r>
              <a:rPr b="0" lang="fa-IR" sz="2400" spc="-1" strike="noStrike">
                <a:solidFill>
                  <a:srgbClr val="000000"/>
                </a:solidFill>
                <a:latin typeface="Calibri"/>
                <a:cs typeface="B Nazanin"/>
              </a:rPr>
              <a:t>؛ تاتاری و همکاران، </a:t>
            </a:r>
            <a:r>
              <a:rPr b="0" lang="fa-IR" sz="2400" spc="-1" strike="noStrike">
                <a:solidFill>
                  <a:srgbClr val="000000"/>
                </a:solidFill>
                <a:latin typeface="Calibri"/>
                <a:ea typeface="B Nazanin"/>
              </a:rPr>
              <a:t>1395</a:t>
            </a:r>
            <a:r>
              <a:rPr b="0" lang="fa-IR" sz="2400" spc="-1" strike="noStrike">
                <a:solidFill>
                  <a:srgbClr val="000000"/>
                </a:solidFill>
                <a:latin typeface="Calibri"/>
                <a:ea typeface="B Nazanin"/>
              </a:rPr>
              <a:t>).</a:t>
            </a:r>
            <a:endParaRPr b="0" lang="en-US" sz="2400" spc="-1" strike="noStrike">
              <a:solidFill>
                <a:srgbClr val="000000"/>
              </a:solidFill>
              <a:latin typeface="Calibri"/>
            </a:endParaRPr>
          </a:p>
          <a:p>
            <a:pPr algn="just" rtl="1">
              <a:spcBef>
                <a:spcPts val="601"/>
              </a:spcBef>
              <a:tabLst>
                <a:tab algn="l" pos="0"/>
                <a:tab algn="r" pos="18252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با در نظر گرفتن کاستی‌های ذکرشده </a:t>
            </a:r>
            <a:r>
              <a:rPr b="0" lang="fa-IR" sz="2400" spc="-1" strike="noStrike">
                <a:solidFill>
                  <a:srgbClr val="000000"/>
                </a:solidFill>
                <a:latin typeface="Calibri"/>
                <a:cs typeface="B Nazanin"/>
              </a:rPr>
              <a:t>از روند اجرای اولین دورة اجرای برنامة جدید کارورزی در دانشگاه فرهنگیان، در این پژوهش علاوه بر بررسی اسناد و گزارش‌های کارگروه‌های کارورزی از اولین دورة اجرای برنامة کارورزی دانشگاه فرهنگیان، به بررسی دیدگاه استادان راهنمای تربیتی و تخصصی نسبت به موانع اجرای موفق برنامة جدید کارورزی در تربیت معلم فکور پرداخته شد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2:37:14Z</dcterms:created>
  <dc:creator>sinasystem</dc:creator>
  <dc:description/>
  <dc:language>en-US</dc:language>
  <cp:lastModifiedBy>najmeh soltani nejad</cp:lastModifiedBy>
  <dcterms:modified xsi:type="dcterms:W3CDTF">2018-12-04T06:30:40Z</dcterms:modified>
  <cp:revision>96</cp:revision>
  <dc:subject/>
  <dc:title>Slide 1</dc:title>
</cp:coreProperties>
</file>