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5.png" ContentType="image/png"/>
  <Override PartName="/ppt/media/image8.jpeg" ContentType="image/jpeg"/>
  <Override PartName="/ppt/media/image2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17.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D4640-CF5B-464A-A079-0DB79FEC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63A43-DB31-4D87-BF33-E29AF211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E3DBB3-3C7F-4131-A07B-2F4CF7B728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83A9B-41AF-45DA-949A-956E8FFD47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35B0D2-BA8D-4222-BF8D-851D5659F5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BD6AC-3D97-430B-B25C-D66E0F175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E6A97-E709-4051-9EED-C3F3E31BB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C397D-CB95-40E9-96D0-EFA585804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A0C86-0823-4D8B-B427-5B38FE22E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D2826D-BD7B-406D-BB3C-971CBC72AF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D1AA43-0CAA-44D3-B376-66CC0FC563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BD0304-4998-4171-BB01-BB773F6311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EE10-AA90-4335-AAE1-5AE6E2F01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4148BD-3AE7-432B-BB8E-9C38149BC1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2E9420-54D0-4F59-83B4-9E8BC7323C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3B52DB-59D4-4960-AD9D-549DADAB40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3E67F-0F31-4C64-A195-0B42BB64EC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9EF203-7895-4DAA-B2E9-7DFC5C447F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1FE3F7-3E09-4B50-836D-1D9F3B7BF0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886E8A-B524-4049-A24B-24A73F5E3E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5BACE7-A75D-4F7A-A115-00CCB9E94D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E06D8A-2697-4E3C-8FEC-B57B165D1A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7446D5-B39F-40C9-8CFD-81444AA53A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7A518-3AC1-403F-A31D-9E1FFCC59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C80845-297C-4EB4-B608-0C462F34BD5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D777EA-D8F9-4182-AA52-FB907E7304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A1B34E-EA17-450E-9FB2-D0FFE04503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16734B-37E5-496B-A5CB-CE19EC5653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004D6B-58CA-4AD8-8E38-BE3DBBE6F8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A04467-0761-43D5-AA8B-73EDDC59CB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01126B-FE25-4C05-AFDE-E1C077A0AC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ECDE76-3156-49E9-A0E0-9AF407E47F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937BD6-2F3B-4AC2-9B46-9BCA2C5966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C9D91-8493-4301-81CD-E962DAAE4C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6DB75-F2E4-46A9-BBEB-BE7A3E1B0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B65E13-967A-4DCB-9C1E-F35577BEDE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1FF87F-7C4A-4166-AD83-636EF253A4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168A12-C304-44C1-8E1F-ED8018CB83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849C2C-E1B3-4FC6-B020-7D4978A69D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744558-AB13-47C6-8FD5-9CEA83C293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B2BD94-C810-4184-882A-FB505A0778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D33F1C-DC40-40AC-8A7E-38E1E1D4EE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B7D692-5107-463C-8157-4995A3539E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AFF2C7-08A2-407D-B892-D952F022B6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97CF92-EAC8-40A9-8938-BEBD59C35B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38E38-E66A-4C6E-A133-154FC4850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2805E0-1859-4BD9-B3BA-7EFD9EF59F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3E88A9-4A11-445D-B745-B4DD482CCE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7C81A8-F1CD-4E4F-870C-1F5C8D761E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FE78DA-C68A-452E-B31D-29DD8C96A0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598F5F-139E-4CD7-94E8-C8A7511A15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B7D021-42C4-43B9-8865-EF868D7ADE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01E3E2-F69C-4A06-9903-3BFA4B3453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7B8D53-E503-4F56-9687-3BB55EB080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2E7C0D-55D2-4FA0-999D-2B5A605454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230134-A73D-46D0-919F-7E0817780C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DAE3-E4A0-4524-B728-3268B73FC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280EA3-D970-40DE-88B4-B1DC3BF010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4A863A-6422-4620-B104-AE21E39C19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3F8ECF-16BF-4032-9DF6-A2270BB7ED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E8F3CC-6D98-4E58-8F87-7F5A080923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4A5626-27E9-4A45-9E50-77C7F168CD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3AFFEE-6CA4-4731-B7A8-FD2220A1F2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DAB43A-E03C-4354-9A57-B378841467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70968F-FDEF-47E4-85A3-9620F7BAF7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0466BA-B1AF-4274-884C-D7B8C4F1A6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0EF518-1A8B-4E35-8E07-56C05F902A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D626C-BB84-4AF3-BB31-7DE4AB5A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357615-CE0F-45C2-9A33-54F3B37DA2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1A0A30-51AC-487F-9D41-0EC35E023E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ED89AF-DFA0-4CBD-93C6-78AFB45018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9E1990-77A5-4506-8D17-120A090D9A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F77570-21F4-4C34-B752-9E158B3224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13B849-C506-4352-9E5C-69E45DBFBB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ED6957-94E1-43B8-A071-90F97CCCC5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C0B96D-310A-4C54-87A4-9DC59D5BD5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22CFB5-C9EF-4668-B03B-ACC8FEC18C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F0613A-F97A-4457-B0CC-CE3FB5FB17E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497D1-4E9A-4DA3-9E3A-4714A1419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1342594-4D4B-4735-AE6F-8745F73F25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DA28C0-5522-4AD9-8507-9F4EBE288A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65EF9B-5387-445C-B8FB-9482AEBF4C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E948E9-06B8-4C9E-92C9-813B49CBF7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CDFB25-C1B9-4276-855C-8148304345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353F14-FBED-40B1-A39E-AF68934EBC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5BCE5D-D17B-4B4D-B954-FDF3928608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1CF383-1D38-4E32-A5B3-8D5401B170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29EC37-BF93-4BCC-AD55-266F2AD7BF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C9BF4A-4429-4926-A75D-47BCC165D8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737CC-57D6-4660-A06F-3553FA099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1803290-FF08-4FFA-B73B-8AEE020C2D2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4ABCCD-2312-4C5F-BE4D-F7F95823740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6EF452-5110-4073-A3B6-A9952D00A0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3719CC-0806-4756-AB1F-42DABA6647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310368-E245-4CD1-A403-D09BB37E88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E650B4A-DE3E-4E69-85E7-B2373EF7B7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D774CD-0942-4E7F-B914-A8733D410D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93B2BA-55D6-4BEC-8A52-F3881A5696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FB21C8-1ADA-48B6-BA47-1A7BC1DF01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8AA740-2C85-4860-A755-15C5AFE884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2F788-FC44-45AB-A097-C38C789E9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A70715-391D-47BE-882C-62144D7BAB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E27BE7E-33F2-40EF-87A4-7786B52B96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B8ECDF9-996E-4664-8106-322ED73E8BE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6213D9C-B4DC-47C1-B6A3-49884FE7E53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32ED4A-E653-465E-BAE0-3D0E94A037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C7CE711-F815-423B-A80B-F50E97A2C3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AC1C9A-850F-431D-A136-67AD8B5325B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177C2D-BE51-423F-9836-B8AE0E21E4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72F0F2-07C0-491A-A10A-E8BC300248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544333-CDD1-4308-9139-6E1300E539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EF6B-980B-4941-B5B8-1DFA3DFD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39CA7-8C0B-4149-A30E-52F7544F7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3C6F36-9DED-4D59-B6BE-C0BAC1702C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59DC91-564A-4161-BC38-9EC910F763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336665-20EA-45D7-B22A-651381386E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4F47404-7D72-47E9-88F7-551CD1B6B64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384E44F-D3B6-4CFB-9568-4797D6EBE51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4E8496B-B3F0-4CA0-A4F6-21D09089F98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BDB263E-D57C-4E25-96FB-E8B9405528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DD87F0-F368-40D5-B08A-141E44289E7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6B6040-65D1-4748-9632-75B17DF7ED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1394C8-8CC1-443E-B417-51716E5C8F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32B61-6043-4AB7-9359-C7A055229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69A9BB4-EB5F-42CC-AF4D-E68EC27D12A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C5474C-D3DB-4B5D-A176-83DA91E068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7BADC5-BF0C-488E-851F-37C6F65DBA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DF1BA9-DDAB-4EB0-B89A-5F51EA578B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EF7DA3A-3D4E-4B84-9BAB-7DD8F37EEAB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F37D556-7F01-4C28-B2D4-628E8205596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3CB3428-B0C0-4122-A263-AC686322197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F998119-0EB6-46C2-8A5F-40FBB5C512E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77BF4D-CB29-4487-BA87-025FBED0C7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9DB2A88-2AB2-4B16-B62F-8D2A17A903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93D56-2F47-4E58-B94E-B02F74491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F0E64F-728B-415E-8AC0-D57F06ECA27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B18061-C6E7-4F8D-87B7-5C2C9B2BBE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0FC7FF-18A1-4BF7-9640-0B4D906824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A5C90C-516C-4146-807F-008FEBCA84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37E48F-534D-46B0-B112-8DC0043FC1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D97408A-BCB3-401C-A5D2-E21E92C8B3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04C374-183E-4560-A5CF-47EC9FF8772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ABCB183-5359-4A7B-935F-A4A5E8C55A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38F35E2-4157-4C88-A942-E7B0382B21B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0F1E6EF-098C-437D-A993-185D0AFA6AB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C1EF6-1814-4C52-A607-D1AB567B4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385776-0B45-4FA8-A3D4-D72720C514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AFC17C-D7B4-4F19-BBAB-3F1EE2D1CC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EB9770-6FEB-4814-9EC4-C7E838E742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7A42169-E4AA-4305-8B08-0248CF8574B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FD481E-0782-468B-B75E-BA845DA57D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375D936-4D2D-4436-B238-F31E925BFE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9BE928-3F81-4B60-B8BF-D98C080039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CFDB2B-C052-4C7D-A02B-859F6D29D6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4772120-0703-4087-9442-3F73755FB5F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E2FC4D-C98E-4646-B131-231BC893272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11EA1-A46E-4043-BA1B-003128961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3E5BC8-FBA5-4341-B680-A438F061DCC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B74919B-FA71-4727-89DE-EF61372578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1DDD66-C90E-47BE-92B9-2028ACB8B1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40EA048-C150-4B93-B136-6BED54E093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81D825A-BD95-48EF-9E12-786EE13D1B7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612A6FA-557E-44AD-A009-C0D32F2FC32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C4D3468-0045-4A60-9D00-989470A3C9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342A40C-9584-468D-A92B-C10EC7A2CA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6345E7-F88C-4928-BDE2-F6BB1A658D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1806F7-E7CE-478E-A9B8-5D919364B8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96D73-4CA7-41EA-9AE9-B02600C28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DBCAD5-1AED-423A-95D5-A59870357F3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899739E-372E-46FC-B2B3-C201D112942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8FDA128-9556-44E2-874E-DF11BE74268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BD944F1-5CEE-4CA9-8B8B-E6EBDD876B3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DF75ABD-A8FE-440C-8505-BF207C0CC5D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35034A-9B5F-4175-8018-AE8DE1778A7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C137E10-14A2-4BD0-BADE-469643FDF5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9D62C90-7970-4702-A4A3-3498C62FFAD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705997-3FA4-4F31-9F19-A1D55EE2FD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3265FE7-14BD-40DD-A404-D6888EB792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B58BD-D07D-483D-B003-BDADFEDAA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89F970-E033-45FB-AB6F-4FD541F4602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28F6579-3F57-4F50-868A-21F6B74F25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78EAA4C-9462-41B1-B4AA-0A50C0B19E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D24FEEA-625A-40F6-A266-6F5A6FFF2FD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62448DD-30F1-4856-AA5B-E0E1AABD869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033F74A-9FFE-4652-B24E-1F6433806B3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1DAE1A3-F4BA-4029-908B-337A1114CC9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E274337-25D3-4AB7-BF5C-BF92B060D8B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F74312-C024-4239-A53C-8C4B1D4496F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0EFEAD-3A66-4FF9-9809-0A233586759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0B0CC-0ADF-49E5-9424-9F9EE7C7E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A8E66BB-36C1-4EEA-A0DD-8D4FF5BE774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184B3B-D232-4908-8764-0D63151899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E2C635-63E6-48CA-A3C1-8BE924EBFF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CFB652-274D-49F6-814E-2EA0EE45C28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270CFEC-6585-4DDC-8BA7-702629A3A6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B39BE92-56E5-4D6F-A405-635D9804212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C156E50-9FB9-4298-9D47-3172D85C5F2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230E90C-0A53-4E91-8E99-E1897C22184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E8C4CD3-1EE5-4601-ACCA-2FBCE3ADE8E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F9F2378-2780-4D8B-97F0-508D309DC20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35A52-DCC9-44F3-A5DE-0C42590F8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33C385-EEE9-46A2-92DB-4D25F2B4ADB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6231984-E77F-423C-BDBE-C1DCBEB898F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76A0824-51FF-4D7B-BD4A-E3171B463E4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7D35B2-65FF-4096-93B7-EDC41664D0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1E0308C-8EA1-40B6-B8DE-F8248DF97E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B6A2D9-FA71-4793-ACB2-9489E39E330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2396E54-C26F-43D4-8360-C670F0CAC48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1DE91C6-24B7-4113-A2C3-77000136AA8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FC93694-8EAA-471F-A4AB-E6BDFCD2EFE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4BCBA0A-D29A-437A-B9A1-9B8312AD862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0DA1A-27EA-489D-9BB8-1508EC4A9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A72192C-9DB7-4E98-B218-15DD3100BE1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C8D47FF-1253-4431-9C79-C9BF53ACE6D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733451-27B8-488D-BB86-00BF97BEE32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92D63F-EDFF-4E24-82EB-86F62AFF5E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E71F7B-D073-4836-BBF2-9FCDAC08F10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F2C6120-731A-4312-B9B8-44F7329ACD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BA6714-AA7B-46E4-9621-A155F55609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B54297-E49D-4870-8FD7-AAE31E8A98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25FAB09-D4CF-4DB4-A388-3592859CD79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E24B71F-BAAF-4FF5-90B0-EEAD77E5CC1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B421-BA3F-4FC8-856D-BEC564333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F2509-8580-41DC-8297-ECF56CF34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AF58EBE-0EB2-445D-8945-9B4283EA430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8F20510-F83D-4376-92E7-2F1E19C7BA3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0A9134C-5389-4372-988B-A36BBA3A7D6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AAB2F5-595F-4E25-A338-F82961AF486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F19DB53-BA5A-4385-9DE6-4B4EDD061C1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2330A3A-26BF-428D-9B8E-AC7BEFC0CE8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450F5C0-B533-4C46-AE98-50BF4104B67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1183A4-A367-461F-B086-CAFB9D5150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9C76F9E-5D4E-44C9-9695-77FD7448351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F11B1D8-1326-404F-8B62-9F0EADF170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1EDEF-D3D9-4DBB-A588-EB70DBB0B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B30E7A-5D5D-4410-A476-281D96477E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5F0CF7B-AAF5-4696-8E50-5E2FFADC792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FE66018-046E-4C7A-8413-C375D184CFD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73059BD-C674-4110-93FE-1C82DD75DAA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EF7F4F9-B0DC-4605-AFD6-BDCD525219A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9B5A07B-7D69-4747-952E-65A2C04C330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2C0ACE1-D0BE-4565-BC74-CD8D53A3702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C4F6857-5F40-482D-BB22-888650ADCF2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5AB5D7C-EEBF-431A-AE93-7EDA31C6E2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49F479-7F98-43DE-8BFC-7108007D94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FD592-6CEE-4DE1-95E1-E6412A972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57F455-FA5C-45C6-B660-EB0B4C3CE69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1A14B20-320B-4C54-935B-C255550F23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AFB62E9-30C3-4CC3-A916-531B686604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7CB9CF5-F443-4247-A9C9-63E4F54D8D5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30332EB-CC04-452F-A552-05EF9D8B153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D5750FE-11DD-4C3D-B3C5-CC5DD69A196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CCB4A57-3676-43F5-9B1E-6DEF26E3435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5884F2-2D9F-4EAD-B5D7-776B145FA5A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E80371A-9F9C-4C5C-8CA0-F1AED71CC8F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BD905C5-1AB2-4819-AD43-537E7DE8AA4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6045D-A8A6-46EC-9B0A-3AA4735F3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36DF71F-D4FF-4B9B-B65C-E4B8992D64E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225F628-7918-47EC-8D38-4F42A0E4F27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439EC7-78A6-4942-9A66-250C8F0795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6846974-B65B-4521-81B4-FC2BBCC0C50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161E66A-4AF2-4F8F-A969-0B44E30769E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931D3D8-A5F5-41DF-A7B5-429F9BC85EE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15FDC10-3A1B-4238-96A2-02A2837644E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A5816CA-B902-4610-83A4-59815C72A21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4818679-00E4-487B-AC88-EF09DBABE32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2347F0C-3F1B-4517-865D-8165BF51B4F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19672-5D29-4850-8847-E4D09DE77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722F5E7-175C-4F3C-A05F-AB4361B8566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1615AFF-CD44-4DB0-8F62-C60AD9BD9D1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006580-4E35-421B-B78B-57DFE49BDF5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707FC3-B406-49DD-83C0-599BB0A4D25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1282D9E-4CC1-4BF1-9F58-9B08472DE2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29EA27E-D670-459F-A9A4-0DD0DCDF029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04E2F51-E542-45CB-9C0D-39282BD25C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9E65A0E-1397-4E5D-BC72-18913C82216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75255FB-0BEC-40A8-8240-478A5DC57C8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DC9C306-ED7D-4C0D-9B74-DB657209B2F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93081B-0E5A-4FB2-9312-14D610207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21CAA27-70E1-46BC-8F9C-C2B981CA43E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2C4CDF9-FDE0-47E8-8672-782CCF68566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0332CD5-ECCD-4581-92AC-D41E1AA4412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E94D9C0-BACD-4E20-9809-06EC70B73D1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B8C20A5-1415-4BDC-8986-970FD9C2AC9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9DB7222-BA54-4587-A5E0-3A8CC38B1DD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AD9D27D-131F-4BCA-B4B7-2B0FDC258A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693247E-6A3E-4B22-A0D6-A5D9EC93DF5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8DD0200-4AD4-4FDB-9756-04F45483FAB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F0A2125-D1F6-4DD9-82DA-F21C501971B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8730E-64BC-41C2-9AA4-6BCDD591D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C71F180-E19A-45DE-A13A-E6FF0898D07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7F44329-EE7F-426C-8449-0FB69121B40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50F85FA-EEE9-4BAC-A149-9693E5D10E3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ADA1968-1385-43E4-A2B6-E84C0B75E4C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683714F-E616-4C48-9F29-04BDDBBA74A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CF03E0B-FAB4-491C-89D5-932FA7867E0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0611D2B-4582-42C7-B250-B02A6657794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DE9A03A-C7D5-4688-BA9A-2B95E5BF321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59C54A9-C6C3-491F-94A4-0891F3E7A8F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27F6A29-87F6-4F4C-A741-DD29A336B48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8542B-D05D-4A1E-972B-38B4CAF7C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A8C17B0-D760-49E7-A761-C12E155A03C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D3515E1-9A68-485E-AE36-1F092EFAE39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D090B3E-34CE-4F48-9E20-40CB33CF62F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37089D9-A04A-466E-9B46-4950DD88581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E608845-395B-4AF8-8514-DD9581ACBF0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160AFEB-077B-48F8-A013-AB5CB020918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C24AE14-E49A-4EB4-BDC9-D75ABDD56A2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DE5D14E-2CE0-4D74-8C9D-2490A9BEADC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65620B3-84D0-4FCE-A041-04E8E373E73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B68840E-6B0D-4103-8F23-A72D132EB82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7EACF-0D94-4084-A80C-571A85446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B6A1204-3A71-4D2D-8016-30BEE02324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5D4DCF3-BC7B-4F7D-8D9E-74E28EB0CED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DB3421A-87D8-4A9D-B552-AB915CB40AA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E7567A4-4B85-40BE-9839-450F15625FB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CBB7BF7-482B-4B39-9B6F-59C515CA7DF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E5B62BE-BF91-4818-A1DF-424376B3334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522A9BE-881B-4B9B-A7C6-3962254907A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59A8790-0E54-45A0-ACEB-340F5752108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76BEF6A-02EE-4399-BE2C-2E91196C836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E1F0691-C61E-4553-B0EB-F3029DBA24A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C3BC2-CEA3-470B-BD46-0AD2215BC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D6167F4-E2A9-44FF-8EF3-78175EE51DE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028DAC1-895A-4889-89BC-35FF1DD6907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DB35A1F-0190-4E5B-974F-1AC1F89210B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8002137-60B4-4F54-8F7B-7D4029F45F9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CE41342-73CA-4DCD-AC16-51D52ADC827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54FF87C-E409-4416-A385-7208F52000A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5B86096-4B96-4E0B-A7C2-282359149FA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CB8D75F-1921-4183-82E0-496EEC41AE5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8B8CAB7-7AEB-429B-941A-B5DD65AA829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5A5EA7B-4D22-4DA1-A88B-D01277A293F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60B7-6F9D-4017-9AA9-84ECFB5B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E7CFD-0030-45FD-B0FC-251EAECBC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957DD66-E785-4A11-A882-3F0241FF2F5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2C1AE49-D145-42E9-BBEE-9496AF4EAA4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726A110-6D82-4A8C-99FA-6C6E3B73601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318F0B8-D141-42AC-81EB-7ECDE20DF5A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C9E7E9-B99C-45D8-BC62-AA9FABBB51D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305B2EF-02F2-4D98-BE5C-0B13625CB57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AEDA949-D859-4524-953C-DB8260ECEE5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80AA044-2A0E-488C-B43B-BFF441DBCE6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6085B9F-3926-4331-A1CC-3030D2F24E4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1904DB0-BFF6-4666-B8ED-01DE45DBE913}"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A2BB7-E2BA-433B-81BB-5BD1DB9F58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B2B8829-FC2C-4CF8-B53D-A3CC6F59D85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A481F9D-CC22-4D4D-A272-96D4920E39F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E4E8C94-7AE9-4EC5-AE8D-8F76F12557F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A4299FA-713C-4646-8D63-EDC6A61BC04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461F0BB-8B72-48A9-A281-BF2EBD28862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26E64F1-1F05-4797-810E-3C64990EA75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6F6DF3-FD97-407D-90AD-E2B47ACB2D7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4A26DDA-CF5F-4D15-889D-FCC18FE4C7E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FDECFBD-DEB8-451B-BC0F-5E32B46CE4E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1AA196E-A060-4613-8BB7-18866CBE158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DE21E-6823-45C3-866E-F3C8C8FB39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DC76444-089F-4940-90D0-00CA81A2AE1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06C1B62-D466-4B94-8A94-ADFA862B8AA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DCE6C8C-1BD4-46A0-A3C1-1F98E5C3047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D1AEC95-3886-40FE-A496-5DCBC92A834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D5BF0CF-ACD0-414C-8F49-C4D90C70C80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31D6ECA-D4E4-44D6-8AC4-D61939B6C92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E375E94-9890-4C01-B265-33DA7787738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5CCC46D-2D86-4A5E-A5B0-52685932CD0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C9254F5-AA9B-47A4-B373-578C00FE114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E1C0C69-8E72-41E9-A754-1AB10818644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9D0B4-0F8A-40D6-B342-14CE0E8F4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15AA0A6-2A24-4F86-852B-7E687C9088D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C195999-A1D0-4D1B-BABE-B8E3CF57F92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F1836CC-7614-48C1-B70B-4B5AB7F227F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2113941-96C5-4EA2-9793-7228F44B244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781A57B-F54B-429A-8284-FD8D19DD722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94E7EDA-E977-43B1-AD2E-B432FF15D91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0C797E7-47A6-40AD-B3EF-9681CF69299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1AD2796-DA59-4264-B647-19803E92C27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F1267B6-C506-4609-8EE7-0E5F17F40D7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6BC55FF-90A2-4EBC-9974-BCB578B4E33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4CC12-6E7C-4BB2-A4F1-9BD339F07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CB9684A-E019-4582-A319-2F7231457CA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96ACE43-2CBD-4470-B596-4437B50282F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9419F22-1160-41BE-B799-03F27B6B846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CCEE143-94EC-49C8-A808-4BF2AA3B917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FC0AD71-2559-42B4-BC59-88B4EF48673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7E8DDF8-D886-4D33-AD26-0DF6710784B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A1D0604-DDC9-4D8D-AA3D-F1A9167AC69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C4BC1A2-54A9-4FED-B1A6-AFB9F61F784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651434B-3ECA-4015-ABA6-161D91B822F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E760594-DEC0-46E4-B9D9-0F393F00EF5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D8696-6B19-46C5-A4B6-D0731F003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D26FAFF-C32E-488D-A4EA-CA4045972B6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8925B9E-AA51-47E7-B2A6-D38E2A0414A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51942E4-F030-4247-B891-E457CEDC5B0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0A2274B-EF44-4455-A6A0-A2773DA547B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2B49357-F989-4BB1-A03A-0191CEF8CE5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905D5EA-D0F6-491B-A870-2F5CD83AF3B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AC1B49C-B96D-4E4F-855B-861607BAD48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36018FEE-A583-4C76-83DF-21413B14ABB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5B929CD-9409-4B69-B574-0F83C936CFC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33F7A0E-B43A-4848-B296-83E0B377253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2B272-F85F-44DD-921F-F4956BBD4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3EB73F0-B55C-4619-B893-6925723DE23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764E3C6-7970-4268-ADD1-32D19A05044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32AB72A-A164-4C03-9DBF-6CC43FA1FC9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7AC6C07-9AD2-44F2-A1D9-0D8DC844A40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CFD891D-495D-4484-90F2-349BBE79693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26AFA97-79E5-4076-BE16-A70F4960C73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A919C79-1940-4299-B0B7-3FF89B08514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99B2DC7-AB4F-4FF6-8928-4CC42B0294A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406310B-41A1-419B-BE20-46989D33E73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E795304-4A14-4BD1-BA77-726DF4181B4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D509A-DC7C-4889-A862-870AF8B909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E5894C3-933C-4B12-B83D-38F92AFE351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5B123D1-D95D-424B-A8F1-66B3601FB78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8191D99-2D0C-4CB5-A5F7-44679840302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E22450B-57F5-4801-98B7-84E03DC516F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6419390-97EE-4935-AE21-AFDB3EF12C7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8BC7F05-8DA5-42C0-8E3B-6BFBE43898B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F4971ED-44E4-4B94-B431-1BFDEBD3195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A847F63-34B1-4661-B514-413B8FC216E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62D3430-0721-4E12-8704-79177D37D9E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72FCD4A-F4C6-46C7-B122-4CD6E529318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A25994-4156-43D8-A61B-68DF1D1EA7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F237B15-F107-4E36-9A58-C4100D05407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E5379B4-AE1D-4C44-83F5-78D3328E468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9E9DB4A-F9B2-468C-BA23-51235709006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F9F2C2A-81C2-4FAB-86FE-3264EF6A360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145164A-59C4-4C04-8848-E27E0AA3438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FBFFAD3-988F-426E-A8A4-A2EC172EAAB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70877F4-6011-4A12-83A4-6F63B45CF27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93F88C8-58E1-44CB-8620-2EA694DF9C5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46BB18F-BD5A-4CE5-A7A3-574F60FE6EF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99EA58E-1CE5-46F1-B020-579BD36E956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0879B-82E2-492A-9A5E-71D616783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1561E41-7A98-4531-BE32-8F8856E82CC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9FA76D07-2CFF-4FBC-95BB-EC82BB53F76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7129B99-146D-48E5-911B-C4E4432BEC6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77B23A8F-68CB-4F8E-A6EF-F154E31935B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DC2B6AB-F8A6-4C8F-AA75-05E3612FF8E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4D2AD6A-ADEF-4B14-B159-F0D06C05009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3E10EBD-EE7C-4BBE-BD22-436EE50B15E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F1B06F9-A783-44F2-8CDE-C07CCBB6A89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BDCFB3F-0DF8-4F91-BD63-40A2237B6D1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48FBE55-999A-4787-8945-0476D815505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78F4-823E-41DB-8D35-869B29EB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3B0CA-BA35-49B8-BE32-7F17DA1C0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D47C541-7871-4C6E-9281-5CCF57696A4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AD9AA65-9343-462F-8B86-8260EC5C920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4419905-AF17-4FF4-A31E-87CD6942C00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CA2B4E1-FD48-4CC2-8AD4-F00E1DBFF60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F203D06-C271-4498-BD12-EE7401DE8482}"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6FEB282-C33D-4E6A-8055-3C09EBCB5A5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F096F7E-1921-4F35-99FD-4D7AB2C5D48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8EFF237-CD66-4224-84C4-47DA557302E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894FA28-0255-4443-8A09-FBD6082536B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7B0A273-F4D9-472B-A2B7-69BAAF21E68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FD7A7-0C92-43F8-8E2A-BC139B0ED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38F7713-0E8D-44E0-97E3-80AE3CAEEEC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4E843D6-B0FC-4EC6-8B85-95DB15EFA2A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517C6D6-83C0-4626-B020-307FF1E1221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3573120-F9F7-483F-AF26-BBF1D148A5D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687AEA1-CEAC-47D1-9C7B-F94D3E834A4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51F98ED-82A0-4823-816B-B891BA31098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988A138A-16B0-4466-AB16-43229387F93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92496202-7A6A-4C64-8A5A-DE0C70F6BB1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5E376A5-AD3F-41B4-9470-1B19602F84F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C64E9A1-B413-42E1-85D4-148CB514B59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192AD-9149-4AA2-9187-81DDBD97F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DBD384B-EA55-4767-94BC-BC8DC279D6F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D2D82F3-C76B-41DE-926C-6F65F316AB7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519124B-FD92-41F6-B98F-4E8C9B517D2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8A2857D-7A4E-431C-89C4-7315984FC16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53C74F9-AE18-405B-B99C-8A50723CFC5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7F2F35D-BE89-4A69-BABF-9E145425FA3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95EC7D4-4D90-4890-BD9A-66765780A3D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06D5FD6-1EE1-4FEF-BB8F-C5363B26963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4A5291D-56B0-40D4-B421-2220FE6F1D8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64261C46-6439-47EE-8902-9E72D6AED2F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D28B19-6504-4DCE-955F-D363B3FAA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F2F93D4-FC68-4DA8-85C1-955D113ABF8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6DC1200-CC13-4612-B52E-44A6DD50C52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5B03B97-864C-4065-A08B-114F730BF0C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37E31EB-2537-4DC6-B93F-FFB27C854D0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303B8A8-1E8D-467B-954B-0F28919ADE2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5FA974F-808C-48B5-8BBF-5B1EB55608B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6A333C7-9A7C-4D50-8CB4-47B25EFD591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A9A3002-A27B-4CD2-88C9-E9E586E9E91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0CD77BD-803E-4043-9DE7-5AFE8FFA7AC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6E43C8B-B8E3-4A5B-B751-12122C2F3B4B}"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65558-7AC6-4F33-BD10-B8D5A3665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A9C4D226-0B14-49C6-A5C5-57E8315DB68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B083842-235A-4B3E-9930-0F748FA6B14E}"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C4AB592-362A-46AB-802A-F2D59D77E07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A5B7DF8-1108-43A4-8B55-F2D277DB168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0F27D34-E414-490D-AC97-C175F0210D2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51B80EF-F2B7-4498-A520-799BC1B5833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F4486BE-5DA0-4193-82EA-F6AF2360CDC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8EA5C76-DD7D-46EE-A6DF-183D0487DA4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BCCDDB3-5745-4FD9-AED0-1C27B0197A4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01701BC-750F-4718-B982-238CB3AAFD0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7650B-5D8B-43CD-AFB8-A2616BB6A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5063273-E336-4144-A0D2-56681772558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C87BA8B-CBFC-4B61-A94D-4B8D79E8AC1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1541A9AB-EB42-49E3-808A-04EEDFD2130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EF6A0B4-B06A-4175-8BD1-BEB65FD24D7B}"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EA12A73-AEDC-49D2-B4C8-DB9B3326A21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DFC57E5-9C3C-4F7F-AE09-8FDC1FED07D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9489C46-B8A7-4247-B26E-3E6786445FA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C581AAE-A9B1-4302-A72B-6294E98A592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241EC19-1893-4FBF-B127-52CF4EF132C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FBE8F96-7CE6-448F-BEF9-FED9C40042B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27879-F891-43B4-9386-3B22907E5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C02F3A6-C9DC-4C29-A68D-F3D5F415C9D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5219D56-A011-44D5-8640-3680ADDD4A8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6A30B05-4E72-48FB-AE5E-A3FE0D75271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0109A99-4C81-4A27-BAB6-D75F56621CC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11174DC-2012-4919-800A-957ED0E42F3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85134378-6D4B-4FAE-AA07-413EF6D389B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B6CAFC8-9ED8-4E96-B2D2-1ABF1DCB7DB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6DD2255-1134-4916-8535-3994C2936FA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2CBECAC-F3A2-4FF8-8D0B-47FA6CB40AB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DC6CA7F-E64B-44AB-AB27-6264A9FF6F6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D2265-A441-4E96-98A8-3935E7F7C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C8F813E-865B-4AB8-B7C4-3247A851BC0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8A6E023-104C-401B-A8CE-9A7B49E8577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4FAF068-3E44-4403-8AC5-4C3D36E7C11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DA1EC19-C86D-4E38-A9D2-46BD712DDD4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8444EEE-B3E5-48D2-BBFC-D605C5163DF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F73C082-2373-44D9-9B66-70253D2A5728}"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6275A30-EB85-4121-BE26-A8D3FD048BF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5AF1BAF1-24D4-4C6A-96DA-D09FBBC47C0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EA4EAEAA-6A4C-44B7-BDF3-D85A00A76C5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0E8220E5-84BD-4F02-B1F5-2C15BAB2B1F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36A97-F3A2-498C-8DA2-C6DE11BE5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5AFCF21-CB93-4D9C-826F-DDD53C5CFE5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6651411-DAD6-4B64-9038-C0746AF2649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EFD3F6E-9DBA-46E2-BB91-2AC400A6CF9E}"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A93A8D2-8E09-4E74-9AE2-C3CDD617DA9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01E4831-C448-4717-9573-89243C9E61D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F0698BE-0E5B-44B6-924B-39B9785F97A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28A6CF4-5221-4578-8EA9-C60ADBDE8A0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79884EDB-0FB3-4F65-9DA6-86A2C6594149}"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7649B7A9-5355-442F-B352-95FFA9A4DDDE}"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C8317D62-95F3-407B-AAE9-01CB6961C62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A45883-2659-4C1A-8F39-B2B3011E6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04AD2227-3D3C-44A3-A837-0B63936F46A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0DB3DC73-D717-432B-9269-55CF6C7BDEC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81C40ACB-AE94-4040-A066-6B46337ED07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D93D884-9303-423C-AC2D-EC52D417DDA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0AA885D-9236-4449-8DF6-BA3F9F69E71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6F59F88-220C-403F-B2DD-D57BB69084A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5574603-4C61-424A-ABCE-2725107830E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31A2DFC-7EA0-43FF-B6F0-B4145C27EFD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51063AD2-AE3D-41D4-ACBF-B236C121CEA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909F72F5-BAE4-4282-A781-A956BA150591}"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94603-D02B-4E60-B996-17126FA5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504B3-B333-43AD-879C-B5D0938F45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7B59D691-9001-48CC-B6BB-7D19AEA68540}"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2AA81D81-E0D6-4602-9916-7F4CF17D4C3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4AC1AFA7-98A9-4880-811D-B53E3E4DE9A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117CDD47-63CE-4CDF-B926-167C733FC40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A31A885-34AE-4502-AD59-A3E06C8827D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6DBF2EA2-180A-4C40-AE9A-D71688D0C38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3D90307-8045-4D8E-9A1E-C73F6A38065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45E5039-4B61-4A92-B608-C64BBDBD146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C6CC0D8A-96C0-41AF-B97F-B5E97CDCABE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FB13347-2932-4B33-A324-9621E6B5330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85F44A-BE16-41D8-B926-929975792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06B659A-DDA1-46A8-9A1F-3CD88152657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0959B6B1-C12A-4311-B8DA-725A4C5ABCA6}"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8696BA3C-8E98-4BE1-B252-93E44A550EEB}"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8BE02812-0BC4-4A8A-AAC7-57D1F842DF4B}"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1A11179-E77A-4F5D-9FDB-50FF514926FE}"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0E799089-0CB4-468D-95D4-88A725A929CE}"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5C4526CD-64D3-47A2-A5D3-DE4E00EEA49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FB11A09D-7ED1-403E-98C1-8CB60366257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6960BAE-22AA-4A3E-B9AF-17C0E807D48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63D6D02C-E55F-414A-B9CA-6613A0A6E136}"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A210E5-BB39-454C-8C17-32FBAA819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5499F81-9F9B-4C98-8473-85254D5EE5B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FFAAA831-06BB-4C4A-9B37-C3689240045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2C72D04-E5D9-44A7-B194-44644DBACDD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4D4CE0EA-F9AC-47DD-A08B-5E4E60AABC01}"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7339764B-7E95-45F6-A321-28EAA4D2E95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14DEC300-B291-4776-9750-F82DB33C140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DF09ADF3-BE6E-41C3-91B9-6EB7F6BB5D9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C0C4CF6A-E324-4CE9-8846-0E21CA8F4EA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75239483-7BE4-4777-A058-37254448B83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B364BD2F-2F5A-4D64-9814-AB97B2B3017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629C1-6AA3-484C-B6AB-541F5FAEF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A344D1E-F463-4DDB-A392-64657883E42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25FB92F-2B9A-4262-B4DB-F283E6D1C39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93FAE55-C97C-4C92-9E0D-9CC4A98CA44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A90A3547-BEA1-4D40-BFBA-E21F00855DB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8694B2F0-27A7-4426-A80F-34736616822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8F2258E4-D810-4FE1-B593-B3CE75DC0F98}"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AD815E9-67DE-4739-8B87-C158937A163C}"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847B137D-21A7-4DE2-9562-D95E3A384776}"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206F687-BB43-4A20-B6B5-DF8932DE92B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DD693D46-F0D6-4F25-8A02-6B0A1235A419}"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984615-A4CC-4284-BD9B-3006AFB3F5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BF26340-F60A-4FF4-825F-3323A55A015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5987F5E-47F1-4E5F-A306-280852BEEB58}"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610CA74C-669C-41CD-B8D3-E880B8413639}"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0F3DA3DE-2E91-4B3D-BF91-D7405E12E44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32F6580-ABAC-4572-AC35-CEA8CD3F0C91}"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3B62A09-C025-474B-AD39-85A237C7DB0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1DEE10A8-B04E-4EE3-A17C-22A71217584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15D09330-636B-43DF-A9A9-CC109B858D82}"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E6E25FDE-A1C9-4169-BBB9-C357AB18967B}"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3155C47C-EA6D-4F19-B0F7-203F3C44DB47}"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AFE2A-3FD7-413D-9DFF-658AC2F1A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B0EB0E27-6F51-4507-AF90-529358CBC27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49BA2BF-D79E-4671-9872-384D6727B55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0F3CBEDD-D9A7-45E9-B87E-BC20ACBEE81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055EA57A-AC21-4395-BE5B-4549DCA26C5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AC94D66C-9D22-4699-B66B-174CAD1DA98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2197148-579B-4412-AC6D-4E1A1798492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A209383-E118-404D-AD00-EC19E4BA765E}"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6FBA0057-92BF-45FE-B9E1-F40840F1E9B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EA4A291-AFEB-490C-800F-33670ECB223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12699F09-CC8B-47E9-82CA-81D3E3DAE64A}"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B1D20-D411-49F4-AF06-EC30EA4FB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D509A1EC-DE44-4559-9C8A-A2B8762A55F8}"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7491F44C-FB9D-4B94-AAD6-6A41826F3AA5}"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9A953BA5-8682-4BB0-8FD6-517589E22E93}"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79AB5B9C-1DA1-47DB-A40B-854B759B1FC4}"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2BFE1E6-F7A6-4F8E-8C05-0A6E193688DA}"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5DD86574-F56C-4F09-AC67-21507C34433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2CB714D-D4B0-4847-A087-B1CE9F314814}"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F2B830F-6BE5-451D-A6AF-9700E79A354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28C4DA3-379D-442E-A842-C189EF02448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F1318D4-2088-441A-83C0-02FD0E8D57E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1CF70-E9F9-4240-8879-F3175F53C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358F861-8BD4-457D-8A81-360D6AE1A2DE}"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44291FBD-13CB-4DC6-81F8-BAD6530A3585}"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FBC8DBBD-5C5F-44FA-9784-DC4BD377ED84}"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E30691F1-0044-41DC-BD92-291B83BEC538}"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1D782708-F1A8-4D29-8D3B-30C2F5D202D5}"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8C1B445-3887-4D14-9D40-3BBF78B4D6F1}"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B05B0F86-845D-41F5-B8B5-CEC169E10D8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33418FA5-E6D3-4E7A-881A-619B7E7695AD}"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D8D51FC-AD2E-4B8E-A3C3-54CD229FCB27}"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072AAC9-F78C-4A0C-8555-25436999042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6BBE9-8ED3-4305-8B1D-D85CB12EC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47179406-108E-4FBE-B0AA-EAAC18AA2B50}"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1C0443B-1905-4178-A67C-8D4900A0D56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763BA87F-E479-4CE2-9968-8B7E33A0511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9484A87B-2820-4D29-8D7F-66104E86F841}"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09B9625D-9767-46A5-BF92-3A3EAB705AFB}"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B0ACC758-A5BB-4FAB-BC4C-A3F0D1DC24E4}"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210BF664-B67E-4C02-9971-C7664E122C6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7AF45A92-C272-411C-A000-5A4901BC334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EDE49C20-A102-449E-92CC-DA705CCEF4F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A6BCFC12-9864-4584-BADA-B7E6A24C01D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24E30-255C-42F7-997B-14752791E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9DB84BDA-A7CC-4037-B2A3-34E1CB394E5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E24376E-A150-4B81-814C-F23A18E849E4}"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17BBA6C-5FD3-4723-998E-388B8C98F2A2}"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E8CC5CA-7B9D-4640-9650-FD25E229967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A5A9F9B-E53F-41AF-8363-9620B031168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2FC9BCAD-E28A-4C06-8012-C134BDA3903A}"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42D132CB-C932-4D58-AC6F-CFB0D6E96C1E}"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D0CC825-E653-49CB-8C79-DF8A143D5632}"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BF7F37E7-8588-4694-B76F-6D561D84291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586B59FF-55FE-42F0-8EAF-E7C007D19A2C}"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DF5F-8296-4FC4-912A-3FE3551AA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11F47-0EC2-4442-8CC6-1F9B67D433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DAF65A37-4DA9-4030-B9B0-F1F2F7A19969}"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D8D95E79-1B6B-4339-8F0F-8B9632C03948}"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7728A1B-5DD7-4F72-8962-DE7537F35C06}"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E740FE6-F6D9-4449-AA1F-96BBB568706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1E5F166-92AC-4B25-9371-4885569DCD5F}"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669A8AD-258F-4A34-89AE-645C87AA025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60BB220-CC73-4B40-A5EA-72C57F39144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F58D05DA-E5DF-4A54-83EE-411331A10D36}"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00C729F1-F70A-4EC2-B741-4C1683C6A170}"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F60E6CAB-7CDB-448C-81A6-FBEDAA6FA97C}"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14977-DBC9-4EF2-99A4-D7684B240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A700DB37-34EC-43B1-B6B1-0FBE46130B4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76648E95-2D10-4CD4-992C-92238B37592A}"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E95B6AB2-89D0-42BF-BEF9-375016DDF80B}"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4C4E1B49-96A0-41F6-9097-7BB0A1756A61}"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88C4D12C-76E4-4B55-A531-BF9AA75572C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3229D0B-902D-4C10-87AE-A05F1C918900}"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EBF7881C-D42E-497A-BDBD-D05504D0440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51C1C592-A209-4607-9E9B-4BDBA3AA826B}"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37680B77-511D-49A4-A1B4-00FBC1000495}"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C0CDDA59-691D-49D5-A782-2E74EB3E8AA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8C91F3-29AE-4AB9-807F-5DF3B13606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9C7B11C9-4178-4B35-BC65-9DE3B0378E3D}"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02A73512-A250-486A-8C6F-7ADFF8CC0FE3}"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1B8D8F93-A96F-41B4-ACD3-141C4FBE0457}"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9A4629FE-F9C3-4218-AC01-1D82B91C2AC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9B834F78-FA2A-4818-8991-C1E814837F3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80F5442-F4B1-45CB-B28D-073715A2C6B6}"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E7FA9E41-DB61-4828-BE13-775A4E7A4F56}"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04BD89BD-E6D6-43F2-9E77-0870DE1E3844}"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2A4A2ED-169D-4E70-B082-A3C7FFCA6FC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35D19EED-485A-4253-B1F3-E21729CCDA8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B2F16-4324-4551-9058-4D5934B62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309AC94-0FB7-4C57-A8EA-8C0919EBEE36}"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249E72C0-94CF-4D13-B0FB-56B34CB6B889}"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DC45D608-939B-47EB-8752-29A062CD1706}"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5AB7C8C4-F849-443D-9189-096F3E46951B}"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4D64F06-2C63-45E5-ABDC-E32096A64BF1}"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EE10D51D-4DD9-4838-AD6A-C9A5961BED5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10463FB-7829-456D-8F16-83565581953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DB7393EE-8C8C-4890-8768-3B56BC9650D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75A8B64-3F10-4D7A-80AB-D7B6C3130BD3}"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DABE557-1854-44B7-973A-AAE78B682AD3}"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28E3DC-AFFC-42DF-A949-3D631DA7F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0A5A17C-9CC8-4169-BA84-C1FE98B8485A}"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A99FB3C3-9B55-4E1F-BF55-A2BD90D3348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3F8F26EA-C5B8-4470-A8F3-787F44D6CC6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C19AC4DA-3FFE-4CA2-B875-918339797D5F}"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BA22824E-6098-42BA-B535-57C08E58A7B4}"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B19B675B-BD33-4FF5-BD45-E987DBB0DA70}"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3CA9FF78-0563-4DD9-8CF0-C7B3635809A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8EE4DA3-EFB2-4BBC-8301-3272EC2802A9}"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4C6DF1E-EF3F-4FC9-91B8-9AF219C76D36}"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DFB7403-8135-4D3E-853E-862213AB9C26}"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E3F27-6EEB-4F69-8DEA-48FCB41CC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2479C1E2-C0DB-4747-B67C-2EB19225503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6987E9B3-4998-4D6A-9FB2-EADC3950FB5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278E992-6E04-4401-8C42-61450B48E279}"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5CEDEA6-5764-4491-8B8D-C092685ED79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C8FCE9F1-8949-47AB-AB83-343DA1A7BF3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3829DD33-A16E-4DC7-AA22-3864F2B0B960}"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03F5A132-67CC-4150-BAAF-C85D55E05621}"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944C0DCF-A48B-435E-9704-FAB8BF1BE869}"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D88639EE-A11D-4D12-B088-A8B19E8A9F50}"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573C3AFC-4650-4091-8C0A-4333BDF967D2}"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41C58-46AE-45F6-AA2F-B22FD6B4B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DBE882A6-A34F-4C1C-A86B-C5036BB8CB0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5D3DFDD-6AB8-4B6A-AA12-67FCA3EA052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140E2B03-8720-4EC0-B069-99ABE1D30E79}"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426740F4-2328-48CF-BFEC-63FD0531ECD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618C41D-861E-4BB4-B502-675C6F8AFB5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8AEC3C14-4C3E-4359-B698-791622FD4DD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733CE03D-E548-4983-B8D2-3FD573ED66B0}"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6FE3E476-CF16-4BF8-9409-C7B085446AA2}"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222174A8-8E6B-4982-A39F-D8F183F5E704}"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25128E4D-7355-420D-8A7A-B25544261668}"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4D974-84D2-4893-847C-3F67456F4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B95C4B65-FFC1-42E4-B2B8-23F7E4BA354C}"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9B14294-FED6-4C8C-A0FC-4CACF5A700FC}"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C5F30464-F55F-4B8E-AD6E-907CD4308000}"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B171A852-CF81-499B-934F-5FF54AE44677}"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73795284-47E9-4437-987E-B56255745ECB}"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F0664AF-645E-49E5-AF55-B2D7185B087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80022F6-B238-4C29-830E-2546ACCB84AE}"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2B32FFB2-17F4-446E-B222-667F78AD323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7A7DA13-F628-46C7-887D-468DEC0C58D6}"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9FB434AE-19DB-428F-BA1F-5A4EEBACB182}"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C542A-9EAC-4F22-8C92-311BEF8AA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338ACBF4-9924-456A-A0E1-0274DD0B9680}"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22247570-4ACD-4ADF-9FD6-5A35887B0745}"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457998D4-B71A-4823-B14A-5DF0E18F40C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4466DC60-247F-4634-8BA3-715CDA39054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0798D856-4EF8-4173-8732-841FFF22F042}"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0A4F108-B8BE-4888-8A5F-35530B9EBD60}"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AB2B55C7-7AC0-45A6-BFC5-B90993AD1C1F}"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9594CD8-F743-41F3-BD15-C9CCEB42E47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76DF054C-4950-468E-BE8C-E7F46E574042}"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92C28E6-A6F3-4312-808B-349D425C737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F5A31-3D80-4BEB-A3C4-7B6CFDCFD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23A2CAC5-A14A-449D-B155-F578E024D81C}"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BBD62FFF-A7B7-4C58-8D62-12C7105BDDB5}"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495440FE-C0D6-4FAF-BECC-90102AD48D09}"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82D29C66-A705-465E-9EFC-D9AEE143697D}"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DA84D787-CC0A-4044-9E9E-FA81C62E3C5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197505A0-8345-4F29-A531-0EDC30396A3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BAA5631-DFEE-492C-B3AD-CBFEFB13EC1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84F593B5-D8DF-4132-8A65-CEFBD9E8C564}"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698E8727-70ED-49FF-826C-648436C52F4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9E00CE9-7E88-4989-8CCD-1A8151A576F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561D1-9148-4232-9B2E-AFFF850A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7D6CB-4A7A-4FEE-8CC2-129E0BF18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294531FA-5B27-4FA6-A8D8-6E91C66F29F0}"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23E879EF-A9EC-4A40-AE93-AEEC84A70FFD}"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C176AFDB-E97C-4F8C-A1EF-BC3F472343D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ADCE1359-39EB-4A7E-A8B7-1DA2A367846C}"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FD8459BB-C086-431B-95E9-7810625D2C38}"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D7DB7AF0-E6D4-43B7-B3BC-D2B1E6019AB0}"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CCFF2088-F44D-4F6D-8703-1A1CF06BCE0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DFB594B-5803-4DD8-96FB-1D4144045DC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C95D859-11EF-4A1E-A7D9-D803DD6CDABF}"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7D47E9F9-C591-47F0-80B4-8C1E2DA865FF}"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0B333-50A5-478F-BDE4-D237B355F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40A6C0B-CF31-4122-BBBF-9663013D64E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98C5D07-D9B5-41A2-A79C-962D343DEDC3}"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13EBC0E6-90E8-47EE-BA75-4E081B9074F7}"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80D35AA-445D-458D-8440-D4B68D0E481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52A85FA-ABB1-4CFF-8258-46635ADCBA2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2DA48504-ABFF-4B4B-B49F-9D2DECDBAA2B}"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429A425D-3A5F-40E2-AFD1-A6E437E7BA35}"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713BE-12E0-45E7-964D-C4A0D73205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72E73C-9CB3-48A0-A3E7-22D2CDC72C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2791F8-D3D7-4C8F-BE81-D6D2BB797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2A5807-F558-459B-8D62-8D3DBACC37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0975E-626C-4EAF-8BA1-90B3A5B07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504B9-EB44-4022-8FF8-86EB1A5F8F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7B0576-9A71-4662-8D5F-40837D4F0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42904-6160-40D4-ACC1-B3D052F04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75DC-0418-4301-8FA9-3E4C158EA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0B5F14-C715-48DC-A2F9-4FBC99C41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0D5EB-22F1-4A06-AC5B-8CC5FAD46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81B6E-47A5-4ED6-BFCC-03E82B20B1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5458F-38CB-4E96-84CA-5EF32CD1F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91A04-24FC-427A-9391-6FF30BB72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DB43D5-F451-4610-94E0-A707FD0E46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FC3B04-A376-41D6-9D3D-45EADE3C61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8F9E25-7734-47A4-BF5D-B09A20B844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47100-5E2D-41C2-823A-FB7C655F9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A188ED-6E76-4A83-A55E-7C8D0D6C9B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D389-D4ED-4205-A7D9-0A99BB9E7D03}"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0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BA7F-F95A-4C2A-8DDB-ED3E3B94BC7B}"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Right Triangle 13"/>
          <p:cNvGrpSpPr/>
          <p:nvPr/>
        </p:nvGrpSpPr>
        <p:grpSpPr>
          <a:xfrm>
            <a:off x="-6480" y="5791320"/>
            <a:ext cx="3402000" cy="1079280"/>
            <a:chOff x="-6480" y="5791320"/>
            <a:chExt cx="3402000" cy="1079280"/>
          </a:xfrm>
        </p:grpSpPr>
        <p:pic>
          <p:nvPicPr>
            <p:cNvPr id="450" name="Right Triangle 13" descr=""/>
            <p:cNvPicPr/>
            <p:nvPr/>
          </p:nvPicPr>
          <p:blipFill>
            <a:blip r:embed="rId3"/>
            <a:stretch/>
          </p:blipFill>
          <p:spPr>
            <a:xfrm>
              <a:off x="-6480" y="5791320"/>
              <a:ext cx="3402000" cy="1079280"/>
            </a:xfrm>
            <a:prstGeom prst="rect">
              <a:avLst/>
            </a:prstGeom>
            <a:ln w="0">
              <a:noFill/>
            </a:ln>
          </p:spPr>
        </p:pic>
        <p:sp>
          <p:nvSpPr>
            <p:cNvPr id="4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2" name="Straight Connector 14" descr=""/>
          <p:cNvPicPr/>
          <p:nvPr/>
        </p:nvPicPr>
        <p:blipFill>
          <a:blip r:embed="rId4"/>
          <a:stretch/>
        </p:blipFill>
        <p:spPr>
          <a:xfrm>
            <a:off x="-19080" y="5778360"/>
            <a:ext cx="3421080" cy="1098720"/>
          </a:xfrm>
          <a:prstGeom prst="rect">
            <a:avLst/>
          </a:prstGeom>
          <a:ln w="0">
            <a:noFill/>
          </a:ln>
        </p:spPr>
      </p:pic>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5"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56"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6436-6540-49BD-A347-5DB1340FAA57}"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3312-B2F6-44EA-98FC-5D4CF3C34325}"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Right Triangle 15"/>
          <p:cNvGrpSpPr/>
          <p:nvPr/>
        </p:nvGrpSpPr>
        <p:grpSpPr>
          <a:xfrm>
            <a:off x="-6480" y="5791320"/>
            <a:ext cx="3402000" cy="1079280"/>
            <a:chOff x="-6480" y="5791320"/>
            <a:chExt cx="3402000" cy="1079280"/>
          </a:xfrm>
        </p:grpSpPr>
        <p:pic>
          <p:nvPicPr>
            <p:cNvPr id="538" name="Right Triangle 15" descr=""/>
            <p:cNvPicPr/>
            <p:nvPr/>
          </p:nvPicPr>
          <p:blipFill>
            <a:blip r:embed="rId3"/>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Straight Connector 16" descr=""/>
          <p:cNvPicPr/>
          <p:nvPr/>
        </p:nvPicPr>
        <p:blipFill>
          <a:blip r:embed="rId4"/>
          <a:stretch/>
        </p:blipFill>
        <p:spPr>
          <a:xfrm>
            <a:off x="-19080" y="5778360"/>
            <a:ext cx="3421080" cy="1098720"/>
          </a:xfrm>
          <a:prstGeom prst="rect">
            <a:avLst/>
          </a:prstGeom>
          <a:ln w="0">
            <a:noFill/>
          </a:ln>
        </p:spPr>
      </p:pic>
      <p:sp>
        <p:nvSpPr>
          <p:cNvPr id="54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4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5FDE-2D80-453C-A7FC-7C6E1D574143}"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Group 1"/>
          <p:cNvGrpSpPr/>
          <p:nvPr/>
        </p:nvGrpSpPr>
        <p:grpSpPr>
          <a:xfrm>
            <a:off x="-19080" y="203040"/>
            <a:ext cx="9181080" cy="648000"/>
            <a:chOff x="-19080" y="203040"/>
            <a:chExt cx="9181080" cy="648000"/>
          </a:xfrm>
        </p:grpSpPr>
        <p:grpSp>
          <p:nvGrpSpPr>
            <p:cNvPr id="587" name="Freeform 11"/>
            <p:cNvGrpSpPr/>
            <p:nvPr/>
          </p:nvGrpSpPr>
          <p:grpSpPr>
            <a:xfrm>
              <a:off x="-19080" y="203040"/>
              <a:ext cx="9156600" cy="648000"/>
              <a:chOff x="-19080" y="203040"/>
              <a:chExt cx="9156600" cy="648000"/>
            </a:xfrm>
          </p:grpSpPr>
          <p:pic>
            <p:nvPicPr>
              <p:cNvPr id="588" name="Freeform 11" descr=""/>
              <p:cNvPicPr/>
              <p:nvPr/>
            </p:nvPicPr>
            <p:blipFill>
              <a:blip r:embed="rId2"/>
              <a:stretch/>
            </p:blipFill>
            <p:spPr>
              <a:xfrm>
                <a:off x="3960" y="203040"/>
                <a:ext cx="9133560" cy="648000"/>
              </a:xfrm>
              <a:prstGeom prst="rect">
                <a:avLst/>
              </a:prstGeom>
              <a:ln w="0">
                <a:noFill/>
              </a:ln>
            </p:spPr>
          </p:pic>
          <p:sp>
            <p:nvSpPr>
              <p:cNvPr id="5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Freeform 12"/>
            <p:cNvGrpSpPr/>
            <p:nvPr/>
          </p:nvGrpSpPr>
          <p:grpSpPr>
            <a:xfrm>
              <a:off x="-19080" y="248040"/>
              <a:ext cx="9181080" cy="561600"/>
              <a:chOff x="-19080" y="248040"/>
              <a:chExt cx="9181080" cy="561600"/>
            </a:xfrm>
          </p:grpSpPr>
          <p:pic>
            <p:nvPicPr>
              <p:cNvPr id="591" name="Freeform 12" descr=""/>
              <p:cNvPicPr/>
              <p:nvPr/>
            </p:nvPicPr>
            <p:blipFill>
              <a:blip r:embed="rId3"/>
              <a:stretch/>
            </p:blipFill>
            <p:spPr>
              <a:xfrm>
                <a:off x="-3240" y="248040"/>
                <a:ext cx="9165240" cy="561600"/>
              </a:xfrm>
              <a:prstGeom prst="rect">
                <a:avLst/>
              </a:prstGeom>
              <a:ln w="0">
                <a:noFill/>
              </a:ln>
            </p:spPr>
          </p:pic>
          <p:sp>
            <p:nvSpPr>
              <p:cNvPr id="5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5"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96"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D330-D98D-46E5-AE30-4DF626D4B908}" type="slidenum">
              <a:rPr b="0" lang="en-US"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1"/>
          <p:cNvGrpSpPr/>
          <p:nvPr/>
        </p:nvGrpSpPr>
        <p:grpSpPr>
          <a:xfrm>
            <a:off x="-19080" y="203040"/>
            <a:ext cx="9181080" cy="648000"/>
            <a:chOff x="-19080" y="203040"/>
            <a:chExt cx="9181080" cy="648000"/>
          </a:xfrm>
        </p:grpSpPr>
        <p:grpSp>
          <p:nvGrpSpPr>
            <p:cNvPr id="637" name="Freeform 11"/>
            <p:cNvGrpSpPr/>
            <p:nvPr/>
          </p:nvGrpSpPr>
          <p:grpSpPr>
            <a:xfrm>
              <a:off x="-19080" y="203040"/>
              <a:ext cx="9156600" cy="648000"/>
              <a:chOff x="-19080" y="203040"/>
              <a:chExt cx="9156600" cy="648000"/>
            </a:xfrm>
          </p:grpSpPr>
          <p:pic>
            <p:nvPicPr>
              <p:cNvPr id="638" name="Freeform 11" descr=""/>
              <p:cNvPicPr/>
              <p:nvPr/>
            </p:nvPicPr>
            <p:blipFill>
              <a:blip r:embed="rId2"/>
              <a:stretch/>
            </p:blipFill>
            <p:spPr>
              <a:xfrm>
                <a:off x="3960" y="203040"/>
                <a:ext cx="9133560" cy="648000"/>
              </a:xfrm>
              <a:prstGeom prst="rect">
                <a:avLst/>
              </a:prstGeom>
              <a:ln w="0">
                <a:noFill/>
              </a:ln>
            </p:spPr>
          </p:pic>
          <p:sp>
            <p:nvSpPr>
              <p:cNvPr id="6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Freeform 12"/>
            <p:cNvGrpSpPr/>
            <p:nvPr/>
          </p:nvGrpSpPr>
          <p:grpSpPr>
            <a:xfrm>
              <a:off x="-19080" y="248040"/>
              <a:ext cx="9181080" cy="561600"/>
              <a:chOff x="-19080" y="248040"/>
              <a:chExt cx="9181080" cy="561600"/>
            </a:xfrm>
          </p:grpSpPr>
          <p:pic>
            <p:nvPicPr>
              <p:cNvPr id="641" name="Freeform 12" descr=""/>
              <p:cNvPicPr/>
              <p:nvPr/>
            </p:nvPicPr>
            <p:blipFill>
              <a:blip r:embed="rId3"/>
              <a:stretch/>
            </p:blipFill>
            <p:spPr>
              <a:xfrm>
                <a:off x="-3240" y="248040"/>
                <a:ext cx="9165240" cy="561600"/>
              </a:xfrm>
              <a:prstGeom prst="rect">
                <a:avLst/>
              </a:prstGeom>
              <a:ln w="0">
                <a:noFill/>
              </a:ln>
            </p:spPr>
          </p:pic>
          <p:sp>
            <p:nvSpPr>
              <p:cNvPr id="6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5"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A6FD-7691-41C5-8F2A-FAC90708696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1"/>
          <p:cNvGrpSpPr/>
          <p:nvPr/>
        </p:nvGrpSpPr>
        <p:grpSpPr>
          <a:xfrm>
            <a:off x="-19080" y="203040"/>
            <a:ext cx="9181080" cy="648000"/>
            <a:chOff x="-19080" y="203040"/>
            <a:chExt cx="9181080" cy="648000"/>
          </a:xfrm>
        </p:grpSpPr>
        <p:grpSp>
          <p:nvGrpSpPr>
            <p:cNvPr id="687" name="Freeform 11"/>
            <p:cNvGrpSpPr/>
            <p:nvPr/>
          </p:nvGrpSpPr>
          <p:grpSpPr>
            <a:xfrm>
              <a:off x="-19080" y="203040"/>
              <a:ext cx="9156600" cy="648000"/>
              <a:chOff x="-19080" y="203040"/>
              <a:chExt cx="9156600" cy="648000"/>
            </a:xfrm>
          </p:grpSpPr>
          <p:pic>
            <p:nvPicPr>
              <p:cNvPr id="688" name="Freeform 11" descr=""/>
              <p:cNvPicPr/>
              <p:nvPr/>
            </p:nvPicPr>
            <p:blipFill>
              <a:blip r:embed="rId2"/>
              <a:stretch/>
            </p:blipFill>
            <p:spPr>
              <a:xfrm>
                <a:off x="3960" y="203040"/>
                <a:ext cx="9133560" cy="648000"/>
              </a:xfrm>
              <a:prstGeom prst="rect">
                <a:avLst/>
              </a:prstGeom>
              <a:ln w="0">
                <a:noFill/>
              </a:ln>
            </p:spPr>
          </p:pic>
          <p:sp>
            <p:nvSpPr>
              <p:cNvPr id="6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Freeform 12"/>
            <p:cNvGrpSpPr/>
            <p:nvPr/>
          </p:nvGrpSpPr>
          <p:grpSpPr>
            <a:xfrm>
              <a:off x="-19080" y="248040"/>
              <a:ext cx="9181080" cy="561600"/>
              <a:chOff x="-19080" y="248040"/>
              <a:chExt cx="9181080" cy="561600"/>
            </a:xfrm>
          </p:grpSpPr>
          <p:pic>
            <p:nvPicPr>
              <p:cNvPr id="691" name="Freeform 12" descr=""/>
              <p:cNvPicPr/>
              <p:nvPr/>
            </p:nvPicPr>
            <p:blipFill>
              <a:blip r:embed="rId3"/>
              <a:stretch/>
            </p:blipFill>
            <p:spPr>
              <a:xfrm>
                <a:off x="-3240" y="248040"/>
                <a:ext cx="9165240" cy="561600"/>
              </a:xfrm>
              <a:prstGeom prst="rect">
                <a:avLst/>
              </a:prstGeom>
              <a:ln w="0">
                <a:noFill/>
              </a:ln>
            </p:spPr>
          </p:pic>
          <p:sp>
            <p:nvSpPr>
              <p:cNvPr id="6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5"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642E-1E95-43EB-86B4-15D33783FA98}"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
          <p:cNvGrpSpPr/>
          <p:nvPr/>
        </p:nvGrpSpPr>
        <p:grpSpPr>
          <a:xfrm>
            <a:off x="-19080" y="203040"/>
            <a:ext cx="9181080" cy="648000"/>
            <a:chOff x="-19080" y="203040"/>
            <a:chExt cx="9181080" cy="648000"/>
          </a:xfrm>
        </p:grpSpPr>
        <p:grpSp>
          <p:nvGrpSpPr>
            <p:cNvPr id="737" name="Freeform 11"/>
            <p:cNvGrpSpPr/>
            <p:nvPr/>
          </p:nvGrpSpPr>
          <p:grpSpPr>
            <a:xfrm>
              <a:off x="-19080" y="203040"/>
              <a:ext cx="9156600" cy="648000"/>
              <a:chOff x="-19080" y="203040"/>
              <a:chExt cx="9156600" cy="648000"/>
            </a:xfrm>
          </p:grpSpPr>
          <p:pic>
            <p:nvPicPr>
              <p:cNvPr id="738" name="Freeform 11" descr=""/>
              <p:cNvPicPr/>
              <p:nvPr/>
            </p:nvPicPr>
            <p:blipFill>
              <a:blip r:embed="rId2"/>
              <a:stretch/>
            </p:blipFill>
            <p:spPr>
              <a:xfrm>
                <a:off x="3960" y="203040"/>
                <a:ext cx="9133560" cy="648000"/>
              </a:xfrm>
              <a:prstGeom prst="rect">
                <a:avLst/>
              </a:prstGeom>
              <a:ln w="0">
                <a:noFill/>
              </a:ln>
            </p:spPr>
          </p:pic>
          <p:sp>
            <p:nvSpPr>
              <p:cNvPr id="7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Freeform 12"/>
            <p:cNvGrpSpPr/>
            <p:nvPr/>
          </p:nvGrpSpPr>
          <p:grpSpPr>
            <a:xfrm>
              <a:off x="-19080" y="248040"/>
              <a:ext cx="9181080" cy="561600"/>
              <a:chOff x="-19080" y="248040"/>
              <a:chExt cx="9181080" cy="561600"/>
            </a:xfrm>
          </p:grpSpPr>
          <p:pic>
            <p:nvPicPr>
              <p:cNvPr id="741" name="Freeform 12" descr=""/>
              <p:cNvPicPr/>
              <p:nvPr/>
            </p:nvPicPr>
            <p:blipFill>
              <a:blip r:embed="rId3"/>
              <a:stretch/>
            </p:blipFill>
            <p:spPr>
              <a:xfrm>
                <a:off x="-3240" y="248040"/>
                <a:ext cx="9165240" cy="561600"/>
              </a:xfrm>
              <a:prstGeom prst="rect">
                <a:avLst/>
              </a:prstGeom>
              <a:ln w="0">
                <a:noFill/>
              </a:ln>
            </p:spPr>
          </p:pic>
          <p:sp>
            <p:nvSpPr>
              <p:cNvPr id="7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4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0C5B-8C87-4285-AEA5-EB45536FC5F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Group 1"/>
          <p:cNvGrpSpPr/>
          <p:nvPr/>
        </p:nvGrpSpPr>
        <p:grpSpPr>
          <a:xfrm>
            <a:off x="-19080" y="203040"/>
            <a:ext cx="9181080" cy="648000"/>
            <a:chOff x="-19080" y="203040"/>
            <a:chExt cx="9181080" cy="648000"/>
          </a:xfrm>
        </p:grpSpPr>
        <p:grpSp>
          <p:nvGrpSpPr>
            <p:cNvPr id="787" name="Freeform 11"/>
            <p:cNvGrpSpPr/>
            <p:nvPr/>
          </p:nvGrpSpPr>
          <p:grpSpPr>
            <a:xfrm>
              <a:off x="-19080" y="203040"/>
              <a:ext cx="9156600" cy="648000"/>
              <a:chOff x="-19080" y="203040"/>
              <a:chExt cx="9156600" cy="648000"/>
            </a:xfrm>
          </p:grpSpPr>
          <p:pic>
            <p:nvPicPr>
              <p:cNvPr id="788" name="Freeform 11" descr=""/>
              <p:cNvPicPr/>
              <p:nvPr/>
            </p:nvPicPr>
            <p:blipFill>
              <a:blip r:embed="rId2"/>
              <a:stretch/>
            </p:blipFill>
            <p:spPr>
              <a:xfrm>
                <a:off x="3960" y="203040"/>
                <a:ext cx="9133560" cy="648000"/>
              </a:xfrm>
              <a:prstGeom prst="rect">
                <a:avLst/>
              </a:prstGeom>
              <a:ln w="0">
                <a:noFill/>
              </a:ln>
            </p:spPr>
          </p:pic>
          <p:sp>
            <p:nvSpPr>
              <p:cNvPr id="7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Freeform 12"/>
            <p:cNvGrpSpPr/>
            <p:nvPr/>
          </p:nvGrpSpPr>
          <p:grpSpPr>
            <a:xfrm>
              <a:off x="-19080" y="248040"/>
              <a:ext cx="9181080" cy="561600"/>
              <a:chOff x="-19080" y="248040"/>
              <a:chExt cx="9181080" cy="561600"/>
            </a:xfrm>
          </p:grpSpPr>
          <p:pic>
            <p:nvPicPr>
              <p:cNvPr id="791" name="Freeform 12" descr=""/>
              <p:cNvPicPr/>
              <p:nvPr/>
            </p:nvPicPr>
            <p:blipFill>
              <a:blip r:embed="rId3"/>
              <a:stretch/>
            </p:blipFill>
            <p:spPr>
              <a:xfrm>
                <a:off x="-3240" y="248040"/>
                <a:ext cx="9165240" cy="561600"/>
              </a:xfrm>
              <a:prstGeom prst="rect">
                <a:avLst/>
              </a:prstGeom>
              <a:ln w="0">
                <a:noFill/>
              </a:ln>
            </p:spPr>
          </p:pic>
          <p:sp>
            <p:nvSpPr>
              <p:cNvPr id="7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95"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B7C5-00B5-4797-95EE-0093F496803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1"/>
          <p:cNvGrpSpPr/>
          <p:nvPr/>
        </p:nvGrpSpPr>
        <p:grpSpPr>
          <a:xfrm>
            <a:off x="-19080" y="203040"/>
            <a:ext cx="9181080" cy="648000"/>
            <a:chOff x="-19080" y="203040"/>
            <a:chExt cx="9181080" cy="648000"/>
          </a:xfrm>
        </p:grpSpPr>
        <p:grpSp>
          <p:nvGrpSpPr>
            <p:cNvPr id="837" name="Freeform 11"/>
            <p:cNvGrpSpPr/>
            <p:nvPr/>
          </p:nvGrpSpPr>
          <p:grpSpPr>
            <a:xfrm>
              <a:off x="-19080" y="203040"/>
              <a:ext cx="9156600" cy="648000"/>
              <a:chOff x="-19080" y="203040"/>
              <a:chExt cx="9156600" cy="648000"/>
            </a:xfrm>
          </p:grpSpPr>
          <p:pic>
            <p:nvPicPr>
              <p:cNvPr id="838" name="Freeform 11" descr=""/>
              <p:cNvPicPr/>
              <p:nvPr/>
            </p:nvPicPr>
            <p:blipFill>
              <a:blip r:embed="rId2"/>
              <a:stretch/>
            </p:blipFill>
            <p:spPr>
              <a:xfrm>
                <a:off x="3960" y="203040"/>
                <a:ext cx="9133560" cy="648000"/>
              </a:xfrm>
              <a:prstGeom prst="rect">
                <a:avLst/>
              </a:prstGeom>
              <a:ln w="0">
                <a:noFill/>
              </a:ln>
            </p:spPr>
          </p:pic>
          <p:sp>
            <p:nvSpPr>
              <p:cNvPr id="8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Freeform 12"/>
            <p:cNvGrpSpPr/>
            <p:nvPr/>
          </p:nvGrpSpPr>
          <p:grpSpPr>
            <a:xfrm>
              <a:off x="-19080" y="248040"/>
              <a:ext cx="9181080" cy="561600"/>
              <a:chOff x="-19080" y="248040"/>
              <a:chExt cx="9181080" cy="561600"/>
            </a:xfrm>
          </p:grpSpPr>
          <p:pic>
            <p:nvPicPr>
              <p:cNvPr id="841" name="Freeform 12" descr=""/>
              <p:cNvPicPr/>
              <p:nvPr/>
            </p:nvPicPr>
            <p:blipFill>
              <a:blip r:embed="rId3"/>
              <a:stretch/>
            </p:blipFill>
            <p:spPr>
              <a:xfrm>
                <a:off x="-3240" y="248040"/>
                <a:ext cx="9165240" cy="561600"/>
              </a:xfrm>
              <a:prstGeom prst="rect">
                <a:avLst/>
              </a:prstGeom>
              <a:ln w="0">
                <a:noFill/>
              </a:ln>
            </p:spPr>
          </p:pic>
          <p:sp>
            <p:nvSpPr>
              <p:cNvPr id="8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5"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F928-1586-40C8-BF45-D013BFB9197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B2CD-22B5-46FC-A642-9648FADF484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56600" cy="648000"/>
              <a:chOff x="-19080" y="203040"/>
              <a:chExt cx="9156600" cy="648000"/>
            </a:xfrm>
          </p:grpSpPr>
          <p:pic>
            <p:nvPicPr>
              <p:cNvPr id="56" name="Freeform 11" descr=""/>
              <p:cNvPicPr/>
              <p:nvPr/>
            </p:nvPicPr>
            <p:blipFill>
              <a:blip r:embed="rId2"/>
              <a:stretch/>
            </p:blipFill>
            <p:spPr>
              <a:xfrm>
                <a:off x="3960" y="203040"/>
                <a:ext cx="9133560" cy="648000"/>
              </a:xfrm>
              <a:prstGeom prst="rect">
                <a:avLst/>
              </a:prstGeom>
              <a:ln w="0">
                <a:noFill/>
              </a:ln>
            </p:spPr>
          </p:pic>
          <p:sp>
            <p:nvSpPr>
              <p:cNvPr id="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19080" y="248040"/>
              <a:ext cx="9181080" cy="561600"/>
              <a:chOff x="-19080" y="248040"/>
              <a:chExt cx="9181080" cy="561600"/>
            </a:xfrm>
          </p:grpSpPr>
          <p:pic>
            <p:nvPicPr>
              <p:cNvPr id="59" name="Freeform 12" descr=""/>
              <p:cNvPicPr/>
              <p:nvPr/>
            </p:nvPicPr>
            <p:blipFill>
              <a:blip r:embed="rId3"/>
              <a:stretch/>
            </p:blipFill>
            <p:spPr>
              <a:xfrm>
                <a:off x="-3240" y="248040"/>
                <a:ext cx="9165240" cy="561600"/>
              </a:xfrm>
              <a:prstGeom prst="rect">
                <a:avLst/>
              </a:prstGeom>
              <a:ln w="0">
                <a:noFill/>
              </a:ln>
            </p:spPr>
          </p:pic>
          <p:sp>
            <p:nvSpPr>
              <p:cNvPr id="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
          <p:cNvGrpSpPr/>
          <p:nvPr/>
        </p:nvGrpSpPr>
        <p:grpSpPr>
          <a:xfrm>
            <a:off x="-19080" y="203040"/>
            <a:ext cx="9181080" cy="648000"/>
            <a:chOff x="-19080" y="203040"/>
            <a:chExt cx="9181080" cy="648000"/>
          </a:xfrm>
        </p:grpSpPr>
        <p:grpSp>
          <p:nvGrpSpPr>
            <p:cNvPr id="887" name="Freeform 11"/>
            <p:cNvGrpSpPr/>
            <p:nvPr/>
          </p:nvGrpSpPr>
          <p:grpSpPr>
            <a:xfrm>
              <a:off x="-19080" y="203040"/>
              <a:ext cx="9156600" cy="648000"/>
              <a:chOff x="-19080" y="203040"/>
              <a:chExt cx="9156600" cy="648000"/>
            </a:xfrm>
          </p:grpSpPr>
          <p:pic>
            <p:nvPicPr>
              <p:cNvPr id="888" name="Freeform 11" descr=""/>
              <p:cNvPicPr/>
              <p:nvPr/>
            </p:nvPicPr>
            <p:blipFill>
              <a:blip r:embed="rId2"/>
              <a:stretch/>
            </p:blipFill>
            <p:spPr>
              <a:xfrm>
                <a:off x="3960" y="203040"/>
                <a:ext cx="9133560" cy="648000"/>
              </a:xfrm>
              <a:prstGeom prst="rect">
                <a:avLst/>
              </a:prstGeom>
              <a:ln w="0">
                <a:noFill/>
              </a:ln>
            </p:spPr>
          </p:pic>
          <p:sp>
            <p:nvSpPr>
              <p:cNvPr id="8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Freeform 12"/>
            <p:cNvGrpSpPr/>
            <p:nvPr/>
          </p:nvGrpSpPr>
          <p:grpSpPr>
            <a:xfrm>
              <a:off x="-19080" y="248040"/>
              <a:ext cx="9181080" cy="561600"/>
              <a:chOff x="-19080" y="248040"/>
              <a:chExt cx="9181080" cy="561600"/>
            </a:xfrm>
          </p:grpSpPr>
          <p:pic>
            <p:nvPicPr>
              <p:cNvPr id="891" name="Freeform 12" descr=""/>
              <p:cNvPicPr/>
              <p:nvPr/>
            </p:nvPicPr>
            <p:blipFill>
              <a:blip r:embed="rId3"/>
              <a:stretch/>
            </p:blipFill>
            <p:spPr>
              <a:xfrm>
                <a:off x="-3240" y="248040"/>
                <a:ext cx="9165240" cy="561600"/>
              </a:xfrm>
              <a:prstGeom prst="rect">
                <a:avLst/>
              </a:prstGeom>
              <a:ln w="0">
                <a:noFill/>
              </a:ln>
            </p:spPr>
          </p:pic>
          <p:sp>
            <p:nvSpPr>
              <p:cNvPr id="8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95"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B34A-9150-4496-8EA2-D3262E3BA963}"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
          <p:cNvGrpSpPr/>
          <p:nvPr/>
        </p:nvGrpSpPr>
        <p:grpSpPr>
          <a:xfrm>
            <a:off x="-19080" y="203040"/>
            <a:ext cx="9181080" cy="648000"/>
            <a:chOff x="-19080" y="203040"/>
            <a:chExt cx="9181080" cy="648000"/>
          </a:xfrm>
        </p:grpSpPr>
        <p:grpSp>
          <p:nvGrpSpPr>
            <p:cNvPr id="937" name="Freeform 11"/>
            <p:cNvGrpSpPr/>
            <p:nvPr/>
          </p:nvGrpSpPr>
          <p:grpSpPr>
            <a:xfrm>
              <a:off x="-19080" y="203040"/>
              <a:ext cx="9156600" cy="648000"/>
              <a:chOff x="-19080" y="203040"/>
              <a:chExt cx="9156600" cy="648000"/>
            </a:xfrm>
          </p:grpSpPr>
          <p:pic>
            <p:nvPicPr>
              <p:cNvPr id="938" name="Freeform 11" descr=""/>
              <p:cNvPicPr/>
              <p:nvPr/>
            </p:nvPicPr>
            <p:blipFill>
              <a:blip r:embed="rId2"/>
              <a:stretch/>
            </p:blipFill>
            <p:spPr>
              <a:xfrm>
                <a:off x="3960" y="203040"/>
                <a:ext cx="9133560" cy="648000"/>
              </a:xfrm>
              <a:prstGeom prst="rect">
                <a:avLst/>
              </a:prstGeom>
              <a:ln w="0">
                <a:noFill/>
              </a:ln>
            </p:spPr>
          </p:pic>
          <p:sp>
            <p:nvSpPr>
              <p:cNvPr id="9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Freeform 12"/>
            <p:cNvGrpSpPr/>
            <p:nvPr/>
          </p:nvGrpSpPr>
          <p:grpSpPr>
            <a:xfrm>
              <a:off x="-19080" y="248040"/>
              <a:ext cx="9181080" cy="561600"/>
              <a:chOff x="-19080" y="248040"/>
              <a:chExt cx="9181080" cy="561600"/>
            </a:xfrm>
          </p:grpSpPr>
          <p:pic>
            <p:nvPicPr>
              <p:cNvPr id="941" name="Freeform 12" descr=""/>
              <p:cNvPicPr/>
              <p:nvPr/>
            </p:nvPicPr>
            <p:blipFill>
              <a:blip r:embed="rId3"/>
              <a:stretch/>
            </p:blipFill>
            <p:spPr>
              <a:xfrm>
                <a:off x="-3240" y="248040"/>
                <a:ext cx="9165240" cy="561600"/>
              </a:xfrm>
              <a:prstGeom prst="rect">
                <a:avLst/>
              </a:prstGeom>
              <a:ln w="0">
                <a:noFill/>
              </a:ln>
            </p:spPr>
          </p:pic>
          <p:sp>
            <p:nvSpPr>
              <p:cNvPr id="9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45"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E279-AACF-4EE7-AC3D-7C21AFD08DE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Group 1"/>
          <p:cNvGrpSpPr/>
          <p:nvPr/>
        </p:nvGrpSpPr>
        <p:grpSpPr>
          <a:xfrm>
            <a:off x="-19080" y="203040"/>
            <a:ext cx="9181080" cy="648000"/>
            <a:chOff x="-19080" y="203040"/>
            <a:chExt cx="9181080" cy="648000"/>
          </a:xfrm>
        </p:grpSpPr>
        <p:grpSp>
          <p:nvGrpSpPr>
            <p:cNvPr id="987" name="Freeform 11"/>
            <p:cNvGrpSpPr/>
            <p:nvPr/>
          </p:nvGrpSpPr>
          <p:grpSpPr>
            <a:xfrm>
              <a:off x="-19080" y="203040"/>
              <a:ext cx="9156600" cy="648000"/>
              <a:chOff x="-19080" y="203040"/>
              <a:chExt cx="9156600" cy="648000"/>
            </a:xfrm>
          </p:grpSpPr>
          <p:pic>
            <p:nvPicPr>
              <p:cNvPr id="988" name="Freeform 11" descr=""/>
              <p:cNvPicPr/>
              <p:nvPr/>
            </p:nvPicPr>
            <p:blipFill>
              <a:blip r:embed="rId2"/>
              <a:stretch/>
            </p:blipFill>
            <p:spPr>
              <a:xfrm>
                <a:off x="3960" y="203040"/>
                <a:ext cx="9133560" cy="648000"/>
              </a:xfrm>
              <a:prstGeom prst="rect">
                <a:avLst/>
              </a:prstGeom>
              <a:ln w="0">
                <a:noFill/>
              </a:ln>
            </p:spPr>
          </p:pic>
          <p:sp>
            <p:nvSpPr>
              <p:cNvPr id="9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Freeform 12"/>
            <p:cNvGrpSpPr/>
            <p:nvPr/>
          </p:nvGrpSpPr>
          <p:grpSpPr>
            <a:xfrm>
              <a:off x="-19080" y="248040"/>
              <a:ext cx="9181080" cy="561600"/>
              <a:chOff x="-19080" y="248040"/>
              <a:chExt cx="9181080" cy="561600"/>
            </a:xfrm>
          </p:grpSpPr>
          <p:pic>
            <p:nvPicPr>
              <p:cNvPr id="991" name="Freeform 12" descr=""/>
              <p:cNvPicPr/>
              <p:nvPr/>
            </p:nvPicPr>
            <p:blipFill>
              <a:blip r:embed="rId3"/>
              <a:stretch/>
            </p:blipFill>
            <p:spPr>
              <a:xfrm>
                <a:off x="-3240" y="248040"/>
                <a:ext cx="9165240" cy="561600"/>
              </a:xfrm>
              <a:prstGeom prst="rect">
                <a:avLst/>
              </a:prstGeom>
              <a:ln w="0">
                <a:noFill/>
              </a:ln>
            </p:spPr>
          </p:pic>
          <p:sp>
            <p:nvSpPr>
              <p:cNvPr id="9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9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6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D72-D18B-4C26-880B-DF169D88DE3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3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
          <p:cNvGrpSpPr/>
          <p:nvPr/>
        </p:nvGrpSpPr>
        <p:grpSpPr>
          <a:xfrm>
            <a:off x="-19080" y="203040"/>
            <a:ext cx="9181080" cy="648000"/>
            <a:chOff x="-19080" y="203040"/>
            <a:chExt cx="9181080" cy="648000"/>
          </a:xfrm>
        </p:grpSpPr>
        <p:grpSp>
          <p:nvGrpSpPr>
            <p:cNvPr id="1041" name="Freeform 11"/>
            <p:cNvGrpSpPr/>
            <p:nvPr/>
          </p:nvGrpSpPr>
          <p:grpSpPr>
            <a:xfrm>
              <a:off x="-19080" y="203040"/>
              <a:ext cx="9156600" cy="648000"/>
              <a:chOff x="-19080" y="203040"/>
              <a:chExt cx="9156600" cy="648000"/>
            </a:xfrm>
          </p:grpSpPr>
          <p:pic>
            <p:nvPicPr>
              <p:cNvPr id="1042" name="Freeform 11" descr=""/>
              <p:cNvPicPr/>
              <p:nvPr/>
            </p:nvPicPr>
            <p:blipFill>
              <a:blip r:embed="rId2"/>
              <a:stretch/>
            </p:blipFill>
            <p:spPr>
              <a:xfrm>
                <a:off x="3960" y="203040"/>
                <a:ext cx="9133560" cy="648000"/>
              </a:xfrm>
              <a:prstGeom prst="rect">
                <a:avLst/>
              </a:prstGeom>
              <a:ln w="0">
                <a:noFill/>
              </a:ln>
            </p:spPr>
          </p:pic>
          <p:sp>
            <p:nvSpPr>
              <p:cNvPr id="104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Freeform 12"/>
            <p:cNvGrpSpPr/>
            <p:nvPr/>
          </p:nvGrpSpPr>
          <p:grpSpPr>
            <a:xfrm>
              <a:off x="-19080" y="248040"/>
              <a:ext cx="9181080" cy="561600"/>
              <a:chOff x="-19080" y="248040"/>
              <a:chExt cx="9181080" cy="561600"/>
            </a:xfrm>
          </p:grpSpPr>
          <p:pic>
            <p:nvPicPr>
              <p:cNvPr id="1045" name="Freeform 12" descr=""/>
              <p:cNvPicPr/>
              <p:nvPr/>
            </p:nvPicPr>
            <p:blipFill>
              <a:blip r:embed="rId3"/>
              <a:stretch/>
            </p:blipFill>
            <p:spPr>
              <a:xfrm>
                <a:off x="-3240" y="248040"/>
                <a:ext cx="9165240" cy="561600"/>
              </a:xfrm>
              <a:prstGeom prst="rect">
                <a:avLst/>
              </a:prstGeom>
              <a:ln w="0">
                <a:noFill/>
              </a:ln>
            </p:spPr>
          </p:pic>
          <p:sp>
            <p:nvSpPr>
              <p:cNvPr id="104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7D8D-E7C3-435E-BBE0-3913FDE927E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
          <p:cNvGrpSpPr/>
          <p:nvPr/>
        </p:nvGrpSpPr>
        <p:grpSpPr>
          <a:xfrm>
            <a:off x="-19080" y="203040"/>
            <a:ext cx="9181080" cy="648000"/>
            <a:chOff x="-19080" y="203040"/>
            <a:chExt cx="9181080" cy="648000"/>
          </a:xfrm>
        </p:grpSpPr>
        <p:grpSp>
          <p:nvGrpSpPr>
            <p:cNvPr id="1091" name="Freeform 11"/>
            <p:cNvGrpSpPr/>
            <p:nvPr/>
          </p:nvGrpSpPr>
          <p:grpSpPr>
            <a:xfrm>
              <a:off x="-19080" y="203040"/>
              <a:ext cx="9156600" cy="648000"/>
              <a:chOff x="-19080" y="203040"/>
              <a:chExt cx="9156600" cy="648000"/>
            </a:xfrm>
          </p:grpSpPr>
          <p:pic>
            <p:nvPicPr>
              <p:cNvPr id="1092" name="Freeform 11" descr=""/>
              <p:cNvPicPr/>
              <p:nvPr/>
            </p:nvPicPr>
            <p:blipFill>
              <a:blip r:embed="rId2"/>
              <a:stretch/>
            </p:blipFill>
            <p:spPr>
              <a:xfrm>
                <a:off x="3960" y="203040"/>
                <a:ext cx="9133560" cy="648000"/>
              </a:xfrm>
              <a:prstGeom prst="rect">
                <a:avLst/>
              </a:prstGeom>
              <a:ln w="0">
                <a:noFill/>
              </a:ln>
            </p:spPr>
          </p:pic>
          <p:sp>
            <p:nvSpPr>
              <p:cNvPr id="10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Freeform 12"/>
            <p:cNvGrpSpPr/>
            <p:nvPr/>
          </p:nvGrpSpPr>
          <p:grpSpPr>
            <a:xfrm>
              <a:off x="-19080" y="248040"/>
              <a:ext cx="9181080" cy="561600"/>
              <a:chOff x="-19080" y="248040"/>
              <a:chExt cx="9181080" cy="561600"/>
            </a:xfrm>
          </p:grpSpPr>
          <p:pic>
            <p:nvPicPr>
              <p:cNvPr id="1095" name="Freeform 12" descr=""/>
              <p:cNvPicPr/>
              <p:nvPr/>
            </p:nvPicPr>
            <p:blipFill>
              <a:blip r:embed="rId3"/>
              <a:stretch/>
            </p:blipFill>
            <p:spPr>
              <a:xfrm>
                <a:off x="-3240" y="248040"/>
                <a:ext cx="9165240" cy="561600"/>
              </a:xfrm>
              <a:prstGeom prst="rect">
                <a:avLst/>
              </a:prstGeom>
              <a:ln w="0">
                <a:noFill/>
              </a:ln>
            </p:spPr>
          </p:pic>
          <p:sp>
            <p:nvSpPr>
              <p:cNvPr id="10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9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B5E1-5CFE-4AF8-8856-147D98F16D7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AB69-F854-45FB-9D31-6C7D45FB73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8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8CD5-FB48-48CB-B060-DA7ACB34E4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23"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9B31-BF8B-4D39-B5E5-3E7C562ED3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6232-D2A3-445D-B868-FEEBFE3204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5"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B681-B7A4-4F47-9150-2B8EC26E2F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FBA8-AD7D-4D59-B275-17E299A5CF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6"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2A22-0CA9-4AEF-8642-358EEF9BB0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7"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0F46-84C9-486E-9C15-3F2A7F5BAB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8"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72FD-0844-4F39-9690-60070B0ED1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69"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8E8E-2EA3-4400-B171-94C059A373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10"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931B-433C-4BD5-9849-74F9C9FFF8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51"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1FFC-99BE-4627-AB12-6CB0481E24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9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7B27-5262-458F-A7ED-C23D4B0526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33"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315D-488B-478A-B541-33969645C1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4"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0B86-561B-4DCB-B735-69980D7397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5"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1F5F-86A7-448F-96FF-90E08A63B7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D607-08CD-4FE0-A9A8-AA2F044FE5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56"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9C17-47A6-4E7E-85CB-93010A8202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7"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E18E-CAC5-4C0C-B60D-BFE4CFC945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6A61-C206-43A8-9142-B580600AD4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79"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3C3F-76BA-4F71-8C54-3F9A5995DF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20"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6584-6145-4E21-8BEB-849E8022FF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61"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87F1-D473-4D02-B47B-0EE2CBE630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02"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CCFD-B198-4132-AA8B-B51511BD9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43"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BA1E-7A20-46E7-8EB0-6D25FEEF99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4"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4021-6EAD-41F2-A9FE-0EBB95A073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25"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3805-B361-4C2F-8E85-F5DC7CB0FA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BA66-567F-4C9F-B9DF-D2621A1AD3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6"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716C-A5C8-48BC-A54D-1830EF527C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7"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DF19-3598-4F92-9FB4-F196C139EA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48"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CD94-323E-4EC3-9A5F-D9AB907B65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9"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A297-6C54-4C08-BC53-59F3D0D54C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0"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2200-AE74-4612-992E-52EC85E327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71"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5887-8DF1-42F1-894F-7D89A23BDD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2"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6199-162F-451D-84BF-C5C0E5DE0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53"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4C20-3D3E-454F-9FB6-37F034F9EF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4"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3235-9684-4F86-BFC8-F4C7E13579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35"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1563-3F12-42E4-A3A3-00CB7EFD47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CFC9-10CD-4ED7-B476-8D01270463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7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603D-20BF-44AB-9B12-59AFEBEDED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7"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E071-7560-42F3-A4D4-0C5DFFB14A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8"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2E7E-2211-4FC0-A125-6E90ED8EBD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99"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896F-921B-4961-BB19-4B8D65C7B1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0"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A150-3D13-456D-A7B8-DB4B61FBA2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1"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657-F33D-41E9-AC92-F182022533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22"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E666-5690-4EF8-8A2C-24DD709669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63"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9C6E-3AB2-4652-994E-833506A460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4"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B9CF-AEFE-451D-BE14-2B3434140A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5"/>
          <p:cNvGrpSpPr/>
          <p:nvPr/>
        </p:nvGrpSpPr>
        <p:grpSpPr>
          <a:xfrm>
            <a:off x="-3240" y="4952880"/>
            <a:ext cx="9147240" cy="1911600"/>
            <a:chOff x="-3240" y="4952880"/>
            <a:chExt cx="9147240" cy="1911600"/>
          </a:xfrm>
        </p:grpSpPr>
        <p:sp>
          <p:nvSpPr>
            <p:cNvPr id="263"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Freeform 18"/>
            <p:cNvGrpSpPr/>
            <p:nvPr/>
          </p:nvGrpSpPr>
          <p:grpSpPr>
            <a:xfrm>
              <a:off x="8640" y="4998600"/>
              <a:ext cx="9129240" cy="1865880"/>
              <a:chOff x="8640" y="4998600"/>
              <a:chExt cx="9129240" cy="1865880"/>
            </a:xfrm>
          </p:grpSpPr>
          <p:pic>
            <p:nvPicPr>
              <p:cNvPr id="266" name="Freeform 18" descr=""/>
              <p:cNvPicPr/>
              <p:nvPr/>
            </p:nvPicPr>
            <p:blipFill>
              <a:blip r:embed="rId2"/>
              <a:stretch/>
            </p:blipFill>
            <p:spPr>
              <a:xfrm>
                <a:off x="8640" y="4998600"/>
                <a:ext cx="9129240" cy="1865880"/>
              </a:xfrm>
              <a:prstGeom prst="rect">
                <a:avLst/>
              </a:prstGeom>
              <a:ln w="0">
                <a:noFill/>
              </a:ln>
            </p:spPr>
          </p:pic>
          <p:sp>
            <p:nvSpPr>
              <p:cNvPr id="267"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8" name="Straight Connector 19" descr=""/>
            <p:cNvPicPr/>
            <p:nvPr/>
          </p:nvPicPr>
          <p:blipFill>
            <a:blip r:embed="rId3"/>
            <a:stretch/>
          </p:blipFill>
          <p:spPr>
            <a:xfrm>
              <a:off x="-3240" y="4992480"/>
              <a:ext cx="9147240" cy="804960"/>
            </a:xfrm>
            <a:prstGeom prst="rect">
              <a:avLst/>
            </a:prstGeom>
            <a:ln w="0">
              <a:noFill/>
            </a:ln>
          </p:spPr>
        </p:pic>
      </p:grpSp>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376D-E0E4-4071-BF34-ECE20F4925BA}" type="slidenum">
              <a:rPr b="0" lang="fa-I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Right Triangle 13"/>
          <p:cNvGrpSpPr/>
          <p:nvPr/>
        </p:nvGrpSpPr>
        <p:grpSpPr>
          <a:xfrm>
            <a:off x="-6480" y="5791320"/>
            <a:ext cx="3402000" cy="1079280"/>
            <a:chOff x="-6480" y="5791320"/>
            <a:chExt cx="3402000" cy="1079280"/>
          </a:xfrm>
        </p:grpSpPr>
        <p:pic>
          <p:nvPicPr>
            <p:cNvPr id="313" name="Right Triangle 13" descr=""/>
            <p:cNvPicPr/>
            <p:nvPr/>
          </p:nvPicPr>
          <p:blipFill>
            <a:blip r:embed="rId3"/>
            <a:stretch/>
          </p:blipFill>
          <p:spPr>
            <a:xfrm>
              <a:off x="-6480" y="5791320"/>
              <a:ext cx="3402000" cy="1079280"/>
            </a:xfrm>
            <a:prstGeom prst="rect">
              <a:avLst/>
            </a:prstGeom>
            <a:ln w="0">
              <a:noFill/>
            </a:ln>
          </p:spPr>
        </p:pic>
        <p:sp>
          <p:nvSpPr>
            <p:cNvPr id="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5" name="Straight Connector 14" descr=""/>
          <p:cNvPicPr/>
          <p:nvPr/>
        </p:nvPicPr>
        <p:blipFill>
          <a:blip r:embed="rId4"/>
          <a:stretch/>
        </p:blipFill>
        <p:spPr>
          <a:xfrm>
            <a:off x="-19080" y="5778360"/>
            <a:ext cx="3421080" cy="1098720"/>
          </a:xfrm>
          <a:prstGeom prst="rect">
            <a:avLst/>
          </a:prstGeom>
          <a:ln w="0">
            <a:noFill/>
          </a:ln>
        </p:spPr>
      </p:pic>
      <p:sp>
        <p:nvSpPr>
          <p:cNvPr id="31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0"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21"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CB53-2532-415C-95DC-4FA848F7DDE2}"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7"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8"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337A-B274-4CB8-934A-B207ED87651C}"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6.xml.rels><?xml version="1.0" encoding="UTF-8"?>
<Relationships xmlns="http://schemas.openxmlformats.org/package/2006/relationships"><Relationship Id="rId1" Type="http://schemas.openxmlformats.org/officeDocument/2006/relationships/hyperlink" Target="file:///&#1662;&#1740;&#1608;&#1587;&#1578;1.pdf" TargetMode="External"/><Relationship Id="rId2" Type="http://schemas.openxmlformats.org/officeDocument/2006/relationships/slideLayout" Target="../slideLayouts/slideLayout56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xml.rels><?xml version="1.0" encoding="UTF-8"?>
<Relationships xmlns="http://schemas.openxmlformats.org/package/2006/relationships"><Relationship Id="rId1"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697.xml"/>
</Relationships>
</file>

<file path=ppt/slides/_rels/slide22.xml.rels><?xml version="1.0" encoding="UTF-8"?>
<Relationships xmlns="http://schemas.openxmlformats.org/package/2006/relationships"><Relationship Id="rId1" Type="http://schemas.openxmlformats.org/officeDocument/2006/relationships/hyperlink" Target="http://www.21learn.org/arch/articles/brown_seely.html" TargetMode="External"/><Relationship Id="rId2" Type="http://schemas.openxmlformats.org/officeDocument/2006/relationships/hyperlink" Target="http://www.uwo.ca/" TargetMode="External"/><Relationship Id="rId3" Type="http://schemas.openxmlformats.org/officeDocument/2006/relationships/image" Target="../media/image22.jpeg"/><Relationship Id="rId4" Type="http://schemas.openxmlformats.org/officeDocument/2006/relationships/slideLayout" Target="../slideLayouts/slideLayout697.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22kh1388.ir/wp-content/uploads/2010/08/321.jpg&amp;imgrefurl=http://www.22kh1388.ir/&amp;docid=aD4107f2BBbvDM&amp;tbnid=1wlOyfQYm3_3pM&amp;w=400&amp;h=595&amp;ei=LTSjUayTOqnD4APemYDQDw&amp;ved=0CAkQxiAwBw&amp;iact=ricl" TargetMode="External"/><Relationship Id="rId2" Type="http://schemas.openxmlformats.org/officeDocument/2006/relationships/image" Target="../media/image13.jpeg"/><Relationship Id="rId3"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4" Type="http://schemas.openxmlformats.org/officeDocument/2006/relationships/image" Target="../media/image11.png"/><Relationship Id="rId5"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WordArt 2"/>
          <p:cNvSpPr txBox="1"/>
          <p:nvPr/>
        </p:nvSpPr>
        <p:spPr>
          <a:xfrm>
            <a:off x="1371600" y="1905120"/>
            <a:ext cx="5638680" cy="4572000"/>
          </a:xfrm>
          <a:prstGeom prst="rect">
            <a:avLst/>
          </a:prstGeom>
        </p:spPr>
        <p:txBody>
          <a:bodyPr wrap="none" fromWordArt="1" lIns="90000" rIns="90000" tIns="46800" bIns="46800" anchor="t" anchorCtr="1">
            <a:prstTxWarp prst="textArchUp">
              <a:avLst>
                <a:gd name="adj" fmla="val 10800005"/>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9080">
                  <a:solidFill>
                    <a:srgbClr val="99ccff"/>
                  </a:solidFill>
                  <a:miter/>
                </a:ln>
                <a:solidFill>
                  <a:srgbClr val="ff8119"/>
                </a:solidFill>
                <a:latin typeface="Times New Roman"/>
              </a:rPr>
              <a:t>به نام خداوند عليم </a:t>
            </a: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p:txBody>
      </p:sp>
      <p:pic>
        <p:nvPicPr>
          <p:cNvPr id="2943" name="Picture 3" descr="Copy of ir_flag1"/>
          <p:cNvPicPr/>
          <p:nvPr/>
        </p:nvPicPr>
        <p:blipFill>
          <a:blip r:embed="rId1"/>
          <a:stretch/>
        </p:blipFill>
        <p:spPr>
          <a:xfrm>
            <a:off x="3124080" y="2209680"/>
            <a:ext cx="2316240" cy="1752840"/>
          </a:xfrm>
          <a:prstGeom prst="rect">
            <a:avLst/>
          </a:prstGeom>
          <a:ln w="0">
            <a:noFill/>
          </a:ln>
        </p:spPr>
      </p:pic>
      <p:sp>
        <p:nvSpPr>
          <p:cNvPr id="2944" name="Text Box 4"/>
          <p:cNvSpPr/>
          <p:nvPr/>
        </p:nvSpPr>
        <p:spPr>
          <a:xfrm>
            <a:off x="457200" y="4572000"/>
            <a:ext cx="7696080" cy="592200"/>
          </a:xfrm>
          <a:prstGeom prst="rect">
            <a:avLst/>
          </a:prstGeom>
          <a:noFill/>
          <a:ln w="0">
            <a:noFill/>
          </a:ln>
        </p:spPr>
        <p:style>
          <a:lnRef idx="0"/>
          <a:fillRef idx="0"/>
          <a:effectRef idx="0"/>
          <a:fontRef idx="minor"/>
        </p:style>
        <p:txBody>
          <a:bodyPr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
          <p:cNvSpPr/>
          <p:nvPr/>
        </p:nvSpPr>
        <p:spPr>
          <a:xfrm>
            <a:off x="228600" y="4419720"/>
            <a:ext cx="8686800" cy="9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70c0"/>
                </a:solidFill>
                <a:latin typeface="Times New Roman"/>
                <a:cs typeface="B Titr"/>
              </a:rPr>
              <a:t>فبشر عبادالذين يستمعون القول فيتبعون احسنه اولئك الذين هداهم الله واولئك هم اولوالباب </a:t>
            </a:r>
            <a:r>
              <a:rPr b="1" lang="fa-IR" sz="800" spc="-1" strike="noStrike">
                <a:solidFill>
                  <a:srgbClr val="0070c0"/>
                </a:solidFill>
                <a:latin typeface="Times New Roman"/>
                <a:ea typeface="B Titr"/>
              </a:rPr>
              <a:t>(سوره ي زمر آيه</a:t>
            </a:r>
            <a:r>
              <a:rPr b="1" lang="fa-IR" sz="800" spc="-1" strike="noStrike">
                <a:solidFill>
                  <a:srgbClr val="0070c0"/>
                </a:solidFill>
                <a:latin typeface="Times New Roman"/>
                <a:ea typeface="B Titr"/>
              </a:rPr>
              <a:t>17</a:t>
            </a:r>
            <a:r>
              <a:rPr b="1" lang="fa-IR" sz="800" spc="-1" strike="noStrike">
                <a:solidFill>
                  <a:srgbClr val="0070c0"/>
                </a:solidFill>
                <a:latin typeface="Times New Roman"/>
                <a:ea typeface="B Titr"/>
              </a:rPr>
              <a:t> و</a:t>
            </a:r>
            <a:r>
              <a:rPr b="1" lang="fa-IR" sz="800" spc="-1" strike="noStrike">
                <a:solidFill>
                  <a:srgbClr val="0070c0"/>
                </a:solidFill>
                <a:latin typeface="Times New Roman"/>
                <a:ea typeface="B Titr"/>
              </a:rPr>
              <a:t>18</a:t>
            </a:r>
            <a:r>
              <a:rPr b="1" lang="fa-IR" sz="800" spc="-1" strike="noStrike">
                <a:solidFill>
                  <a:srgbClr val="0070c0"/>
                </a:solidFill>
                <a:latin typeface="Times New Roman"/>
                <a:ea typeface="B Titr"/>
              </a:rPr>
              <a:t>)</a:t>
            </a: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Titr"/>
              </a:rPr>
              <a:t>«پس مژده ده بندگان مرا آنان كه مي شنوند سخن را وپيروي مي كنند از نيكوترين آن ؛ </a:t>
            </a:r>
            <a:endParaRPr b="0" lang="en-US" sz="16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u="sng">
                <a:solidFill>
                  <a:srgbClr val="ff0000"/>
                </a:solidFill>
                <a:uFillTx/>
                <a:latin typeface="Calibri"/>
                <a:cs typeface="B Nazanin"/>
              </a:rPr>
              <a:t>سؤال و فرضیه‌های پژوهشی در دو بخش کیفی و کمی</a:t>
            </a:r>
            <a:br>
              <a:rPr sz="2400"/>
            </a:br>
            <a:endParaRPr b="0" lang="en-US" sz="2800" spc="-1" strike="noStrike">
              <a:solidFill>
                <a:srgbClr val="000000"/>
              </a:solidFill>
              <a:latin typeface="Calibri"/>
            </a:endParaRPr>
          </a:p>
        </p:txBody>
      </p:sp>
      <p:sp>
        <p:nvSpPr>
          <p:cNvPr id="2970" name=""/>
          <p:cNvSpPr txBox="1"/>
          <p:nvPr/>
        </p:nvSpPr>
        <p:spPr>
          <a:xfrm>
            <a:off x="179280" y="1125360"/>
            <a:ext cx="8785440" cy="5616720"/>
          </a:xfrm>
          <a:prstGeom prst="rect">
            <a:avLst/>
          </a:prstGeom>
          <a:noFill/>
          <a:ln w="0">
            <a:noFill/>
          </a:ln>
        </p:spPr>
        <p:txBody>
          <a:bodyPr anchor="t">
            <a:normAutofit fontScale="83000"/>
          </a:bodyPr>
          <a:p>
            <a:pPr algn="just"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سؤال بخش کیف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سؤال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با توجه به اسناد و گزارش‌های کارگروه‌های کارورزی از اولین دورة اجرای برنامة کارورزی دانشگاه فرهنگیان، چه موانعی از کاربست موفق برنامة جدید کارورزی در تربیت معلم فکور جلوگیری می‌کنند؟</a:t>
            </a:r>
            <a:endParaRPr b="0" lang="en-US" sz="1800" spc="-1" strike="noStrike">
              <a:solidFill>
                <a:srgbClr val="000000"/>
              </a:solidFill>
              <a:latin typeface="Calibri"/>
            </a:endParaRPr>
          </a:p>
          <a:p>
            <a:pPr algn="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فرضیه‌های بخش کم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عوامل شناسایی شده (مدیریتی/ ساختاری، مالی، برنامه و رویکردهای نظری، ارزشیابی و نظارت، انسانی و ارتباطی) مانع کاربست موفق برنامة جدید کارورزی در تربیت معلم فکور هست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2</a:t>
            </a:r>
            <a:r>
              <a:rPr b="1" lang="fa-IR" sz="1800" spc="-1" strike="noStrike">
                <a:solidFill>
                  <a:srgbClr val="000000"/>
                </a:solidFill>
                <a:latin typeface="Calibri"/>
                <a:ea typeface="B Nazanin"/>
              </a:rPr>
              <a:t>. عوامل مدیریتی/ ساختا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3</a:t>
            </a:r>
            <a:r>
              <a:rPr b="1" lang="fa-IR" sz="1800" spc="-1" strike="noStrike">
                <a:solidFill>
                  <a:srgbClr val="000000"/>
                </a:solidFill>
                <a:latin typeface="Calibri"/>
                <a:ea typeface="B Nazanin"/>
              </a:rPr>
              <a:t>. عوامل مال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4</a:t>
            </a:r>
            <a:r>
              <a:rPr b="1" lang="fa-IR" sz="1800" spc="-1" strike="noStrike">
                <a:solidFill>
                  <a:srgbClr val="000000"/>
                </a:solidFill>
                <a:latin typeface="Calibri"/>
                <a:ea typeface="B Nazanin"/>
              </a:rPr>
              <a:t>. عوامل برنامه‌ای و رویکردهای نظ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5</a:t>
            </a:r>
            <a:r>
              <a:rPr b="1" lang="fa-IR" sz="1800" spc="-1" strike="noStrike">
                <a:solidFill>
                  <a:srgbClr val="000000"/>
                </a:solidFill>
                <a:latin typeface="Calibri"/>
                <a:ea typeface="B Nazanin"/>
              </a:rPr>
              <a:t>. عوامل نظارتی و ارزشیاب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6</a:t>
            </a:r>
            <a:r>
              <a:rPr b="1" lang="fa-IR" sz="1800" spc="-1" strike="noStrike">
                <a:solidFill>
                  <a:srgbClr val="000000"/>
                </a:solidFill>
                <a:latin typeface="Calibri"/>
                <a:ea typeface="B Nazanin"/>
              </a:rPr>
              <a:t>. عوامل انسانی و ارتباط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7</a:t>
            </a:r>
            <a:r>
              <a:rPr b="1" lang="fa-IR" sz="1800" spc="-1" strike="noStrike">
                <a:solidFill>
                  <a:srgbClr val="000000"/>
                </a:solidFill>
                <a:latin typeface="Calibri"/>
                <a:ea typeface="B Nazanin"/>
              </a:rPr>
              <a:t>. بین نظرات مدرسان دربارة میزان تأثیر هر یک از موانع بر اجرای برنامة کارورزی براساس سابقة تدریس آن‌ها، تفاوت وجود دارد.</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title"/>
          </p:nvPr>
        </p:nvSpPr>
        <p:spPr>
          <a:xfrm>
            <a:off x="1279080" y="115560"/>
            <a:ext cx="52578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Nazanin"/>
              </a:rPr>
              <a:t>ابزارهای گردآوری داده ها</a:t>
            </a:r>
            <a:r>
              <a:rPr b="1" lang="ar-SA" sz="4000" spc="-1" strike="noStrike">
                <a:solidFill>
                  <a:srgbClr val="ff0000"/>
                </a:solidFill>
                <a:latin typeface="Calibri"/>
                <a:ea typeface="B Nazanin"/>
              </a:rPr>
              <a:t>:</a:t>
            </a:r>
            <a:br>
              <a:rPr sz="4000"/>
            </a:br>
            <a:endParaRPr b="0" lang="en-US" sz="4000" spc="-1" strike="noStrike">
              <a:solidFill>
                <a:srgbClr val="000000"/>
              </a:solidFill>
              <a:latin typeface="Calibri"/>
            </a:endParaRPr>
          </a:p>
        </p:txBody>
      </p:sp>
      <p:sp>
        <p:nvSpPr>
          <p:cNvPr id="2972" name=""/>
          <p:cNvSpPr txBox="1"/>
          <p:nvPr/>
        </p:nvSpPr>
        <p:spPr>
          <a:xfrm>
            <a:off x="323640" y="907920"/>
            <a:ext cx="6119640" cy="554544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یادداشتهای میدانی از تجربه های مشترک</a:t>
            </a:r>
            <a:r>
              <a:rPr b="1" lang="fa-IR" sz="2800" spc="-1" strike="noStrike">
                <a:solidFill>
                  <a:srgbClr val="000000"/>
                </a:solidFill>
                <a:latin typeface="Calibri"/>
                <a:ea typeface="B Nazanin"/>
              </a:rPr>
              <a:t> و تجربه زیسته محقق</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دفترچه یادداشت های روزانه</a:t>
            </a:r>
            <a:r>
              <a:rPr b="1" lang="fa-IR" sz="2800" spc="-1" strike="noStrike">
                <a:solidFill>
                  <a:srgbClr val="000000"/>
                </a:solidFill>
                <a:latin typeface="Calibri"/>
                <a:ea typeface="B Nazanin"/>
              </a:rPr>
              <a:t> از روند تدوین برنامه و اجرای آن در پردیس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صاحبه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امه نگاری</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وشت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خودزیست نگارانه و زیست نگار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نتایج گزارش کارگروه های کارورزی پردیس های سراسر کشور از اجرای برنامه کارورزی چهارگ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نابع دیگر دا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روایی </a:t>
            </a:r>
            <a:endParaRPr b="0" lang="en-US" sz="2800" spc="-1" strike="noStrike">
              <a:solidFill>
                <a:srgbClr val="000000"/>
              </a:solidFill>
              <a:latin typeface="Calibri"/>
            </a:endParaRPr>
          </a:p>
          <a:p>
            <a:pPr marL="305280" indent="-305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3"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PlaceHolder 1"/>
          <p:cNvSpPr>
            <a:spLocks noGrp="1"/>
          </p:cNvSpPr>
          <p:nvPr>
            <p:ph type="title"/>
          </p:nvPr>
        </p:nvSpPr>
        <p:spPr>
          <a:xfrm>
            <a:off x="2514240" y="-360"/>
            <a:ext cx="6450120" cy="76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2  Nazanin"/>
              </a:rPr>
              <a:t>روش پژوهش</a:t>
            </a:r>
            <a:endParaRPr b="0" lang="en-US" sz="4400" spc="-1" strike="noStrike">
              <a:solidFill>
                <a:srgbClr val="000000"/>
              </a:solidFill>
              <a:latin typeface="Calibri"/>
            </a:endParaRPr>
          </a:p>
        </p:txBody>
      </p:sp>
      <p:sp>
        <p:nvSpPr>
          <p:cNvPr id="2975" name=""/>
          <p:cNvSpPr txBox="1"/>
          <p:nvPr/>
        </p:nvSpPr>
        <p:spPr>
          <a:xfrm>
            <a:off x="395280" y="764640"/>
            <a:ext cx="8569440" cy="5712120"/>
          </a:xfrm>
          <a:prstGeom prst="rect">
            <a:avLst/>
          </a:prstGeom>
          <a:noFill/>
          <a:ln w="0">
            <a:noFill/>
          </a:ln>
        </p:spPr>
        <p:txBody>
          <a:bodyPr anchor="t">
            <a:normAutofit fontScale="87000"/>
          </a:bodyPr>
          <a:p>
            <a:pPr algn="just" rtl="1">
              <a:lnSpc>
                <a:spcPct val="87000"/>
              </a:lnSpc>
              <a:spcBef>
                <a:spcPts val="751"/>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cs typeface="B Nazanin"/>
              </a:rPr>
              <a:t>از آنجا که پژوهش حاضر در صدد به دست آوردن شناختی همه‌جانبه از موانع اجرای موفق برنامة جدید کارورزی بود، بنابراین سعی شد از داده‌های کیفی و کمّی برای نیل به هدف یادشده استفاده شود. بنابراین، در این پژوهش از رویکرد ترکیبی، ابتدا کیفی و سپس کمّی بهره‌گیری شد.. نوع پژوهش از لحاظ هدف کاربردی بود. و از روش‌های پژوهش تحلیل محتوا و توصیفی- پیمایشی استفاده شد.. این پژوهش با جمع‌آوری و تحلیل داده‌های کیفی شروع شد و سپس داده‌های کمّی جمع‌آوری و تجزیه و تحلیل شدند. مرحلة کمّی بر مبنای مرحلة اول یا متصل به مرحله کیفی طراحی شد. بدین ترتیب که در بخش کیفی موانع پیاده‌سازی موفق برنامة جدید کارورزی در نظام تربیت معلم ایران، با توجه به اسناد شناسایی و استخراج شد و در بخش کمّی با روش پیمایشی دیدگاه اعضای هیئت علمی دربارة این موانع بررسی شد.</a:t>
            </a:r>
            <a:endParaRPr b="0" lang="en-US" sz="3000" spc="-1" strike="noStrike">
              <a:solidFill>
                <a:srgbClr val="000000"/>
              </a:solidFill>
              <a:latin typeface="Calibri"/>
            </a:endParaRPr>
          </a:p>
          <a:p>
            <a:pPr algn="r" rtl="1">
              <a:lnSpc>
                <a:spcPct val="80000"/>
              </a:lnSpc>
              <a:spcBef>
                <a:spcPts val="649"/>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2600" spc="-1" strike="noStrike">
                <a:solidFill>
                  <a:srgbClr val="000000"/>
                </a:solidFill>
                <a:latin typeface="Calibri"/>
                <a:ea typeface="B Nazanin"/>
              </a:rPr>
              <a:t>- تحلیل محتوا تکنیکی برای استخراج داده‌ها از متن است.</a:t>
            </a:r>
            <a:endParaRPr b="0" lang="en-US" sz="2600" spc="-1" strike="noStrike">
              <a:solidFill>
                <a:srgbClr val="000000"/>
              </a:solidFill>
              <a:latin typeface="Calibri"/>
            </a:endParaRPr>
          </a:p>
          <a:p>
            <a:pPr algn="just">
              <a:lnSpc>
                <a:spcPct val="95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t>
            </a:r>
            <a:r>
              <a:rPr b="0" lang="en-US" sz="2200" spc="-1" strike="noStrike">
                <a:solidFill>
                  <a:srgbClr val="000000"/>
                </a:solidFill>
                <a:latin typeface="Times New Roman"/>
                <a:ea typeface="B Nazanin"/>
              </a:rPr>
              <a:t> Descriptive survey</a:t>
            </a:r>
            <a:endParaRPr b="0" lang="en-US" sz="2200" spc="-1" strike="noStrike">
              <a:solidFill>
                <a:srgbClr val="000000"/>
              </a:solidFill>
              <a:latin typeface="Calibri"/>
            </a:endParaRPr>
          </a:p>
          <a:p>
            <a:pPr algn="r" rtl="1">
              <a:lnSpc>
                <a:spcPct val="80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title"/>
          </p:nvPr>
        </p:nvSpPr>
        <p:spPr>
          <a:xfrm>
            <a:off x="179280" y="1066680"/>
            <a:ext cx="8785440" cy="5602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جامعة مورد مطالعة پژوهش در بخش کیفی شامل گزارش‌های کارگروه کارورزی پردیس‌های سراسر کشور دانشگاه فرهنگیان از اولین دورة اجرای برنامة جدید کارورزی بود. </a:t>
            </a:r>
            <a:r>
              <a:rPr b="1" lang="fa-IR" sz="2800" spc="-1" strike="noStrike">
                <a:solidFill>
                  <a:srgbClr val="ff0000"/>
                </a:solidFill>
                <a:latin typeface="Calibri"/>
                <a:ea typeface="B Nazanin"/>
              </a:rPr>
              <a:t>27</a:t>
            </a:r>
            <a:r>
              <a:rPr b="1" lang="fa-IR" sz="2800" spc="-1" strike="noStrike">
                <a:solidFill>
                  <a:srgbClr val="ff0000"/>
                </a:solidFill>
                <a:latin typeface="Calibri"/>
                <a:ea typeface="B Nazanin"/>
              </a:rPr>
              <a:t> گزارش از پردیس‌های سراسر کشور دانشگاه فرهنگیان </a:t>
            </a:r>
            <a:r>
              <a:rPr b="0" lang="fa-IR" sz="2800" spc="-1" strike="noStrike">
                <a:solidFill>
                  <a:srgbClr val="000000"/>
                </a:solidFill>
                <a:latin typeface="Calibri"/>
                <a:cs typeface="B Nazanin"/>
              </a:rPr>
              <a:t>دربارة </a:t>
            </a:r>
            <a:r>
              <a:rPr b="0" lang="fa-IR" sz="2800" spc="-1" strike="noStrike">
                <a:solidFill>
                  <a:srgbClr val="ff0000"/>
                </a:solidFill>
                <a:latin typeface="Calibri"/>
                <a:cs typeface="B Nazanin"/>
              </a:rPr>
              <a:t>موانع پیاده‌سازی موفق اولین دورة اجرای برنامة جدید کارورزی </a:t>
            </a:r>
            <a:r>
              <a:rPr b="0" lang="fa-IR" sz="2800" spc="-1" strike="noStrike">
                <a:solidFill>
                  <a:srgbClr val="000000"/>
                </a:solidFill>
                <a:latin typeface="Calibri"/>
                <a:cs typeface="B Nazanin"/>
              </a:rPr>
              <a:t>به عنوان نمونة هدفمند و در دسترس برای مطالعه انتخاب شدند. جامعة آماری پژوهش در بخش کمّی شامل همة اعضای هیئت علمیِ مدرس کارورزی دانشگاه فرهنگیان کشور، به تعداد </a:t>
            </a:r>
            <a:r>
              <a:rPr b="0" lang="fa-IR" sz="2800" spc="-1" strike="noStrike">
                <a:solidFill>
                  <a:srgbClr val="000000"/>
                </a:solidFill>
                <a:latin typeface="Calibri"/>
                <a:ea typeface="B Nazanin"/>
              </a:rPr>
              <a:t>2057</a:t>
            </a:r>
            <a:r>
              <a:rPr b="0" lang="fa-IR" sz="2800" spc="-1" strike="noStrike">
                <a:solidFill>
                  <a:srgbClr val="000000"/>
                </a:solidFill>
                <a:latin typeface="Calibri"/>
                <a:ea typeface="B Nazanin"/>
              </a:rPr>
              <a:t> نفر بود. جامعة نمونه تحقیق شامل </a:t>
            </a:r>
            <a:r>
              <a:rPr b="0" lang="fa-IR" sz="2800" spc="-1" strike="noStrike">
                <a:solidFill>
                  <a:srgbClr val="000000"/>
                </a:solidFill>
                <a:latin typeface="Calibri"/>
                <a:ea typeface="B Nazanin"/>
              </a:rPr>
              <a:t>326</a:t>
            </a:r>
            <a:r>
              <a:rPr b="0" lang="fa-IR" sz="2800" spc="-1" strike="noStrike">
                <a:solidFill>
                  <a:srgbClr val="000000"/>
                </a:solidFill>
                <a:latin typeface="Calibri"/>
                <a:ea typeface="B Nazanin"/>
              </a:rPr>
              <a:t> نفر بود که با توجه به جدول مورگان براورد شد. در بخش کمّی از روش نمونه‌گیری خوشه‌ای چندمرحله‌ای استفاده شد. بدین ترتیب که ابتدا از استان‌های منتخب کشور (بر مبنای پنج استان که دارای بیشترین و کمترین میزان دانشجو معلم هستند) پردیس‌های مجری کارورزی مشخص شدند و در ادامه از پردیس‌های منتخب به طور تصادفی، استادان و مدرسان راهنمای تربیتی و تخصصی کارورزی انتخاب شدند.</a:t>
            </a:r>
            <a:endParaRPr b="0" lang="en-US" sz="2800" spc="-1" strike="noStrike">
              <a:solidFill>
                <a:srgbClr val="000000"/>
              </a:solidFill>
              <a:latin typeface="Calibri"/>
            </a:endParaRPr>
          </a:p>
        </p:txBody>
      </p:sp>
      <p:pic>
        <p:nvPicPr>
          <p:cNvPr id="2977"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title"/>
          </p:nvPr>
        </p:nvSpPr>
        <p:spPr>
          <a:xfrm>
            <a:off x="2505240" y="188640"/>
            <a:ext cx="6448320" cy="76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rPr>
              <a:t>ابزارها</a:t>
            </a:r>
            <a:endParaRPr b="0" lang="en-US" sz="4400" spc="-1" strike="noStrike">
              <a:solidFill>
                <a:srgbClr val="000000"/>
              </a:solidFill>
              <a:latin typeface="Calibri"/>
            </a:endParaRPr>
          </a:p>
        </p:txBody>
      </p:sp>
      <p:sp>
        <p:nvSpPr>
          <p:cNvPr id="2979" name=""/>
          <p:cNvSpPr txBox="1"/>
          <p:nvPr/>
        </p:nvSpPr>
        <p:spPr>
          <a:xfrm>
            <a:off x="395280" y="1052640"/>
            <a:ext cx="8569440" cy="5424480"/>
          </a:xfrm>
          <a:prstGeom prst="rect">
            <a:avLst/>
          </a:prstGeom>
          <a:noFill/>
          <a:ln w="0">
            <a:noFill/>
          </a:ln>
        </p:spPr>
        <p:txBody>
          <a:bodyPr anchor="t">
            <a:normAutofit fontScale="85000"/>
          </a:bodyPr>
          <a:p>
            <a:pPr algn="just"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بزار جمع‌آوری داده‌های بخش کیفی برگه‌های فیش برداری، فهرست­های وارسی (چک لیست‌ها) و فرم‌های محقق‌ساخته بودند. ابزار بخش کمی، پرسش­نامة محقق‌ساخته بود که بر اساس یافته‌ها و موانع شناسایی شده بخش کیفی از گزارش‌های کارگروه‌های کارورزی تهیه شد. روایی آن توسط خبرگان دانشگاهی تأیید شد و پایایی آن با استفاده از ضریب آلفای کرونباخ برابر با </a:t>
            </a:r>
            <a:r>
              <a:rPr b="0" lang="fa-IR" sz="2400" spc="-1" strike="noStrike">
                <a:solidFill>
                  <a:srgbClr val="000000"/>
                </a:solidFill>
                <a:latin typeface="Calibri"/>
                <a:ea typeface="B Nazanin"/>
              </a:rPr>
              <a:t>93/0</a:t>
            </a:r>
            <a:r>
              <a:rPr b="0" lang="fa-IR" sz="2400" spc="-1" strike="noStrike">
                <a:solidFill>
                  <a:srgbClr val="000000"/>
                </a:solidFill>
                <a:latin typeface="Calibri"/>
                <a:ea typeface="B Nazanin"/>
              </a:rPr>
              <a:t> به دست آمد.</a:t>
            </a:r>
            <a:endParaRPr b="0" lang="en-US" sz="24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به‌منظور تجزیه‌وتحلیل داده‌های بخش کیفی و برای پاسخ به سؤال اول پژوهش، از تکنیک تحلیل محتوا استفاده شد. تحلیل محتوای اسناد و گزارش‌های بخش کیفی با استفاده از روش گال، مردیت؛ بورگ، والتر و گال، جویس (</a:t>
            </a:r>
            <a:r>
              <a:rPr b="0" lang="fa-IR" sz="2400" spc="-1" strike="noStrike">
                <a:solidFill>
                  <a:srgbClr val="000000"/>
                </a:solidFill>
                <a:latin typeface="Calibri"/>
                <a:ea typeface="B Nazanin"/>
              </a:rPr>
              <a:t>1994</a:t>
            </a:r>
            <a:r>
              <a:rPr b="0" lang="fa-IR" sz="2400" spc="-1" strike="noStrike">
                <a:solidFill>
                  <a:srgbClr val="000000"/>
                </a:solidFill>
                <a:latin typeface="Calibri"/>
                <a:ea typeface="B Nazanin"/>
              </a:rPr>
              <a:t>) در پنج مرحله انجام شد. در مرحلة اول گزارش‌های یادشده مورد مطالعه قرار گرفتند و تمام گزاره‌های مربوط به موانع پیاده‌سازی موفق برنامة کارورزی استخراج شدند. در مرحلة دوم روش مقوله‌بندی مناسب انتخاب شد. در مرحلة سوم هر یک از گزاره‌های جمع‌آوری‌شده برای قرار گرفتن در هر یک از مقوله‌ها، نشانه‌گذاری شدند. در مرحلة چهارم مقوله‌بندی با روش کدگذاری باز و کدگذاری محوری انجام شد و تفسیر و ارزشیابی یافته‌ها در مرحلة پنجم صورت گرفت. برای توصیف متغیرهای جمعیت شناختی و پاسخ به سؤال بخش کمّی، از روش‌های آمار توصیفی، از جمله جداول توزیع فراوانی و درصد، شاخص‌های میانگین و انحراف معیار بهره‌گیری شد. برای آزمون فرضیه‌های بخش کمی نیز از آزمون‌های آمار استنباطی، شامل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تک نمونه‌ای و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مستقل استفاده شد</a:t>
            </a:r>
            <a:r>
              <a:rPr b="0" lang="en-US" sz="2400" spc="-1" strike="noStrike">
                <a:solidFill>
                  <a:srgbClr val="000000"/>
                </a:solidFill>
                <a:latin typeface="Calibri"/>
                <a:ea typeface="B Nazanin"/>
              </a:rPr>
              <a:t>.</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1"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250560" y="259920"/>
            <a:ext cx="8713800" cy="6216840"/>
          </a:xfrm>
          <a:prstGeom prst="rect">
            <a:avLst/>
          </a:prstGeom>
          <a:noFill/>
          <a:ln w="0">
            <a:noFill/>
          </a:ln>
        </p:spPr>
        <p:txBody>
          <a:bodyPr anchor="t">
            <a:normAutofit fontScale="83000"/>
          </a:bodyPr>
          <a:p>
            <a:pPr marL="284400" indent="-284400"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Nazanin"/>
              </a:rPr>
              <a:t>بررسی و جمع بندی نقد و نظر های استادان کارورزی مسایل و پیشهادهای ارایه شده از سوی مدرسان و استادان در مورد ارزیابی ،در این مجموعه کلی برنامه ، محتوا و سایر عوامل دخیل در اجرای </a:t>
            </a:r>
            <a:r>
              <a:rPr b="0" lang="fa-IR" sz="4400" spc="-1" strike="noStrike">
                <a:solidFill>
                  <a:srgbClr val="ff0000"/>
                </a:solidFill>
                <a:latin typeface="Calibri"/>
                <a:cs typeface="B Nazanin"/>
              </a:rPr>
              <a:t>کارورزی فکورانه که از پردیس های دانشگاه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فرهنگیان در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بر رسی ، جمع بندی و در  ،   استان کشور واصل شده </a:t>
            </a:r>
            <a:r>
              <a:rPr b="0" lang="fa-IR" sz="4400" spc="-1" strike="noStrike">
                <a:solidFill>
                  <a:srgbClr val="00b050"/>
                </a:solidFill>
                <a:latin typeface="Calibri"/>
                <a:cs typeface="B Nazanin"/>
              </a:rPr>
              <a:t>است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محور کلان و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خرد خلاصه </a:t>
            </a:r>
            <a:r>
              <a:rPr b="0" lang="fa-IR" sz="4400" spc="-1" strike="noStrike">
                <a:solidFill>
                  <a:srgbClr val="ff0000"/>
                </a:solidFill>
                <a:latin typeface="Calibri"/>
                <a:cs typeface="B Nazanin"/>
              </a:rPr>
              <a:t>و ارایه </a:t>
            </a:r>
            <a:r>
              <a:rPr b="0" lang="fa-IR" sz="4400" spc="-1" strike="noStrike">
                <a:solidFill>
                  <a:srgbClr val="000000"/>
                </a:solidFill>
                <a:latin typeface="Calibri"/>
                <a:cs typeface="B Nazanin"/>
              </a:rPr>
              <a:t>می گردد.</a:t>
            </a:r>
            <a:endParaRPr b="0" lang="en-US" sz="4400" spc="-1" strike="noStrike">
              <a:solidFill>
                <a:srgbClr val="000000"/>
              </a:solidFill>
              <a:latin typeface="Calibri"/>
            </a:endParaRPr>
          </a:p>
          <a:p>
            <a:pPr marL="284400" indent="-2844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0000ff"/>
                </a:solidFill>
                <a:uFillTx/>
                <a:latin typeface="Calibri"/>
                <a:cs typeface="B Nazanin"/>
                <a:hlinkClick r:id="rId1"/>
              </a:rPr>
              <a:t>استناد به گزارش کارگروه ه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4"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5" name="Group 2"/>
          <p:cNvGrpSpPr/>
          <p:nvPr/>
        </p:nvGrpSpPr>
        <p:grpSpPr>
          <a:xfrm>
            <a:off x="2895480" y="838080"/>
            <a:ext cx="3047760" cy="5867280"/>
            <a:chOff x="2895480" y="838080"/>
            <a:chExt cx="3047760" cy="5867280"/>
          </a:xfrm>
        </p:grpSpPr>
        <p:sp>
          <p:nvSpPr>
            <p:cNvPr id="2986"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a:t>
              </a:r>
              <a:endParaRPr b="0" lang="en-US" sz="1600" spc="-1" strike="noStrike">
                <a:solidFill>
                  <a:srgbClr val="000000"/>
                </a:solidFill>
                <a:latin typeface="Arial"/>
              </a:endParaRPr>
            </a:p>
          </p:txBody>
        </p:sp>
        <p:sp>
          <p:nvSpPr>
            <p:cNvPr id="2987"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88"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Arial"/>
              </a:endParaRPr>
            </a:p>
          </p:txBody>
        </p:sp>
        <p:sp>
          <p:nvSpPr>
            <p:cNvPr id="2989"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Arial"/>
              </a:endParaRPr>
            </a:p>
          </p:txBody>
        </p:sp>
        <p:sp>
          <p:nvSpPr>
            <p:cNvPr id="2990"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Arial"/>
              </a:endParaRPr>
            </a:p>
          </p:txBody>
        </p:sp>
        <p:sp>
          <p:nvSpPr>
            <p:cNvPr id="2991"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2"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Arial"/>
              </a:endParaRPr>
            </a:p>
          </p:txBody>
        </p:sp>
        <p:sp>
          <p:nvSpPr>
            <p:cNvPr id="2993"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Arial"/>
              </a:endParaRPr>
            </a:p>
          </p:txBody>
        </p:sp>
      </p:grpSp>
      <p:sp>
        <p:nvSpPr>
          <p:cNvPr id="2995"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6" name="Rectangle 3"/>
          <p:cNvGrpSpPr/>
          <p:nvPr/>
        </p:nvGrpSpPr>
        <p:grpSpPr>
          <a:xfrm>
            <a:off x="-60480" y="1060560"/>
            <a:ext cx="9198000" cy="5816520"/>
            <a:chOff x="-60480" y="1060560"/>
            <a:chExt cx="9198000" cy="5816520"/>
          </a:xfrm>
        </p:grpSpPr>
        <p:pic>
          <p:nvPicPr>
            <p:cNvPr id="2997" name="Rectangle 3" descr=""/>
            <p:cNvPicPr/>
            <p:nvPr/>
          </p:nvPicPr>
          <p:blipFill>
            <a:blip r:embed="rId1"/>
            <a:stretch/>
          </p:blipFill>
          <p:spPr>
            <a:xfrm>
              <a:off x="-60480" y="1060560"/>
              <a:ext cx="9198000" cy="5816520"/>
            </a:xfrm>
            <a:prstGeom prst="rect">
              <a:avLst/>
            </a:prstGeom>
            <a:ln w="0">
              <a:noFill/>
            </a:ln>
          </p:spPr>
        </p:pic>
        <p:sp>
          <p:nvSpPr>
            <p:cNvPr id="2998" name=""/>
            <p:cNvSpPr/>
            <p:nvPr/>
          </p:nvSpPr>
          <p:spPr>
            <a:xfrm>
              <a:off x="173160" y="1197000"/>
              <a:ext cx="878508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 مجموع یافته‌های پژوهش نتیجه گرفته شد که، پیاده‌سازی موفق برنامة جدید کارورزی دانشگاه فرهنگیان کشورمان با موانعی روبه‌روست که مهم‌ترین آن‌ها عبارت‌اند از: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موانع مرتبط با تعامل ضعیف مجموعة مدیریتی و ساختاری دانشگاه فرهنگیان با ادارات کل آموزش و پرورش استان‌ها و مدیران مدرسه­ه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تخصیص نیافتن منابع مالی مناسب و کاف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ضعف در طراحی، اجرا و ارزشیابی برنامة جدید کارورز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شفاف نبودن سطح وظیفه­های استادن راهنمای تربیتی و تخصصی، معلمان راهنما و عوامل اجرایی مدرسه­ها؛</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ناآگاهی بخشی و اجرای آموزش ضمن خدمت معلمان راهنم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Nazanin"/>
                </a:rPr>
                <a:t>  براساس یافته‌های این پژوهش می‌توان نتیجه گرفت که تمامی موانع پنج­گانة یاد شده در جلوگیری از کاربست موفق برنامة جدید کارورزی در تربیت معلم فکور تأثیرگذار هستند. نتایج پژوهش حاضر می‌تواند دریچه‌های جدیدی برای توجه بنیادی‌تر به موضوع کارورزی دانشجو معلمان باز کند. برنامه‌ریزان و مسئولان وزارت آموزش و پرورش و دانشگاه فرهنگیان می‌توانند این یافته‌ها را در ایجاد تغییرات مطلوب در برنامة جدیدکارورزی مد نظر قرار دهند و در فرایند بازنگری برنامة جدید کارورزی نسبت به تعدیل و رفع موانع شناسایی شده اقدام کنند. برای نیل به چنین هدفی براساس نتایج به دست آمده از پژوهش، پیشنهادهای زیر ارائه می‌شوند:</a:t>
              </a:r>
              <a:endParaRPr b="0" lang="en-US" sz="1800" spc="-1" strike="noStrike">
                <a:solidFill>
                  <a:srgbClr val="000000"/>
                </a:solidFill>
                <a:latin typeface="Arial"/>
              </a:endParaRPr>
            </a:p>
          </p:txBody>
        </p:sp>
      </p:grpSp>
      <p:pic>
        <p:nvPicPr>
          <p:cNvPr id="2999" name="Content Placeholder 3" descr="Image-1002.jpg"/>
          <p:cNvPicPr/>
          <p:nvPr/>
        </p:nvPicPr>
        <p:blipFill>
          <a:blip r:embed="rId2"/>
          <a:stretch/>
        </p:blipFill>
        <p:spPr>
          <a:xfrm>
            <a:off x="-12600" y="-12600"/>
            <a:ext cx="9156600" cy="1079280"/>
          </a:xfrm>
          <a:prstGeom prst="rect">
            <a:avLst/>
          </a:prstGeom>
          <a:ln w="0">
            <a:noFill/>
          </a:ln>
        </p:spPr>
      </p:pic>
      <p:sp>
        <p:nvSpPr>
          <p:cNvPr id="3000" name="Rectangle 1"/>
          <p:cNvSpPr/>
          <p:nvPr/>
        </p:nvSpPr>
        <p:spPr>
          <a:xfrm>
            <a:off x="6845760" y="173160"/>
            <a:ext cx="214380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پیشنهاد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بیان حضرت امام خميني (ره)   </a:t>
            </a:r>
            <a:endParaRPr b="0" lang="en-US" sz="3600" spc="-1" strike="noStrike">
              <a:solidFill>
                <a:srgbClr val="000000"/>
              </a:solidFill>
              <a:latin typeface="Arial"/>
            </a:endParaRPr>
          </a:p>
        </p:txBody>
      </p:sp>
      <p:pic>
        <p:nvPicPr>
          <p:cNvPr id="2947" name="Picture 6" descr="http://uploadpa.com/beta/12/nxv0icep46awvmgvb1n6.gif">
            <a:hlinkClick r:id="rId1"/>
          </p:cNvPr>
          <p:cNvPicPr/>
          <p:nvPr/>
        </p:nvPicPr>
        <p:blipFill>
          <a:blip r:embed="rId2"/>
          <a:stretch/>
        </p:blipFill>
        <p:spPr>
          <a:xfrm>
            <a:off x="152280" y="76320"/>
            <a:ext cx="1600200" cy="990360"/>
          </a:xfrm>
          <a:prstGeom prst="rect">
            <a:avLst/>
          </a:prstGeom>
          <a:ln w="0">
            <a:noFill/>
          </a:ln>
        </p:spPr>
      </p:pic>
      <p:sp>
        <p:nvSpPr>
          <p:cNvPr id="2948" name="Rectangle 5"/>
          <p:cNvSpPr/>
          <p:nvPr/>
        </p:nvSpPr>
        <p:spPr>
          <a:xfrm>
            <a:off x="380880" y="2666880"/>
            <a:ext cx="822960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Davat"/>
              </a:rPr>
              <a:t>به مناسبت بازگشايي مراكز تربيت معلم: «شما عزيزان كه دامن به كمر زده و در راه تربيت معلم قدم بر مي داريد از عمق ارزش كار خود آگاه باشيد و در راه اين هدف مقدس از هيچ كوششي دريغ نورزيد.»</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49" name="Picture 2" descr="C:\Users\afzali1.MPA\Pictures\untitled.png"/>
          <p:cNvPicPr/>
          <p:nvPr/>
        </p:nvPicPr>
        <p:blipFill>
          <a:blip r:embed="rId3"/>
          <a:stretch/>
        </p:blipFill>
        <p:spPr>
          <a:xfrm>
            <a:off x="6781680" y="533520"/>
            <a:ext cx="1524240" cy="1998720"/>
          </a:xfrm>
          <a:prstGeom prst="rect">
            <a:avLst/>
          </a:prstGeom>
          <a:ln w="0">
            <a:noFill/>
          </a:ln>
        </p:spPr>
      </p:pic>
      <p:sp>
        <p:nvSpPr>
          <p:cNvPr id="2950" name="Rectangle 7"/>
          <p:cNvSpPr/>
          <p:nvPr/>
        </p:nvSpPr>
        <p:spPr>
          <a:xfrm>
            <a:off x="7642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Davat"/>
              </a:rPr>
              <a:t>1360/10/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1" name="Rectangle 3"/>
          <p:cNvGrpSpPr/>
          <p:nvPr/>
        </p:nvGrpSpPr>
        <p:grpSpPr>
          <a:xfrm>
            <a:off x="-36360" y="957240"/>
            <a:ext cx="9156600" cy="5742000"/>
            <a:chOff x="-36360" y="957240"/>
            <a:chExt cx="9156600" cy="5742000"/>
          </a:xfrm>
        </p:grpSpPr>
        <p:pic>
          <p:nvPicPr>
            <p:cNvPr id="3002" name="Rectangle 3" descr=""/>
            <p:cNvPicPr/>
            <p:nvPr/>
          </p:nvPicPr>
          <p:blipFill>
            <a:blip r:embed="rId1"/>
            <a:stretch/>
          </p:blipFill>
          <p:spPr>
            <a:xfrm>
              <a:off x="-36360" y="957240"/>
              <a:ext cx="9156600" cy="5742000"/>
            </a:xfrm>
            <a:prstGeom prst="rect">
              <a:avLst/>
            </a:prstGeom>
            <a:ln w="0">
              <a:noFill/>
            </a:ln>
          </p:spPr>
        </p:pic>
        <p:sp>
          <p:nvSpPr>
            <p:cNvPr id="3003" name=""/>
            <p:cNvSpPr/>
            <p:nvPr/>
          </p:nvSpPr>
          <p:spPr>
            <a:xfrm>
              <a:off x="173160" y="1093680"/>
              <a:ext cx="878508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در ساختار سازمانی اجرای طرح کارورزی و طراحی سازوکار مؤثر برای هماهنگی‌ها و تعامل لازم بین مناطق آموزش و پرورش، مدرسه­ها و پردیس‌های دانشگاه فرهنگیان در سراسر کشور.</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شویق مدیران ستادی به‌منظور حمایت از برنامة جدید کارورزی و پیگیری برای اجرا و ارزشیابی مناسب برنامه.</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رنامه‌ریزی و طراحی نظام تخصیص منابع مالی کافی برای اجرای برنامة جدید کارورزی در بازنگری، اجرا، و نظارت و ارزشیاب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هیه و تصویب منابع و سرفصل درسی متناسب با درس کارورزی در رشته‌های علوم تربیتی و سایر رشته‌های کارشناسی پیوسته، به‌ویژه در برنامة درسی کارورزی </a:t>
              </a:r>
              <a:r>
                <a:rPr b="0" lang="fa-IR" sz="1600" spc="-1" strike="noStrike">
                  <a:solidFill>
                    <a:srgbClr val="000000"/>
                  </a:solidFill>
                  <a:latin typeface="Calibri"/>
                  <a:ea typeface="B Nazanin"/>
                </a:rPr>
                <a:t>3</a:t>
              </a:r>
              <a:r>
                <a:rPr b="0" lang="fa-IR" sz="1600" spc="-1" strike="noStrike">
                  <a:solidFill>
                    <a:srgbClr val="000000"/>
                  </a:solidFill>
                  <a:latin typeface="Calibri"/>
                  <a:ea typeface="B Nazanin"/>
                </a:rPr>
                <a:t> و </a:t>
              </a:r>
              <a:r>
                <a:rPr b="0" lang="fa-IR" sz="1600" spc="-1" strike="noStrike">
                  <a:solidFill>
                    <a:srgbClr val="000000"/>
                  </a:solidFill>
                  <a:latin typeface="Calibri"/>
                  <a:ea typeface="B Nazanin"/>
                </a:rPr>
                <a:t>4</a:t>
              </a:r>
              <a:r>
                <a:rPr b="0" lang="fa-IR" sz="1600" spc="-1" strike="noStrike">
                  <a:solidFill>
                    <a:srgbClr val="000000"/>
                  </a:solidFill>
                  <a:latin typeface="Calibri"/>
                  <a:ea typeface="B Nazanin"/>
                </a:rPr>
                <a:t>.</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کلی در برنامة جدید کارورزی دانشگاه فرهنگیان.</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نظارت و ارزیابی مناسب فرایند و برایند برنامة جدید کارورزی و استفاده از نتایج آن برای بازنگری در برنامة جدی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دوین و تصویب آیین‌نامة مدرسه­های وابسته به دانشگاه فرهنگیان به عنوان مدرسه­های کارورزی که شرایط و امکانات لازم برای اجرای درس کارورزی از نظر نیروی انسانی، فضا و تجهیزات در آن‌ها فراهم شو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پیش‌بینی دوره‌های بازآموزی مؤثر برای استادان راهنما و معلمان راهنمای کاروزی در مدرسه­ها به تفکیک رشته‌های تحصیلی و حوزة کار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اطلاع‌رسانی و آگاهی‌بخشی، با برگزاری نشست‌های تخصصی با حضور استادان دانشگاه فرهنگیان، مدیران مدرسه­ها و معلمان راهنمای کارورزی، به منظور تبیین فرایند اجرا و دستیابی به فهم مشترک از برنامة جدید کارورزی در تربیت معلم.</a:t>
              </a:r>
              <a:endParaRPr b="0" lang="en-US" sz="1600" spc="-1" strike="noStrike">
                <a:solidFill>
                  <a:srgbClr val="000000"/>
                </a:solidFill>
                <a:latin typeface="Arial"/>
              </a:endParaRPr>
            </a:p>
          </p:txBody>
        </p:sp>
      </p:grpSp>
      <p:pic>
        <p:nvPicPr>
          <p:cNvPr id="3004" name="Content Placeholder 3" descr="Image-1002.jpg"/>
          <p:cNvPicPr/>
          <p:nvPr/>
        </p:nvPicPr>
        <p:blipFill>
          <a:blip r:embed="rId2"/>
          <a:stretch/>
        </p:blipFill>
        <p:spPr>
          <a:xfrm>
            <a:off x="-12600" y="-12600"/>
            <a:ext cx="9156600" cy="1079280"/>
          </a:xfrm>
          <a:prstGeom prst="rect">
            <a:avLst/>
          </a:prstGeom>
          <a:ln w="0">
            <a:noFill/>
          </a:ln>
        </p:spPr>
      </p:pic>
      <p:sp>
        <p:nvSpPr>
          <p:cNvPr id="3005" name="Rectangle 5"/>
          <p:cNvSpPr/>
          <p:nvPr/>
        </p:nvSpPr>
        <p:spPr>
          <a:xfrm>
            <a:off x="5362200" y="150840"/>
            <a:ext cx="392976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B Nazanin"/>
              </a:rPr>
              <a:t> بحث و نتیجه گیر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6" name="Title 1" descr=""/>
          <p:cNvPicPr/>
          <p:nvPr/>
        </p:nvPicPr>
        <p:blipFill>
          <a:blip r:embed="rId1"/>
          <a:stretch/>
        </p:blipFill>
        <p:spPr>
          <a:xfrm>
            <a:off x="530280" y="-23760"/>
            <a:ext cx="8272440" cy="6669000"/>
          </a:xfrm>
          <a:prstGeom prst="rect">
            <a:avLst/>
          </a:prstGeom>
          <a:ln w="0">
            <a:noFill/>
          </a:ln>
        </p:spPr>
      </p:pic>
      <p:pic>
        <p:nvPicPr>
          <p:cNvPr id="3007" name="Content Placeholder 3" descr="Image-2343.JPG"/>
          <p:cNvPicPr/>
          <p:nvPr/>
        </p:nvPicPr>
        <p:blipFill>
          <a:blip r:embed="rId2"/>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333360"/>
            <a:ext cx="8229600" cy="6308640"/>
          </a:xfrm>
          <a:prstGeom prst="rect">
            <a:avLst/>
          </a:prstGeom>
          <a:noFill/>
          <a:ln w="0">
            <a:noFill/>
          </a:ln>
        </p:spPr>
        <p:txBody>
          <a:bodyPr anchor="ctr">
            <a:noAutofit/>
          </a:bodyPr>
          <a:p>
            <a:pPr marL="15840" indent="0" rtl="1">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1" lang="fa-IR" sz="1200" spc="-1" strike="noStrike">
                <a:solidFill>
                  <a:srgbClr val="000000"/>
                </a:solidFill>
                <a:latin typeface="2  Nazanin"/>
                <a:cs typeface="B Nazanin"/>
              </a:rPr>
              <a:t>فهرست منابع</a:t>
            </a:r>
            <a:br>
              <a:rPr sz="1200"/>
            </a:br>
            <a:br>
              <a:rPr sz="1200"/>
            </a:b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Brown, N. (2008). </a:t>
            </a:r>
            <a:r>
              <a:rPr b="0" i="1" lang="fa-IR" sz="1200" spc="-1" strike="noStrike">
                <a:solidFill>
                  <a:srgbClr val="000000"/>
                </a:solidFill>
                <a:latin typeface="Times New Roman"/>
                <a:ea typeface="B Nazanin"/>
              </a:rPr>
              <a:t>Assessment in the Professional </a:t>
            </a:r>
            <a:r>
              <a:rPr b="0" i="1" lang="en-US" sz="1200" spc="-1" strike="noStrike">
                <a:solidFill>
                  <a:srgbClr val="000000"/>
                </a:solidFill>
                <a:latin typeface="Times New Roman"/>
                <a:ea typeface="B Nazanin"/>
              </a:rPr>
              <a:t>A</a:t>
            </a:r>
            <a:r>
              <a:rPr b="0" i="1" lang="fa-IR" sz="1200" spc="-1" strike="noStrike">
                <a:solidFill>
                  <a:srgbClr val="000000"/>
                </a:solidFill>
                <a:latin typeface="Times New Roman"/>
                <a:ea typeface="B Nazanin"/>
              </a:rPr>
              <a:t>rea Context. Center</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for the Advancement of Learning and Teaching</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University of</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asmania. 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1"/>
              </a:rPr>
              <a:t>http://www.21learn.org/arch/articles/brown_seely.html</a:t>
            </a:r>
            <a:br>
              <a:rPr sz="1100"/>
            </a:br>
            <a:r>
              <a:rPr b="0" lang="fa-IR" sz="1200" spc="-1" strike="noStrike">
                <a:solidFill>
                  <a:srgbClr val="000000"/>
                </a:solidFill>
                <a:latin typeface="Times New Roman"/>
                <a:ea typeface="B Nazanin"/>
              </a:rPr>
              <a:t>Brown, J</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Seely, 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Ann</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H.</a:t>
            </a:r>
            <a:r>
              <a:rPr b="0" lang="en-US" sz="1200" spc="-1" strike="noStrike">
                <a:solidFill>
                  <a:srgbClr val="000000"/>
                </a:solidFill>
                <a:latin typeface="Times New Roman"/>
                <a:ea typeface="B Nazanin"/>
              </a:rPr>
              <a:t> (1991).</a:t>
            </a:r>
            <a:r>
              <a:rPr b="0" lang="fa-IR" sz="1200" spc="-1" strike="noStrike">
                <a:solidFill>
                  <a:srgbClr val="000000"/>
                </a:solidFill>
                <a:latin typeface="Times New Roman"/>
                <a:ea typeface="B Nazanin"/>
              </a:rPr>
              <a:t> Cognitive Apprenticeship: Making</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hinking Visible. 21st Century Learning Initiative</a:t>
            </a:r>
            <a:r>
              <a:rPr b="0" lang="en-US" sz="1200" spc="-1" strike="noStrike">
                <a:solidFill>
                  <a:srgbClr val="000000"/>
                </a:solidFill>
                <a:latin typeface="Times New Roman"/>
                <a:ea typeface="B Nazanin"/>
              </a:rPr>
              <a:t>. Educational Researcher, 18 (1). 42-31.</a:t>
            </a:r>
            <a:br>
              <a:rPr sz="1100"/>
            </a:br>
            <a:r>
              <a:rPr b="0" lang="fa-IR" sz="1200" spc="-1" strike="noStrike">
                <a:solidFill>
                  <a:srgbClr val="000000"/>
                </a:solidFill>
                <a:latin typeface="Times New Roman"/>
                <a:ea typeface="B Nazanin"/>
              </a:rPr>
              <a:t>Bukaliy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 (2012).The potential benefits and challenges of intership programnes in an</a:t>
            </a:r>
            <a:r>
              <a:rPr b="0" lang="en-US" sz="1200" spc="-1" strike="noStrike">
                <a:solidFill>
                  <a:srgbClr val="000000"/>
                </a:solidFill>
                <a:latin typeface="Times New Roman"/>
                <a:ea typeface="B Nazanin"/>
              </a:rPr>
              <a:t> Old</a:t>
            </a:r>
            <a:r>
              <a:rPr b="0" lang="fa-IR" sz="1200" spc="-1" strike="noStrike">
                <a:solidFill>
                  <a:srgbClr val="000000"/>
                </a:solidFill>
                <a:latin typeface="Times New Roman"/>
                <a:ea typeface="B Nazanin"/>
              </a:rPr>
              <a:t> institutions: a case for the zimbabaw open university. </a:t>
            </a:r>
            <a:r>
              <a:rPr b="0" i="1" lang="fa-IR" sz="1200" spc="-1" strike="noStrike">
                <a:solidFill>
                  <a:srgbClr val="000000"/>
                </a:solidFill>
                <a:latin typeface="Times New Roman"/>
                <a:ea typeface="B Nazanin"/>
              </a:rPr>
              <a:t>International journal on nrw trends in education on thir implication</a:t>
            </a:r>
            <a:r>
              <a:rPr b="0" lang="en-US" sz="1200" spc="-1" strike="noStrike">
                <a:solidFill>
                  <a:srgbClr val="000000"/>
                </a:solidFill>
                <a:latin typeface="Times New Roman"/>
                <a:ea typeface="B Nazanin"/>
              </a:rPr>
              <a:t>, 3 (13), 6249</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1309</a:t>
            </a:r>
            <a:r>
              <a:rPr b="0" lang="fa-IR"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Bukaliya, M. (2015). Exploring the effectiveness of student re</a:t>
            </a:r>
            <a:r>
              <a:rPr b="0" lang="en-US" sz="1200" spc="-1" strike="noStrike">
                <a:solidFill>
                  <a:srgbClr val="000000"/>
                </a:solidFill>
                <a:latin typeface="Times New Roman"/>
                <a:ea typeface="B Nazanin"/>
              </a:rPr>
              <a:t>p</a:t>
            </a:r>
            <a:r>
              <a:rPr b="0" lang="fa-IR" sz="1200" spc="-1" strike="noStrike">
                <a:solidFill>
                  <a:srgbClr val="000000"/>
                </a:solidFill>
                <a:latin typeface="Times New Roman"/>
                <a:ea typeface="B Nazanin"/>
              </a:rPr>
              <a:t>resentative councils in open and distance learning a case for Zimbabwe in open university</a:t>
            </a:r>
            <a:r>
              <a:rPr b="0" lang="en-US" sz="1200" spc="-1" strike="noStrike">
                <a:solidFill>
                  <a:srgbClr val="000000"/>
                </a:solidFill>
                <a:latin typeface="Times New Roman"/>
                <a:ea typeface="B Nazanin"/>
              </a:rPr>
              <a:t>, </a:t>
            </a:r>
            <a:r>
              <a:rPr b="0" i="1" lang="fa-IR" sz="1200" spc="-1" strike="noStrike">
                <a:solidFill>
                  <a:srgbClr val="000000"/>
                </a:solidFill>
                <a:latin typeface="Times New Roman"/>
                <a:ea typeface="B Nazanin"/>
              </a:rPr>
              <a:t>international journal on new trends in education and their implications</a:t>
            </a:r>
            <a:r>
              <a:rPr b="0" lang="fa-IR" sz="1200" spc="-1" strike="noStrike">
                <a:solidFill>
                  <a:srgbClr val="000000"/>
                </a:solidFill>
                <a:latin typeface="Times New Roman"/>
                <a:ea typeface="B Nazanin"/>
              </a:rPr>
              <a:t>, 3 (1),</a:t>
            </a:r>
            <a:r>
              <a:rPr b="0" lang="en-US" sz="1200" spc="-1" strike="noStrike">
                <a:solidFill>
                  <a:srgbClr val="000000"/>
                </a:solidFill>
                <a:latin typeface="Times New Roman"/>
                <a:ea typeface="B Nazanin"/>
              </a:rPr>
              <a:t>90</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80</a:t>
            </a:r>
            <a:br>
              <a:rPr sz="1100"/>
            </a:br>
            <a:r>
              <a:rPr b="0" lang="fa-IR" sz="1200" spc="-1" strike="noStrike">
                <a:solidFill>
                  <a:srgbClr val="000000"/>
                </a:solidFill>
                <a:latin typeface="Times New Roman"/>
                <a:ea typeface="B Nazanin"/>
              </a:rPr>
              <a:t>Creswell, J.</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W. (2007)</a:t>
            </a:r>
            <a:r>
              <a:rPr b="0" lang="ar-SA" sz="1200" spc="-1" strike="noStrike">
                <a:solidFill>
                  <a:srgbClr val="000000"/>
                </a:solidFill>
                <a:latin typeface="Times New Roman"/>
                <a:ea typeface="B Nazanin"/>
              </a:rPr>
              <a:t>.</a:t>
            </a:r>
            <a:r>
              <a:rPr b="0" lang="ar-SA" sz="1200" spc="-1" strike="noStrike">
                <a:solidFill>
                  <a:srgbClr val="000000"/>
                </a:solidFill>
                <a:latin typeface="Calibri"/>
                <a:ea typeface="Times New Roman"/>
              </a:rPr>
              <a:t> </a:t>
            </a:r>
            <a:r>
              <a:rPr b="0" i="1" lang="fa-IR" sz="1200" spc="-1" strike="noStrike">
                <a:solidFill>
                  <a:srgbClr val="000000"/>
                </a:solidFill>
                <a:latin typeface="Times New Roman"/>
                <a:ea typeface="B Nazanin"/>
              </a:rPr>
              <a:t>The designing and conducting mixed methods</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research. Thousand Oak</a:t>
            </a:r>
            <a:r>
              <a:rPr b="0" lang="fa-IR" sz="1200" spc="-1" strike="noStrike">
                <a:solidFill>
                  <a:srgbClr val="000000"/>
                </a:solidFill>
                <a:latin typeface="Times New Roman"/>
                <a:ea typeface="B Nazanin"/>
              </a:rPr>
              <a:t>s</a:t>
            </a:r>
            <a:r>
              <a:rPr b="0" lang="ar-SA"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CA: Sage.</a:t>
            </a:r>
            <a:br>
              <a:rPr sz="1100"/>
            </a:br>
            <a:r>
              <a:rPr b="0" lang="fa-IR" sz="1200" spc="-1" strike="noStrike">
                <a:solidFill>
                  <a:srgbClr val="000000"/>
                </a:solidFill>
                <a:latin typeface="Times New Roman"/>
                <a:ea typeface="B Nazanin"/>
              </a:rPr>
              <a:t>La</a:t>
            </a:r>
            <a:r>
              <a:rPr b="0" lang="en-US" sz="1200" spc="-1" strike="noStrike">
                <a:solidFill>
                  <a:srgbClr val="000000"/>
                </a:solidFill>
                <a:latin typeface="Times New Roman"/>
                <a:ea typeface="B Nazanin"/>
              </a:rPr>
              <a:t>b</a:t>
            </a:r>
            <a:r>
              <a:rPr b="0" lang="fa-IR" sz="1200" spc="-1" strike="noStrike">
                <a:solidFill>
                  <a:srgbClr val="000000"/>
                </a:solidFill>
                <a:latin typeface="Times New Roman"/>
                <a:ea typeface="B Nazanin"/>
              </a:rPr>
              <a:t>oskey, V. K. (2014). Development of reflectivle practice: A study</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of preservice teachers. New York: </a:t>
            </a:r>
            <a:r>
              <a:rPr b="0" i="1" lang="fa-IR" sz="1200" spc="-1" strike="noStrike">
                <a:solidFill>
                  <a:srgbClr val="000000"/>
                </a:solidFill>
                <a:latin typeface="Times New Roman"/>
                <a:ea typeface="B Nazanin"/>
              </a:rPr>
              <a:t>Teachers College Press</a:t>
            </a:r>
            <a:r>
              <a:rPr b="0" lang="fa-IR" sz="1200" spc="-1" strike="noStrike">
                <a:solidFill>
                  <a:srgbClr val="000000"/>
                </a:solidFill>
                <a:latin typeface="Times New Roman"/>
                <a:ea typeface="B Nazanin"/>
              </a:rPr>
              <a:t>. </a:t>
            </a:r>
            <a:r>
              <a:rPr b="0" i="1" lang="en-US" sz="1200" spc="-1" strike="noStrike">
                <a:solidFill>
                  <a:srgbClr val="000000"/>
                </a:solidFill>
                <a:latin typeface="Times New Roman"/>
                <a:ea typeface="B Nazanin"/>
              </a:rPr>
              <a:t>International handbook of self-study of teaching and teacher education practices,</a:t>
            </a:r>
            <a:r>
              <a:rPr b="0" lang="en-US" sz="1200" spc="-1" strike="noStrike">
                <a:solidFill>
                  <a:srgbClr val="000000"/>
                </a:solidFill>
                <a:latin typeface="Times New Roman"/>
                <a:ea typeface="B Nazanin"/>
              </a:rPr>
              <a:t> 869 -817.</a:t>
            </a:r>
            <a:br>
              <a:rPr sz="1100"/>
            </a:br>
            <a:r>
              <a:rPr b="0" lang="en-US" sz="1200" spc="-1" strike="noStrike">
                <a:solidFill>
                  <a:srgbClr val="000000"/>
                </a:solidFill>
                <a:latin typeface="Times New Roman"/>
                <a:ea typeface="B Nazanin"/>
              </a:rPr>
              <a:t>Padgett, D. K. (2008). </a:t>
            </a:r>
            <a:r>
              <a:rPr b="0" i="1" lang="en-US" sz="1200" spc="-1" strike="noStrike">
                <a:solidFill>
                  <a:srgbClr val="000000"/>
                </a:solidFill>
                <a:latin typeface="Times New Roman"/>
                <a:ea typeface="B Nazanin"/>
              </a:rPr>
              <a:t>Qualitative methods in social work research</a:t>
            </a:r>
            <a:r>
              <a:rPr b="0" lang="en-US" sz="1200" spc="-1" strike="noStrike">
                <a:solidFill>
                  <a:srgbClr val="000000"/>
                </a:solidFill>
                <a:latin typeface="Times New Roman"/>
                <a:ea typeface="B Nazanin"/>
              </a:rPr>
              <a:t>. London: SAGE.</a:t>
            </a:r>
            <a:br>
              <a:rPr sz="1100"/>
            </a:br>
            <a:r>
              <a:rPr b="0" lang="en-US" sz="1200" spc="-1" strike="noStrike">
                <a:solidFill>
                  <a:srgbClr val="000000"/>
                </a:solidFill>
                <a:latin typeface="Times New Roman"/>
                <a:ea typeface="B Nazanin"/>
              </a:rPr>
              <a:t>Sacks, T. (2015). New pathways to analysis through thick description: Historical trauma and emerging qualitative research. </a:t>
            </a:r>
            <a:r>
              <a:rPr b="0" i="1" lang="en-US" sz="1200" spc="-1" strike="noStrike">
                <a:solidFill>
                  <a:srgbClr val="000000"/>
                </a:solidFill>
                <a:latin typeface="Times New Roman"/>
                <a:ea typeface="B Nazanin"/>
              </a:rPr>
              <a:t>Qualitative Social Work</a:t>
            </a:r>
            <a:r>
              <a:rPr b="0" lang="en-US" sz="1200" spc="-1" strike="noStrike">
                <a:solidFill>
                  <a:srgbClr val="000000"/>
                </a:solidFill>
                <a:latin typeface="Times New Roman"/>
                <a:ea typeface="B Nazanin"/>
              </a:rPr>
              <a:t>, 14(6),757-753.</a:t>
            </a:r>
            <a:br>
              <a:rPr sz="1100"/>
            </a:br>
            <a:r>
              <a:rPr b="0" lang="fa-IR" sz="1200" spc="-1" strike="noStrike">
                <a:solidFill>
                  <a:srgbClr val="000000"/>
                </a:solidFill>
                <a:latin typeface="Times New Roman"/>
                <a:ea typeface="B Nazanin"/>
              </a:rPr>
              <a:t>Teacher Candidate Internship Handbook (2015). </a:t>
            </a:r>
            <a:r>
              <a:rPr b="0" i="1" lang="fa-IR" sz="1200" spc="-1" strike="noStrike">
                <a:solidFill>
                  <a:srgbClr val="000000"/>
                </a:solidFill>
                <a:latin typeface="Times New Roman"/>
                <a:ea typeface="B Nazanin"/>
              </a:rPr>
              <a:t>Darden College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University of Western Ontario</a:t>
            </a:r>
            <a:r>
              <a:rPr b="0" lang="en-US" sz="1200" spc="-1" strike="noStrike">
                <a:solidFill>
                  <a:srgbClr val="000000"/>
                </a:solidFill>
                <a:latin typeface="Times New Roman"/>
                <a:ea typeface="B Nazanin"/>
              </a:rPr>
              <a:t>. (2016,</a:t>
            </a:r>
            <a:r>
              <a:rPr b="0" lang="en-US" sz="1200" spc="-1" strike="noStrike">
                <a:solidFill>
                  <a:srgbClr val="000000"/>
                </a:solidFill>
                <a:latin typeface="Calibri"/>
                <a:ea typeface="Arial"/>
              </a:rPr>
              <a:t> </a:t>
            </a:r>
            <a:r>
              <a:rPr b="0" lang="fa-IR" sz="1200" spc="-1" strike="noStrike">
                <a:solidFill>
                  <a:srgbClr val="000000"/>
                </a:solidFill>
                <a:latin typeface="Times New Roman"/>
                <a:ea typeface="B Nazanin"/>
              </a:rPr>
              <a:t>January 9). Training program (</a:t>
            </a:r>
            <a:r>
              <a:rPr b="0" lang="en-US" sz="1200" spc="-1" strike="noStrike">
                <a:solidFill>
                  <a:srgbClr val="000000"/>
                </a:solidFill>
                <a:latin typeface="Times New Roman"/>
                <a:ea typeface="B Nazanin"/>
              </a:rPr>
              <a:t>I</a:t>
            </a:r>
            <a:r>
              <a:rPr b="0" lang="fa-IR" sz="1200" spc="-1" strike="noStrike">
                <a:solidFill>
                  <a:srgbClr val="000000"/>
                </a:solidFill>
                <a:latin typeface="Times New Roman"/>
                <a:ea typeface="B Nazanin"/>
              </a:rPr>
              <a:t>nternship) of the education students of the faculty of education</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2"/>
              </a:rPr>
              <a:t>www.uwo.ca</a:t>
            </a:r>
            <a:r>
              <a:rPr b="0" i="1" lang="en-US"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UNESCO</a:t>
            </a:r>
            <a:r>
              <a:rPr b="0" lang="en-US" sz="1200" spc="-1" strike="noStrike">
                <a:solidFill>
                  <a:srgbClr val="000000"/>
                </a:solidFill>
                <a:latin typeface="Times New Roman"/>
                <a:ea typeface="B Nazanin"/>
              </a:rPr>
              <a:t>.</a:t>
            </a:r>
            <a:r>
              <a:rPr b="0" lang="en-US" sz="1200" spc="-1" strike="noStrike">
                <a:solidFill>
                  <a:srgbClr val="000000"/>
                </a:solidFill>
                <a:latin typeface="B Nazanin"/>
                <a:ea typeface="Arial"/>
              </a:rPr>
              <a:t> </a:t>
            </a:r>
            <a:r>
              <a:rPr b="0" lang="fa-IR" sz="1200" spc="-1" strike="noStrike">
                <a:solidFill>
                  <a:srgbClr val="000000"/>
                </a:solidFill>
                <a:latin typeface="Times New Roman"/>
                <a:ea typeface="B Nazanin"/>
              </a:rPr>
              <a:t>(1990). </a:t>
            </a:r>
            <a:r>
              <a:rPr b="0" i="1" lang="fa-IR" sz="1200" spc="-1" strike="noStrike">
                <a:solidFill>
                  <a:srgbClr val="000000"/>
                </a:solidFill>
                <a:latin typeface="Times New Roman"/>
                <a:ea typeface="B Nazanin"/>
              </a:rPr>
              <a:t>Education for the Future, Regional meeting in</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Bangkok, Educational Research of the Ministry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Xiuli, M. (2012). </a:t>
            </a:r>
            <a:r>
              <a:rPr b="0" i="1" lang="fa-IR" sz="1200" spc="-1" strike="noStrike">
                <a:solidFill>
                  <a:srgbClr val="000000"/>
                </a:solidFill>
                <a:latin typeface="Times New Roman"/>
                <a:ea typeface="B Nazanin"/>
              </a:rPr>
              <a:t>Student Teachers</a:t>
            </a:r>
            <a:r>
              <a:rPr b="0" i="1" lang="en-US" sz="1200" spc="-1" strike="noStrike">
                <a:solidFill>
                  <a:srgbClr val="000000"/>
                </a:solidFill>
                <a:latin typeface="Times New Roman"/>
                <a:ea typeface="B Nazanin"/>
              </a:rPr>
              <a:t>,</a:t>
            </a:r>
            <a:r>
              <a:rPr b="0" i="1" lang="fa-IR" sz="1200" spc="-1" strike="noStrike">
                <a:solidFill>
                  <a:srgbClr val="000000"/>
                </a:solidFill>
                <a:latin typeface="Times New Roman"/>
                <a:ea typeface="B Nazanin"/>
              </a:rPr>
              <a:t> Professional Learning in Teaching Practicum</a:t>
            </a:r>
            <a:r>
              <a:rPr b="0" lang="fa-IR" sz="1200" spc="-1" strike="noStrike">
                <a:solidFill>
                  <a:srgbClr val="000000"/>
                </a:solidFill>
                <a:latin typeface="Times New Roman"/>
                <a:ea typeface="B Nazanin"/>
              </a:rPr>
              <a:t>, For the Degree of Doctor of Philosophy at the University of Hong Kong</a:t>
            </a:r>
            <a:r>
              <a:rPr b="0" lang="fa-IR" sz="1200" spc="-1" strike="noStrike">
                <a:solidFill>
                  <a:srgbClr val="000000"/>
                </a:solidFill>
                <a:latin typeface="Times New Roman"/>
                <a:ea typeface="B Nazanin"/>
              </a:rPr>
              <a:t>.</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000"/>
            </a:br>
            <a:br>
              <a:rPr sz="1000"/>
            </a:br>
            <a:br>
              <a:rPr sz="1000"/>
            </a:br>
            <a:br>
              <a:rPr sz="1000"/>
            </a:br>
            <a:br>
              <a:rPr sz="1000"/>
            </a:br>
            <a:br>
              <a:rPr sz="1000"/>
            </a:br>
            <a:br>
              <a:rPr sz="1000"/>
            </a:br>
            <a:br>
              <a:rPr sz="1000"/>
            </a:br>
            <a:br>
              <a:rPr sz="1000"/>
            </a:br>
            <a:br>
              <a:rPr sz="1000"/>
            </a:br>
            <a:br>
              <a:rPr sz="1000"/>
            </a:br>
            <a:endParaRPr b="0" lang="en-US" sz="1200" spc="-1" strike="noStrike">
              <a:solidFill>
                <a:srgbClr val="000000"/>
              </a:solidFill>
              <a:latin typeface="Calibri"/>
            </a:endParaRPr>
          </a:p>
        </p:txBody>
      </p:sp>
      <p:pic>
        <p:nvPicPr>
          <p:cNvPr id="3009" name="Content Placeholder 3" descr="Image-2343.JPG"/>
          <p:cNvPicPr/>
          <p:nvPr/>
        </p:nvPicPr>
        <p:blipFill>
          <a:blip r:embed="rId3"/>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1"/>
          <p:cNvSpPr/>
          <p:nvPr/>
        </p:nvSpPr>
        <p:spPr>
          <a:xfrm>
            <a:off x="533520" y="1413360"/>
            <a:ext cx="8153280" cy="4969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Davat"/>
              </a:rPr>
              <a:t>دانشگاه فرهنگیان خیلی مهم است اینجا شخصیت معلمی ساخته می شود</a:t>
            </a:r>
            <a:r>
              <a:rPr b="1" lang="en-US" sz="4000" spc="-1" strike="noStrike">
                <a:solidFill>
                  <a:srgbClr val="000000"/>
                </a:solidFill>
                <a:latin typeface="Arial"/>
                <a:ea typeface="B Davat"/>
              </a:rPr>
              <a:t>.</a:t>
            </a:r>
            <a:r>
              <a:rPr b="1" lang="fa-IR" sz="4000" spc="-1" strike="noStrike">
                <a:solidFill>
                  <a:srgbClr val="000000"/>
                </a:solidFill>
                <a:latin typeface="Arial"/>
                <a:ea typeface="B Davat"/>
              </a:rPr>
              <a:t> شخصیت معلم یعنی همان چیزی که آموزش داده می شود. معلم در کلاس شخصیت خود را می آموزد نه معلومات خود را.                           </a:t>
            </a:r>
            <a:r>
              <a:rPr b="1" lang="fa-IR" sz="2800" spc="-1" strike="noStrike">
                <a:solidFill>
                  <a:srgbClr val="000000"/>
                </a:solidFill>
                <a:latin typeface="Arial"/>
                <a:ea typeface="B Davat"/>
              </a:rPr>
              <a:t>92/2/9</a:t>
            </a:r>
            <a:endParaRPr b="0" lang="en-US" sz="2800" spc="-1" strike="noStrike">
              <a:solidFill>
                <a:srgbClr val="000000"/>
              </a:solidFill>
              <a:latin typeface="Arial"/>
            </a:endParaRPr>
          </a:p>
        </p:txBody>
      </p:sp>
      <p:sp>
        <p:nvSpPr>
          <p:cNvPr id="2952"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مقام معظم رهبری (مدظله العالی)</a:t>
            </a:r>
            <a:endParaRPr b="0" lang="en-US" sz="3600" spc="-1" strike="noStrike">
              <a:solidFill>
                <a:srgbClr val="000000"/>
              </a:solidFill>
              <a:latin typeface="Arial"/>
            </a:endParaRPr>
          </a:p>
        </p:txBody>
      </p:sp>
      <p:pic>
        <p:nvPicPr>
          <p:cNvPr id="2953" name="Picture 2" descr="http://t3.gstatic.com/images?q=tbn:ANd9GcQh4sBVG3ICIqaLsAYb3lQgeinAS4r0NQqeluz_ca2iRoE_8zi-PhqPYw">
            <a:hlinkClick r:id="rId1"/>
          </p:cNvPr>
          <p:cNvPicPr/>
          <p:nvPr/>
        </p:nvPicPr>
        <p:blipFill>
          <a:blip r:embed="rId2"/>
          <a:stretch/>
        </p:blipFill>
        <p:spPr>
          <a:xfrm>
            <a:off x="7086600" y="152280"/>
            <a:ext cx="1371600" cy="2040120"/>
          </a:xfrm>
          <a:prstGeom prst="rect">
            <a:avLst/>
          </a:prstGeom>
          <a:ln w="0">
            <a:noFill/>
          </a:ln>
        </p:spPr>
      </p:pic>
      <p:pic>
        <p:nvPicPr>
          <p:cNvPr id="2954" name="Picture 6" descr="http://uploadpa.com/beta/12/nxv0icep46awvmgvb1n6.gif">
            <a:hlinkClick r:id="rId3"/>
          </p:cNvPr>
          <p:cNvPicPr/>
          <p:nvPr/>
        </p:nvPicPr>
        <p:blipFill>
          <a:blip r:embed="rId4"/>
          <a:stretch/>
        </p:blipFill>
        <p:spPr>
          <a:xfrm>
            <a:off x="152280" y="76320"/>
            <a:ext cx="1600200" cy="990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0" y="0"/>
            <a:ext cx="9144000" cy="6858000"/>
          </a:xfrm>
          <a:prstGeom prst="rect">
            <a:avLst/>
          </a:prstGeom>
          <a:noFill/>
          <a:ln w="0">
            <a:noFill/>
          </a:ln>
        </p:spPr>
        <p:txBody>
          <a:bodyPr lIns="82440" rIns="82440" tIns="41040" bIns="41040"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معاونت پژوهشی و فناوری </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دانشگاه فرهنگیان</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آذرماه</a:t>
            </a:r>
            <a:r>
              <a:rPr b="1" i="1" lang="fa-IR" sz="5400" spc="-1" strike="noStrike">
                <a:solidFill>
                  <a:srgbClr val="7d3c4a"/>
                </a:solidFill>
                <a:latin typeface="Lucida Sans Unicode"/>
                <a:ea typeface="B Nazanin"/>
              </a:rPr>
              <a:t>97</a:t>
            </a: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7d3c4a"/>
                </a:solidFill>
                <a:latin typeface="Lucida Sans Unicode"/>
                <a:cs typeface="B Nazanin"/>
              </a:rPr>
              <a:t>پژآهنگ پانزدهم</a:t>
            </a:r>
            <a:endParaRPr b="0" lang="en-US" sz="5400" spc="-1" strike="noStrike">
              <a:solidFill>
                <a:srgbClr val="000000"/>
              </a:solidFill>
              <a:latin typeface="Lucida Sans Unicode"/>
            </a:endParaRPr>
          </a:p>
          <a:p>
            <a:pPr marL="365040" indent="-255600" algn="ctr" rtl="1">
              <a:lnSpc>
                <a:spcPct val="107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واکاوی موانع پیاده‌سازی موفق برنامة جدید کارورزی در دانشگاه فرهنگیان</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خنران: دکتر اسد حجازی</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ستادیار گروه مدیریت آموزشی</a:t>
            </a:r>
            <a:endParaRPr b="0" lang="en-US" sz="2400" spc="-1" strike="noStrike">
              <a:solidFill>
                <a:srgbClr val="000000"/>
              </a:solidFill>
              <a:latin typeface="Lucida Sans Unicode"/>
            </a:endParaRPr>
          </a:p>
          <a:p>
            <a:pPr marL="365040" indent="-25560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56" name="Picture 2" descr="arm1[1]"/>
          <p:cNvPicPr/>
          <p:nvPr/>
        </p:nvPicPr>
        <p:blipFill>
          <a:blip r:embed="rId1"/>
          <a:stretch/>
        </p:blipFill>
        <p:spPr>
          <a:xfrm>
            <a:off x="3571920" y="214200"/>
            <a:ext cx="2224080" cy="1270080"/>
          </a:xfrm>
          <a:prstGeom prst="rect">
            <a:avLst/>
          </a:prstGeom>
          <a:ln w="0">
            <a:noFill/>
          </a:ln>
        </p:spPr>
      </p:pic>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title"/>
          </p:nvPr>
        </p:nvSpPr>
        <p:spPr>
          <a:xfrm>
            <a:off x="971280" y="189000"/>
            <a:ext cx="8064360" cy="648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کارورزی:</a:t>
            </a:r>
            <a:br>
              <a:rPr sz="2800"/>
            </a:br>
            <a:r>
              <a:rPr b="0" lang="fa-IR" sz="2800" spc="-1" strike="noStrike">
                <a:solidFill>
                  <a:srgbClr val="000000"/>
                </a:solidFill>
                <a:latin typeface="Calibri"/>
                <a:ea typeface="B Nazanin"/>
              </a:rPr>
              <a:t> </a:t>
            </a:r>
            <a:r>
              <a:rPr b="0" lang="fa-IR" sz="2000" spc="-1" strike="noStrike">
                <a:solidFill>
                  <a:srgbClr val="000000"/>
                </a:solidFill>
                <a:latin typeface="Calibri"/>
                <a:ea typeface="B Lotus"/>
              </a:rPr>
              <a:t> </a:t>
            </a:r>
            <a:r>
              <a:rPr b="0" lang="fa-IR" sz="2800" spc="-1" strike="noStrike">
                <a:solidFill>
                  <a:srgbClr val="000000"/>
                </a:solidFill>
                <a:latin typeface="Calibri"/>
                <a:cs typeface="B Lotus"/>
              </a:rPr>
              <a:t>اصل کلمة کارورزی‌کردن</a:t>
            </a:r>
            <a:r>
              <a:rPr b="0" lang="fa-IR" sz="2800" spc="-1" strike="noStrike" baseline="30000">
                <a:solidFill>
                  <a:srgbClr val="000000"/>
                </a:solidFill>
                <a:latin typeface="Calibri"/>
                <a:ea typeface="B Lotus"/>
              </a:rPr>
              <a:t> </a:t>
            </a:r>
            <a:r>
              <a:rPr b="0" lang="fa-IR" sz="2800" spc="-1" strike="noStrike">
                <a:solidFill>
                  <a:srgbClr val="000000"/>
                </a:solidFill>
                <a:latin typeface="Calibri"/>
                <a:cs typeface="B Lotus"/>
              </a:rPr>
              <a:t>به واژة </a:t>
            </a:r>
            <a:r>
              <a:rPr b="1" lang="fa-IR" sz="2800" spc="-1" strike="noStrike">
                <a:solidFill>
                  <a:srgbClr val="ff0000"/>
                </a:solidFill>
                <a:latin typeface="Calibri"/>
                <a:ea typeface="B Lotus"/>
              </a:rPr>
              <a:t>«کارورز» </a:t>
            </a:r>
            <a:r>
              <a:rPr b="0" lang="fa-IR" sz="2800" spc="-1" strike="noStrike">
                <a:solidFill>
                  <a:srgbClr val="000000"/>
                </a:solidFill>
                <a:latin typeface="Calibri"/>
                <a:cs typeface="B Lotus"/>
              </a:rPr>
              <a:t>بر می‌گردد و به فردی گفته </a:t>
            </a:r>
            <a:br>
              <a:rPr sz="2800"/>
            </a:br>
            <a:r>
              <a:rPr b="0" lang="fa-IR" sz="2800" spc="-1" strike="noStrike">
                <a:solidFill>
                  <a:srgbClr val="000000"/>
                </a:solidFill>
                <a:latin typeface="Calibri"/>
                <a:cs typeface="B Lotus"/>
              </a:rPr>
              <a:t>می‌شود که در حین تحصیل در آموزش عالی یا بلافاصله بعد از پایان دوران تحصیل، تنها با هدف کسب تجربه و مهارت کاری و عملی، در مؤسسه‌ای مشغول به کار می‌شود.</a:t>
            </a:r>
            <a:r>
              <a:rPr b="0" lang="en-US" sz="2800" spc="-1" strike="noStrike">
                <a:solidFill>
                  <a:srgbClr val="000000"/>
                </a:solidFill>
                <a:latin typeface="Calibri"/>
                <a:ea typeface="B Lotus"/>
              </a:rPr>
              <a:t> </a:t>
            </a:r>
            <a:br>
              <a:rPr sz="2800"/>
            </a:br>
            <a:r>
              <a:rPr b="1" lang="fa-IR" sz="2800" spc="-1" strike="noStrike">
                <a:solidFill>
                  <a:srgbClr val="ff0000"/>
                </a:solidFill>
                <a:latin typeface="Calibri"/>
                <a:cs typeface="B Lotus"/>
              </a:rPr>
              <a:t>بنابر تعاریف ارائه‌شده، </a:t>
            </a:r>
            <a:r>
              <a:rPr b="0" lang="fa-IR" sz="2800" spc="-1" strike="noStrike">
                <a:solidFill>
                  <a:srgbClr val="000000"/>
                </a:solidFill>
                <a:latin typeface="Calibri"/>
                <a:cs typeface="B Lotus"/>
              </a:rPr>
              <a:t>کارورزی تمهیداتی رسمی با هدف ایجاد فرصت‌هایی برای دانشجویان به منظور مطالعه و تجربة علاقه­های شغلی خارج از محیط دانشگاه در قالب برنامه‌ای عملی و تحت نظر یک گروه دانشگاهی و نوعی فرایند تبادل نظریه و عمل است که امکان کاربرد آموخته‌های نظری را در محیطی واقعی فراهم می‌آورد. </a:t>
            </a:r>
            <a:br>
              <a:rPr sz="2800"/>
            </a:br>
            <a:br>
              <a:rPr sz="2800"/>
            </a:br>
            <a:endParaRPr b="0" lang="en-US" sz="2800" spc="-1" strike="noStrike">
              <a:solidFill>
                <a:srgbClr val="000000"/>
              </a:solidFill>
              <a:latin typeface="Calibri"/>
            </a:endParaRPr>
          </a:p>
        </p:txBody>
      </p:sp>
      <p:pic>
        <p:nvPicPr>
          <p:cNvPr id="2958" name="Content Placeholder 1" descr=""/>
          <p:cNvPicPr/>
          <p:nvPr/>
        </p:nvPicPr>
        <p:blipFill>
          <a:blip r:embed="rId1"/>
          <a:stretch/>
        </p:blipFill>
        <p:spPr>
          <a:xfrm>
            <a:off x="30240" y="189000"/>
            <a:ext cx="108576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title"/>
          </p:nvPr>
        </p:nvSpPr>
        <p:spPr>
          <a:xfrm>
            <a:off x="3504960" y="152280"/>
            <a:ext cx="5530680" cy="82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ورزی در کشورهای توسعه یافته</a:t>
            </a:r>
            <a:r>
              <a:rPr b="1" lang="ar-SA" sz="3200" spc="-1" strike="noStrike">
                <a:solidFill>
                  <a:srgbClr val="000000"/>
                </a:solidFill>
                <a:latin typeface="Calibri"/>
                <a:ea typeface="B Nazanin"/>
              </a:rPr>
              <a:t>:</a:t>
            </a:r>
            <a:br>
              <a:rPr sz="3200"/>
            </a:br>
            <a:endParaRPr b="0" lang="en-US" sz="3200" spc="-1" strike="noStrike">
              <a:solidFill>
                <a:srgbClr val="000000"/>
              </a:solidFill>
              <a:latin typeface="Calibri"/>
            </a:endParaRPr>
          </a:p>
        </p:txBody>
      </p:sp>
      <p:sp>
        <p:nvSpPr>
          <p:cNvPr id="2960" name=""/>
          <p:cNvSpPr txBox="1"/>
          <p:nvPr/>
        </p:nvSpPr>
        <p:spPr>
          <a:xfrm>
            <a:off x="1828800" y="1218960"/>
            <a:ext cx="7315200" cy="5638680"/>
          </a:xfrm>
          <a:prstGeom prst="rect">
            <a:avLst/>
          </a:prstGeom>
          <a:noFill/>
          <a:ln w="0">
            <a:noFill/>
          </a:ln>
        </p:spPr>
        <p:txBody>
          <a:bodyPr anchor="t">
            <a:normAutofit fontScale="87000"/>
          </a:bodyPr>
          <a:p>
            <a:pPr algn="just" rtl="1">
              <a:lnSpc>
                <a:spcPct val="10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چند دهة گذشته کشورهای بسیاری برای فائق‌آمدن بر مشکلات نظام‌های آموزشی قبل از دانشگاه، در زمینة کارورزی به راه‌حل‌هایی از جمله آموزش کارورزی فکورانه، توسعة فرهنگ کارورزی، انجام حمایت‌های لازم از تربیت معلم و انجام تحقیقات لازم در این زمینه روی آورده‌اند. برای مثال، مدرسان و معلمان راهنمای کارورزی </a:t>
            </a:r>
            <a:r>
              <a:rPr b="0" lang="fa-IR" sz="2000" spc="-1" strike="noStrike">
                <a:solidFill>
                  <a:srgbClr val="ff0000"/>
                </a:solidFill>
                <a:latin typeface="Calibri"/>
                <a:cs typeface="B Nazanin"/>
              </a:rPr>
              <a:t>در کشورهای انگلستان و فرانسه </a:t>
            </a:r>
            <a:r>
              <a:rPr b="0" lang="fa-IR" sz="2000" spc="-1" strike="noStrike">
                <a:solidFill>
                  <a:srgbClr val="000000"/>
                </a:solidFill>
                <a:latin typeface="Calibri"/>
                <a:cs typeface="B Nazanin"/>
              </a:rPr>
              <a:t>از مجرب‌ترین استادان انتخاب می‌شوند و از وظایف خود آگاهی دارند. در انگلستان و فرانسه کارورزی در طول برنامة درسی تربیت معلم و به روش تلفیقی با سایر واحدها برنامه‌ریزی می‌شود تا دانشجو معلمان بتوانند، دربارة تجربه­های خود در کلاس درس با استادان و هم­کلاسی‌هایشان خود تبادل نظر کنند. </a:t>
            </a:r>
            <a:endParaRPr b="0" lang="en-US" sz="20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a:t>
            </a:r>
            <a:r>
              <a:rPr b="1" lang="fa-IR" sz="1800" spc="-1" strike="noStrike">
                <a:solidFill>
                  <a:srgbClr val="000000"/>
                </a:solidFill>
                <a:latin typeface="Calibri"/>
                <a:ea typeface="B Nazanin"/>
              </a:rPr>
              <a:t> سوی دیگر </a:t>
            </a:r>
            <a:r>
              <a:rPr b="1" lang="fa-IR" sz="1800" spc="-1" strike="noStrike">
                <a:solidFill>
                  <a:srgbClr val="ff0000"/>
                </a:solidFill>
                <a:latin typeface="Calibri"/>
                <a:cs typeface="B Nazanin"/>
              </a:rPr>
              <a:t>در آمریکا </a:t>
            </a:r>
            <a:r>
              <a:rPr b="1" lang="fa-IR" sz="1800" spc="-1" strike="noStrike">
                <a:solidFill>
                  <a:srgbClr val="000000"/>
                </a:solidFill>
                <a:latin typeface="Calibri"/>
                <a:cs typeface="B Nazanin"/>
              </a:rPr>
              <a:t>برنامة آماده‌سازی نومعلمان موفق، عمیقاً در روابط حرفه‌ای میان مدیران مدارس، نظارت بالینی دانشکده، دانشجویان تربیت معلم و سرپرستان دانشگاه ریشه دارد (راهنمای کارورزی دانشجومعلمان آمریکا، </a:t>
            </a:r>
            <a:r>
              <a:rPr b="1" lang="fa-IR" sz="1800" spc="-1" strike="noStrike">
                <a:solidFill>
                  <a:srgbClr val="000000"/>
                </a:solidFill>
                <a:latin typeface="Calibri"/>
                <a:ea typeface="B Nazanin"/>
              </a:rPr>
              <a:t>2015</a:t>
            </a:r>
            <a:r>
              <a:rPr b="1" lang="fa-IR" sz="1800" spc="-1" strike="noStrike">
                <a:solidFill>
                  <a:srgbClr val="000000"/>
                </a:solidFill>
                <a:latin typeface="Calibri"/>
                <a:ea typeface="B Nazanin"/>
              </a:rPr>
              <a:t>). در دانشکدة آموزش و پرورش دانشگاه </a:t>
            </a:r>
            <a:r>
              <a:rPr b="1" lang="fa-IR" sz="1800" spc="-1" strike="noStrike">
                <a:solidFill>
                  <a:srgbClr val="ff0000"/>
                </a:solidFill>
                <a:latin typeface="Calibri"/>
                <a:cs typeface="B Nazanin"/>
              </a:rPr>
              <a:t>وسترن آنتاریو</a:t>
            </a:r>
            <a:r>
              <a:rPr b="1" lang="fa-IR" sz="1800" spc="-1" strike="noStrike" baseline="30000">
                <a:solidFill>
                  <a:srgbClr val="ff0000"/>
                </a:solidFill>
                <a:latin typeface="Calibri"/>
                <a:ea typeface="B Nazanin"/>
              </a:rPr>
              <a:t> </a:t>
            </a:r>
            <a:r>
              <a:rPr b="1" lang="fa-IR" sz="1800" spc="-1" strike="noStrike">
                <a:solidFill>
                  <a:srgbClr val="ff0000"/>
                </a:solidFill>
                <a:latin typeface="Calibri"/>
                <a:cs typeface="B Nazanin"/>
              </a:rPr>
              <a:t>از کشور کانادا، کارآموزی (کارورزی) </a:t>
            </a:r>
            <a:r>
              <a:rPr b="1" lang="fa-IR" sz="1800" spc="-1" strike="noStrike">
                <a:solidFill>
                  <a:srgbClr val="000000"/>
                </a:solidFill>
                <a:latin typeface="Calibri"/>
                <a:cs typeface="B Nazanin"/>
              </a:rPr>
              <a:t>دانشجو معلمان از سه جزء شامل؛ تمرین تدریس در مدارس انتخابی، تجربة میدانی جایگزین در سال دوم برنامه، و اجرای کارگاه‌های آموزشی برای حمایت از کارحرفه‌ای با برنامه‌ریزی هفتگی برای کسب صلاحیت معلمی تشکیل شده است.</a:t>
            </a:r>
            <a:endParaRPr b="0" lang="en-US" sz="18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merican Student Training Guide, U.S. Department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University of Western Ontario: UWO, Canada School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 Bachelor of Education (B.Ed.)</a:t>
            </a:r>
            <a:endParaRPr b="0" lang="en-US" sz="14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1"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title"/>
          </p:nvPr>
        </p:nvSpPr>
        <p:spPr>
          <a:xfrm>
            <a:off x="2556000" y="151920"/>
            <a:ext cx="6480000" cy="9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f6228"/>
                </a:solidFill>
                <a:latin typeface="Calibri"/>
                <a:cs typeface="B Nazanin"/>
              </a:rPr>
              <a:t>کارورزی در دانشگاه فرهنگیان ایران</a:t>
            </a:r>
            <a:r>
              <a:rPr b="1" lang="ar-SA" sz="3200" spc="-1" strike="noStrike">
                <a:solidFill>
                  <a:srgbClr val="4f6228"/>
                </a:solidFill>
                <a:latin typeface="Calibri"/>
                <a:ea typeface="B Nazanin"/>
              </a:rPr>
              <a:t>:</a:t>
            </a:r>
            <a:br>
              <a:rPr sz="2800"/>
            </a:br>
            <a:endParaRPr b="0" lang="en-US" sz="3200" spc="-1" strike="noStrike">
              <a:solidFill>
                <a:srgbClr val="000000"/>
              </a:solidFill>
              <a:latin typeface="Calibri"/>
            </a:endParaRPr>
          </a:p>
        </p:txBody>
      </p:sp>
      <p:sp>
        <p:nvSpPr>
          <p:cNvPr id="2963" name=""/>
          <p:cNvSpPr txBox="1"/>
          <p:nvPr/>
        </p:nvSpPr>
        <p:spPr>
          <a:xfrm>
            <a:off x="1828800" y="1218960"/>
            <a:ext cx="7315200" cy="5638680"/>
          </a:xfrm>
          <a:prstGeom prst="rect">
            <a:avLst/>
          </a:prstGeom>
          <a:noFill/>
          <a:ln w="0">
            <a:noFill/>
          </a:ln>
        </p:spPr>
        <p:txBody>
          <a:bodyPr anchor="t">
            <a:normAutofit fontScale="87000"/>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Nazanin"/>
              </a:rPr>
              <a:t> </a:t>
            </a:r>
            <a:r>
              <a:rPr b="0" lang="fa-IR" sz="3200" spc="-1" strike="noStrike">
                <a:solidFill>
                  <a:srgbClr val="000000"/>
                </a:solidFill>
                <a:latin typeface="Calibri"/>
                <a:cs typeface="B Nazanin"/>
              </a:rPr>
              <a:t>در دانشگاه فرهنگیان، با استناد به مفاد «طرح اجرایی کارورزی رشته‌های تربیت‌معلم، بخشنامة شمارة </a:t>
            </a:r>
            <a:r>
              <a:rPr b="0" lang="fa-IR" sz="3200" spc="-1" strike="noStrike">
                <a:solidFill>
                  <a:srgbClr val="000000"/>
                </a:solidFill>
                <a:latin typeface="Calibri"/>
                <a:ea typeface="B Nazanin"/>
              </a:rPr>
              <a:t>140623</a:t>
            </a:r>
            <a:r>
              <a:rPr b="0" lang="fa-IR" sz="3200" spc="-1" strike="noStrike">
                <a:solidFill>
                  <a:srgbClr val="000000"/>
                </a:solidFill>
                <a:latin typeface="Calibri"/>
                <a:ea typeface="B Nazanin"/>
              </a:rPr>
              <a:t> مورخ </a:t>
            </a:r>
            <a:r>
              <a:rPr b="0" lang="fa-IR" sz="3200" spc="-1" strike="noStrike">
                <a:solidFill>
                  <a:srgbClr val="000000"/>
                </a:solidFill>
                <a:latin typeface="Calibri"/>
                <a:ea typeface="B Nazanin"/>
              </a:rPr>
              <a:t>1393/7/7</a:t>
            </a:r>
            <a:r>
              <a:rPr b="0" lang="fa-IR" sz="3200" spc="-1" strike="noStrike">
                <a:solidFill>
                  <a:srgbClr val="000000"/>
                </a:solidFill>
                <a:latin typeface="Calibri"/>
                <a:ea typeface="B Nazanin"/>
              </a:rPr>
              <a:t> مقام عالی وزارت آموزش‌وپرورش»، و «برنامة درسی ملی تربیت معلم» از یک‌سو و تبصرة </a:t>
            </a: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 ذیل مادة </a:t>
            </a:r>
            <a:r>
              <a:rPr b="0" lang="fa-IR" sz="3200" spc="-1" strike="noStrike">
                <a:solidFill>
                  <a:srgbClr val="000000"/>
                </a:solidFill>
                <a:latin typeface="Calibri"/>
                <a:ea typeface="B Nazanin"/>
              </a:rPr>
              <a:t>23</a:t>
            </a:r>
            <a:r>
              <a:rPr b="0" lang="fa-IR" sz="3200" spc="-1" strike="noStrike">
                <a:solidFill>
                  <a:srgbClr val="000000"/>
                </a:solidFill>
                <a:latin typeface="Calibri"/>
                <a:ea typeface="B Nazanin"/>
              </a:rPr>
              <a:t> اساسنامة دانشگاه از سوی دیگر، به موضوع کارورزی اهمیت ویژه‌ای داده شده و آن را بخش جدانشدنی دورة چهار سالة تربیت‌معلم دانسته است. به عبارت دیگر، از سال سوم تحصیل دانشجویان کارشناسی پیوسته، در هر نیم­سال، دانشجو معلم علاوه بر گذراندن واحدهای درسی مشخص، دوره‌های کارورزی مشخصی را نیز می‌گذراند.</a:t>
            </a:r>
            <a:r>
              <a:rPr b="0" lang="en-US" sz="1600" spc="-1" strike="noStrike">
                <a:solidFill>
                  <a:srgbClr val="000000"/>
                </a:solidFill>
                <a:latin typeface="Calibri"/>
                <a:ea typeface="B Nazanin"/>
              </a:rPr>
              <a:t> </a:t>
            </a:r>
            <a:endParaRPr b="0" lang="en-US" sz="1600" spc="-1" strike="noStrike">
              <a:solidFill>
                <a:srgbClr val="000000"/>
              </a:solidFill>
              <a:latin typeface="Calibri"/>
            </a:endParaRPr>
          </a:p>
        </p:txBody>
      </p:sp>
      <p:pic>
        <p:nvPicPr>
          <p:cNvPr id="2964"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رنامه چهارگانه کارورزی در تربیت معلم فکور دانشگاه فرهنگیان</a:t>
            </a:r>
            <a:br>
              <a:rPr sz="3200"/>
            </a:br>
            <a:endParaRPr b="0" lang="en-US" sz="2800" spc="-1" strike="noStrike">
              <a:solidFill>
                <a:srgbClr val="000000"/>
              </a:solidFill>
              <a:latin typeface="Calibri"/>
            </a:endParaRPr>
          </a:p>
        </p:txBody>
      </p:sp>
      <p:graphicFrame>
        <p:nvGraphicFramePr>
          <p:cNvPr id="2966" name=""/>
          <p:cNvGraphicFramePr/>
          <p:nvPr/>
        </p:nvGraphicFramePr>
        <p:xfrm>
          <a:off x="158760" y="907920"/>
          <a:ext cx="8756640" cy="5492880"/>
        </p:xfrm>
        <a:graphic>
          <a:graphicData uri="http://schemas.openxmlformats.org/drawingml/2006/table">
            <a:tbl>
              <a:tblPr/>
              <a:tblGrid>
                <a:gridCol w="2241720"/>
                <a:gridCol w="2184120"/>
                <a:gridCol w="2229120"/>
                <a:gridCol w="2101680"/>
              </a:tblGrid>
              <a:tr h="5492880">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امه قوم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3131640" y="188640"/>
            <a:ext cx="52578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2968" name=""/>
          <p:cNvSpPr txBox="1"/>
          <p:nvPr/>
        </p:nvSpPr>
        <p:spPr>
          <a:xfrm>
            <a:off x="179280" y="981000"/>
            <a:ext cx="8785440" cy="5616720"/>
          </a:xfrm>
          <a:prstGeom prst="rect">
            <a:avLst/>
          </a:prstGeom>
          <a:noFill/>
          <a:ln w="0">
            <a:noFill/>
          </a:ln>
        </p:spPr>
        <p:txBody>
          <a:bodyPr anchor="t">
            <a:normAutofit fontScale="89000"/>
          </a:bodyPr>
          <a:p>
            <a:pPr algn="just" rtl="1">
              <a:lnSpc>
                <a:spcPct val="107000"/>
              </a:lnSpc>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دیابی اجمالی پیاده‌سازی موفق برنامة جدید کارورزی در تربیت معلم فکور نشان می‌دهد، </a:t>
            </a:r>
            <a:r>
              <a:rPr b="0" lang="fa-IR" sz="2400" spc="-1" strike="noStrike">
                <a:solidFill>
                  <a:srgbClr val="000000"/>
                </a:solidFill>
                <a:latin typeface="Calibri"/>
                <a:cs typeface="B Nazanin"/>
              </a:rPr>
              <a:t>از برنامة پیشنهادی کارورزی، </a:t>
            </a:r>
            <a:r>
              <a:rPr b="0" lang="fa-IR" sz="2400" spc="-1" strike="noStrike">
                <a:solidFill>
                  <a:srgbClr val="00b050"/>
                </a:solidFill>
                <a:latin typeface="Calibri"/>
                <a:cs typeface="B Nazanin"/>
              </a:rPr>
              <a:t>در اجرا </a:t>
            </a:r>
            <a:r>
              <a:rPr b="0" lang="fa-IR" sz="2400" spc="-1" strike="noStrike">
                <a:solidFill>
                  <a:srgbClr val="000000"/>
                </a:solidFill>
                <a:latin typeface="Calibri"/>
                <a:cs typeface="B Nazanin"/>
              </a:rPr>
              <a:t>کم و بیش استفادة مؤثری نشده و از نتایج تحقیقات انجام‌شده در زمینة موضوع، جز در نظریه‌پردازی‌ها و یا حداکثر نقل قول یافته‌ها در محافل علمی، فرهنگی و پژوهشی استفاده نمی‌شود. وجود چنین سیمایی از برنامة یادشده، پیامدهایی ازجمله تقویت نگرش منفی یا بی‌توجهی مسئولان مدرسه­ها به کارورزی، دلسردی در پژوهشگران، و اتلاف منابع انسانی و مالی صرف‌شده در مسیر انجام کارورزی را به دنبال خواهد داشت (کرامتی و احمدآباد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جاز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زارع‌صفت،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داد و خروشی، </a:t>
            </a:r>
            <a:r>
              <a:rPr b="0" lang="fa-IR" sz="2400" spc="-1" strike="noStrike">
                <a:solidFill>
                  <a:srgbClr val="000000"/>
                </a:solidFill>
                <a:latin typeface="Calibri"/>
                <a:ea typeface="B Nazanin"/>
              </a:rPr>
              <a:t>1395</a:t>
            </a:r>
            <a:r>
              <a:rPr b="0" lang="fa-IR" sz="2400" spc="-1" strike="noStrike">
                <a:solidFill>
                  <a:srgbClr val="000000"/>
                </a:solidFill>
                <a:latin typeface="Calibri"/>
                <a:cs typeface="B Nazanin"/>
              </a:rPr>
              <a:t>؛ تاتاری و همکاران، </a:t>
            </a:r>
            <a:r>
              <a:rPr b="0" lang="fa-IR" sz="2400" spc="-1" strike="noStrike">
                <a:solidFill>
                  <a:srgbClr val="000000"/>
                </a:solidFill>
                <a:latin typeface="Calibri"/>
                <a:ea typeface="B Nazanin"/>
              </a:rPr>
              <a:t>1395</a:t>
            </a:r>
            <a:r>
              <a:rPr b="0" lang="fa-IR" sz="2400" spc="-1" strike="noStrike">
                <a:solidFill>
                  <a:srgbClr val="000000"/>
                </a:solidFill>
                <a:latin typeface="Calibri"/>
                <a:ea typeface="B Nazanin"/>
              </a:rPr>
              <a:t>).</a:t>
            </a:r>
            <a:endParaRPr b="0" lang="en-US" sz="2400" spc="-1" strike="noStrike">
              <a:solidFill>
                <a:srgbClr val="000000"/>
              </a:solidFill>
              <a:latin typeface="Calibri"/>
            </a:endParaRPr>
          </a:p>
          <a:p>
            <a:pPr algn="just" rtl="1">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با در نظر گرفتن کاستی‌های ذکرشده </a:t>
            </a:r>
            <a:r>
              <a:rPr b="0" lang="fa-IR" sz="2400" spc="-1" strike="noStrike">
                <a:solidFill>
                  <a:srgbClr val="000000"/>
                </a:solidFill>
                <a:latin typeface="Calibri"/>
                <a:cs typeface="B Nazanin"/>
              </a:rPr>
              <a:t>از روند اجرای اولین دورة اجرای برنامة جدید کارورزی در دانشگاه فرهنگیان، در این پژوهش علاوه بر بررسی اسناد و گزارش‌های کارگروه‌های کارورزی از اولین دورة اجرای برنامة کارورزی دانشگاه فرهنگیان، به بررسی دیدگاه استادان راهنمای تربیتی و تخصصی نسبت به موانع اجرای موفق برنامة جدید کارورزی در تربیت معلم فکور پرداخته ش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2:37:14Z</dcterms:created>
  <dc:creator>sinasystem</dc:creator>
  <dc:description/>
  <dc:language>en-US</dc:language>
  <cp:lastModifiedBy>najmeh soltani nejad</cp:lastModifiedBy>
  <dcterms:modified xsi:type="dcterms:W3CDTF">2018-12-04T06:30:40Z</dcterms:modified>
  <cp:revision>96</cp:revision>
  <dc:subject/>
  <dc:title>Slide 1</dc:title>
</cp:coreProperties>
</file>