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D6E-4C41-48A4-A97C-6D9B4F7B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B0C-A8C1-4066-9CB9-216EB6B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844-9672-4461-82ED-353C9370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E2B-7604-4DC0-8276-7D4CFAF3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219-E605-47FA-993D-F96AC05E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2F4-947C-4D0E-90D0-E6A6BC4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12C-D8CC-4B3E-B2D8-79D733D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BD5-1D28-49A2-AAB8-7707853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D0F-5F6E-48A2-870E-2764EA28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DD3-99DC-4135-B581-BDEB8D2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E5B-14FD-4D7E-BE44-263DD999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C88-1F97-4B73-A24B-D54F2BE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2AE5-631F-4F46-920F-672FEAD85C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ّحمن الرّحی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لیل تجربی اخلاق عملی با تأکید بر تعهد تعمیم یافته به مثابه وجه عملی اخلاق اجتماع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ید نقد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ادیار گروه علوم اجتماعی دانشگاه فرهنگیان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ضو بنیاد ملی نخبگان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رس مدعو دانشگاه شهید بهشت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مؤلفه های تعه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66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نمونه های تحقی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عهد عام گ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6320" y="1363680"/>
            <a:ext cx="89154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عهد خاص گ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جمع بند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خانواد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عایت انص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شارکت در اجرا و تصمیم گی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فتار فردگرایانه متو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فردگرایی خودخواهانه (افراطی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عام گرای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خاص گرای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درس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ویت رابطه ای مدرسه ا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شعا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تقویت هویت مل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تعریض افق هنج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نجمن اولیا و مربیان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نفوذ اجتماع طبیعی در اجتماع سازمان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رتقای دانش و مهارت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قدام پژوهی: توزیع نتای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جمع بند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سطح کلا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احساس نابرابری (شرایط عادلانه توزیع مزای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حمایت های بالادست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سانه (آموزش غیرمستقیم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هر اقدامی معطوف به فرد، موقتی، و شک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دانشگاه فرهنگیان: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جذب دانشجویان قوی و پرانگیز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تقویت وجوه مددکاری در نظام شخصیت دانشجومعل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Nazanin"/>
              </a:rPr>
              <a:t>پایان  </a:t>
            </a:r>
            <a:br>
              <a:rPr sz="4800"/>
            </a:br>
            <a:br>
              <a:rPr sz="4800"/>
            </a:b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تشکر از حوصله شما سروران محت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ح مسأ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یوع انحرافات؛ تضعیف اخل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اختلاس و ارتشاء، خشونت خیابانی، خشونت مدرسه ای، سوء مصرف سیگار و انواع دیگر دخانی، مشروب خواری، کجروی های جنسی، دزدی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عایت هنجارهای اجتماع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جروی اجتماعی.........................................  اخلاق اجتماع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219320"/>
            <a:ext cx="9144000" cy="5257440"/>
            <a:chOff x="0" y="1219320"/>
            <a:chExt cx="9144000" cy="5257440"/>
          </a:xfrm>
        </p:grpSpPr>
        <p:sp>
          <p:nvSpPr>
            <p:cNvPr id="46" name="AutoShape 3"/>
            <p:cNvSpPr/>
            <p:nvPr/>
          </p:nvSpPr>
          <p:spPr>
            <a:xfrm>
              <a:off x="0" y="1219320"/>
              <a:ext cx="914400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4170240" y="1219320"/>
              <a:ext cx="1226160" cy="16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B Nazanin"/>
                  <a:cs typeface="B Nazanin"/>
                </a:rPr>
                <a:t>ا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380880" y="3681360"/>
              <a:ext cx="312192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اجتماعی اخلاق (عمل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ی):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احساس مسئولیت و تعهد نسبت به "دیگرا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953320" y="3681360"/>
              <a:ext cx="306936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فرهنگی اخلاق (نظری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)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هنجارها و فرمان های اخلاقی مثل "دروغ نگو" و "انصاف داشته با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503160" y="3681360"/>
              <a:ext cx="2450160" cy="8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شروط کردن (تأمین انرژی عاطف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3503160" y="5655960"/>
              <a:ext cx="2450160" cy="8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جهت دادن (تأمین اجتماع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3601440" y="4574160"/>
              <a:ext cx="2205000" cy="540360"/>
            </a:xfrm>
            <a:prstGeom prst="rightArrow">
              <a:avLst>
                <a:gd name="adj1" fmla="val 50000"/>
                <a:gd name="adj2" fmla="val 102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3601440" y="5033520"/>
              <a:ext cx="2205000" cy="541080"/>
            </a:xfrm>
            <a:prstGeom prst="leftArrow">
              <a:avLst>
                <a:gd name="adj1" fmla="val 50000"/>
                <a:gd name="adj2" fmla="val 1018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AutoShape 11"/>
            <p:cNvCxnSpPr>
              <a:stCxn id="47" idx="3"/>
              <a:endCxn id="49" idx="0"/>
            </p:cNvCxnSpPr>
            <p:nvPr/>
          </p:nvCxnSpPr>
          <p:spPr>
            <a:xfrm>
              <a:off x="5396400" y="2031120"/>
              <a:ext cx="209268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12"/>
            <p:cNvCxnSpPr>
              <a:stCxn id="47" idx="1"/>
              <a:endCxn id="48" idx="0"/>
            </p:cNvCxnSpPr>
            <p:nvPr/>
          </p:nvCxnSpPr>
          <p:spPr>
            <a:xfrm flipV="1" rot="10800000">
              <a:off x="1941120" y="2030760"/>
              <a:ext cx="222876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3"/>
          <p:cNvGrpSpPr/>
          <p:nvPr/>
        </p:nvGrpSpPr>
        <p:grpSpPr>
          <a:xfrm>
            <a:off x="0" y="1219320"/>
            <a:ext cx="9144000" cy="5257440"/>
            <a:chOff x="0" y="1219320"/>
            <a:chExt cx="9144000" cy="5257440"/>
          </a:xfrm>
        </p:grpSpPr>
        <p:sp>
          <p:nvSpPr>
            <p:cNvPr id="57" name="AutoShape 14"/>
            <p:cNvSpPr/>
            <p:nvPr/>
          </p:nvSpPr>
          <p:spPr>
            <a:xfrm>
              <a:off x="0" y="1219320"/>
              <a:ext cx="914400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4170240" y="1219320"/>
              <a:ext cx="1226160" cy="16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B Nazanin"/>
                  <a:cs typeface="B Nazanin"/>
                </a:rPr>
                <a:t>ا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380880" y="3681360"/>
              <a:ext cx="312192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اجتماعی اخلاق (عمل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ی):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احساس مسئولیت و تعهد نسبت به "دیگرا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5953320" y="3681360"/>
              <a:ext cx="306936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فرهنگی اخلاق (نظری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)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هنجارها و فرمان های اخلاقی مثل "دروغ نگو" و "انصاف داشته با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3503160" y="3681360"/>
              <a:ext cx="2450160" cy="8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شروط کردن (تأمین انرژی عاطف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3503160" y="5655960"/>
              <a:ext cx="2450160" cy="8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جهت دادن (تأمین اجتماع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0"/>
            <p:cNvSpPr/>
            <p:nvPr/>
          </p:nvSpPr>
          <p:spPr>
            <a:xfrm>
              <a:off x="3601440" y="4574160"/>
              <a:ext cx="2205000" cy="540360"/>
            </a:xfrm>
            <a:prstGeom prst="rightArrow">
              <a:avLst>
                <a:gd name="adj1" fmla="val 50000"/>
                <a:gd name="adj2" fmla="val 102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1"/>
            <p:cNvSpPr/>
            <p:nvPr/>
          </p:nvSpPr>
          <p:spPr>
            <a:xfrm>
              <a:off x="3601440" y="5033520"/>
              <a:ext cx="2205000" cy="541080"/>
            </a:xfrm>
            <a:prstGeom prst="leftArrow">
              <a:avLst>
                <a:gd name="adj1" fmla="val 50000"/>
                <a:gd name="adj2" fmla="val 1018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AutoShape 22"/>
            <p:cNvCxnSpPr>
              <a:stCxn id="58" idx="3"/>
              <a:endCxn id="60" idx="0"/>
            </p:cNvCxnSpPr>
            <p:nvPr/>
          </p:nvCxnSpPr>
          <p:spPr>
            <a:xfrm>
              <a:off x="5396400" y="2031120"/>
              <a:ext cx="209268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23"/>
            <p:cNvCxnSpPr>
              <a:stCxn id="58" idx="1"/>
              <a:endCxn id="59" idx="0"/>
            </p:cNvCxnSpPr>
            <p:nvPr/>
          </p:nvCxnSpPr>
          <p:spPr>
            <a:xfrm flipV="1" rot="10800000">
              <a:off x="1941120" y="2030760"/>
              <a:ext cx="222876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نظریه نظم اجتماع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ش تعهد (وجه عملی اخلا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تعلیم و تربیت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خانو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مدرس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مح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رس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ش کدامیک مهمتر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نقش کدامیک از عوامل تربیتی مهمتر اس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درس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 روابط همسان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فارغ از تعلق به گروه های اولیه، هنجارهای اخلاقی را در مورد دیگران رعایت کنند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 ارتباط با دیگر اعیان اجتماعی و فرهنگی (سف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وصل به اجتماع کل (اجتماع جامعه ا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رسش های تحقی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چگونه می توان در مدرسه یک اجتماع سازمانی تولید کرد؟ بطوریکه تعهد دانش آموزان شکل عام گرا بگیر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قویت تعهد تعمیم یافته کدام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نتخاب نمونه: دبیرستان ولای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فت تحصیلی شد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مرد شدید از اولیای خانه و مدر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خشونت مدرسه ای و خیابا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درگیری با اولیای مدر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شکیل گروه بندی های نسبتاً متخاص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از طرف دی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نگاه منفی آموزش و پرورش منطق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ات بسیار محدود مالی مدر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وان مالی پایین اولیای دانش آمو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قدامات انجام شده در مدرسه ولای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گروهی (کلاسی) به دانش آموزان: هویت محله ای، هویت دانش آموزی، روابط اجتماعی، حق و وظیفه، نیازها و خواسته ها، رسیدگی به پرسشها و مسائ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فردی به دانش آمو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داره نشست های انجمن اولیا و مربیان: نیازها و خواسته ها، روابط اجتماعی درون گروهی (جوانان)، روابط اجتماعی محله ا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گروهی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فردی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افزایش شرکت کنندگان؛ تشکیل روابط اجتماعی؛ کاهش شدید کجرفتاری های جوانان؛ افزایش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درصدی قبولی خ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تحقیق کمی: فرضیه های عوامل مؤثر بر تعهد تعمیم یافت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meh soltani nejad</dc:creator>
  <dc:description/>
  <dc:language>en-US</dc:language>
  <cp:lastModifiedBy>najmeh soltani nejad</cp:lastModifiedBy>
  <dcterms:modified xsi:type="dcterms:W3CDTF">2019-01-20T10:38:3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