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5BA2-2D4D-4BB9-9376-761C4AEB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B139-94B4-4013-9927-AB270F61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ED7B-4FAD-47A3-9B4F-FED926BF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25E-FA64-4391-B3F0-A95D8F83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DEE3-16EC-4116-9777-49F26141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4F36-4851-43D3-994D-6FF00A7C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2736-0D2A-474F-AD81-190059B1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EF50-7D93-493A-93FC-2452F2C7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25BB-D17A-4F23-BAFF-A08BC082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0EE-2EE4-4180-8523-C57B01BD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98F7-DD67-482E-ADF8-AB688B05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F8D8-6486-4930-94E0-E6C42184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5A2E-5FCB-4363-9082-279F4CB9C4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م الله الرّحمن الرّحی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لیل تجربی اخلاق عملی با تأکید بر تعهد تعمیم یافته به مثابه وجه عملی اخلاق اجتماع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حید نقد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ادیار گروه علوم اجتماعی دانشگاه فرهنگیان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ضو بنیاد ملی نخبگان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رس مدعو دانشگاه شهید بهشت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مؤلفه های تعه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66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816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نمونه های تحقی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61048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عوامل مؤثر بر تعهد عام گر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6320" y="1363680"/>
            <a:ext cx="891540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عوامل مؤثر بر تعهد خاص گر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جمع بند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خانواده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رعایت انص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مشارکت در اجرا و تصمیم گیر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رفتار فردگرایانه متول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فردگرایی خودخواهانه (افراطی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←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عام گرای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←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خاص گرای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مدرسه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هویت رابطه ای مدرسه ا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←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شعاع محدو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تقویت هویت مل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←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تعریض افق هنجار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انجمن اولیا و مربیان: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نفوذ اجتماع طبیعی در اجتماع سازمانی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ارتقای دانش و مهارت خانوا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اقدام پژوهی: توزیع نتای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جمع بند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سطح کلان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احساس نابرابری (شرایط عادلانه توزیع مزایا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حمایت های بالادست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رسانه (آموزش غیرمستقیم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←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هر اقدامی معطوف به فرد، موقتی، و شکنن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دانشگاه فرهنگیان: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جذب دانشجویان قوی و پرانگیز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تقویت وجوه مددکاری در نظام شخصیت دانشجومعلم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Nazanin"/>
              </a:rPr>
              <a:t>پایان  </a:t>
            </a:r>
            <a:br>
              <a:rPr sz="4800"/>
            </a:br>
            <a:br>
              <a:rPr sz="4800"/>
            </a:b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تشکر از حوصله شما سروران محتر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رح مسأل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یوع انحرافات؛ تضعیف اخلا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اختلاس و ارتشاء، خشونت خیابانی، خشونت مدرسه ای، سوء مصرف سیگار و انواع دیگر دخانی، مشروب خواری، کجروی های جنسی، دزدی،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عایت هنجارهای اجتماع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جروی اجتماعی.........................................  اخلاق اجتماع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1219320"/>
            <a:ext cx="9144000" cy="5257440"/>
            <a:chOff x="0" y="1219320"/>
            <a:chExt cx="9144000" cy="5257440"/>
          </a:xfrm>
        </p:grpSpPr>
        <p:sp>
          <p:nvSpPr>
            <p:cNvPr id="46" name="AutoShape 3"/>
            <p:cNvSpPr/>
            <p:nvPr/>
          </p:nvSpPr>
          <p:spPr>
            <a:xfrm>
              <a:off x="0" y="1219320"/>
              <a:ext cx="9144000" cy="52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4"/>
            <p:cNvSpPr/>
            <p:nvPr/>
          </p:nvSpPr>
          <p:spPr>
            <a:xfrm>
              <a:off x="4170240" y="1219320"/>
              <a:ext cx="1226160" cy="162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B Nazanin"/>
                  <a:cs typeface="B Nazanin"/>
                </a:rPr>
                <a:t>اخلا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"/>
            <p:cNvSpPr/>
            <p:nvPr/>
          </p:nvSpPr>
          <p:spPr>
            <a:xfrm>
              <a:off x="380880" y="3681360"/>
              <a:ext cx="3121920" cy="27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بُعد اجتماعی اخلاق (عمل</a:t>
              </a:r>
              <a:r>
                <a:rPr b="0" lang="fa-IR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ی): 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احساس مسئولیت و تعهد نسبت به "دیگران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B Nazanin"/>
                </a:rPr>
                <a:t>"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6"/>
            <p:cNvSpPr/>
            <p:nvPr/>
          </p:nvSpPr>
          <p:spPr>
            <a:xfrm>
              <a:off x="5953320" y="3681360"/>
              <a:ext cx="3069360" cy="27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بُعد فرهنگی اخلاق (نظری</a:t>
              </a:r>
              <a:r>
                <a:rPr b="0" lang="fa-IR" sz="2400" spc="-1" strike="noStrike">
                  <a:solidFill>
                    <a:srgbClr val="000000"/>
                  </a:solidFill>
                  <a:latin typeface="Times New Roman"/>
                  <a:ea typeface="B Nazanin"/>
                </a:rPr>
                <a:t>)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هنجارها و فرمان های اخلاقی مثل "دروغ نگو" و "انصاف داشته با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B Nazanin"/>
                </a:rPr>
                <a:t>"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7"/>
            <p:cNvSpPr/>
            <p:nvPr/>
          </p:nvSpPr>
          <p:spPr>
            <a:xfrm>
              <a:off x="3503160" y="3681360"/>
              <a:ext cx="2450160" cy="88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شروط کردن (تأمین انرژی عاطفی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3503160" y="5655960"/>
              <a:ext cx="2450160" cy="82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جهت دادن (تأمین اجتماع</a:t>
              </a:r>
              <a:r>
                <a:rPr b="0" lang="fa-IR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ی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9"/>
            <p:cNvSpPr/>
            <p:nvPr/>
          </p:nvSpPr>
          <p:spPr>
            <a:xfrm>
              <a:off x="3601440" y="4574160"/>
              <a:ext cx="2205000" cy="540360"/>
            </a:xfrm>
            <a:prstGeom prst="rightArrow">
              <a:avLst>
                <a:gd name="adj1" fmla="val 50000"/>
                <a:gd name="adj2" fmla="val 1020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10"/>
            <p:cNvSpPr/>
            <p:nvPr/>
          </p:nvSpPr>
          <p:spPr>
            <a:xfrm>
              <a:off x="3601440" y="5033520"/>
              <a:ext cx="2205000" cy="541080"/>
            </a:xfrm>
            <a:prstGeom prst="leftArrow">
              <a:avLst>
                <a:gd name="adj1" fmla="val 50000"/>
                <a:gd name="adj2" fmla="val 10188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AutoShape 11"/>
            <p:cNvCxnSpPr>
              <a:stCxn id="47" idx="3"/>
              <a:endCxn id="49" idx="0"/>
            </p:cNvCxnSpPr>
            <p:nvPr/>
          </p:nvCxnSpPr>
          <p:spPr>
            <a:xfrm>
              <a:off x="5396400" y="2031120"/>
              <a:ext cx="2092680" cy="1650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AutoShape 12"/>
            <p:cNvCxnSpPr>
              <a:stCxn id="47" idx="1"/>
              <a:endCxn id="48" idx="0"/>
            </p:cNvCxnSpPr>
            <p:nvPr/>
          </p:nvCxnSpPr>
          <p:spPr>
            <a:xfrm flipV="1" rot="10800000">
              <a:off x="1941120" y="2030760"/>
              <a:ext cx="2228760" cy="1650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" name="Group 13"/>
          <p:cNvGrpSpPr/>
          <p:nvPr/>
        </p:nvGrpSpPr>
        <p:grpSpPr>
          <a:xfrm>
            <a:off x="0" y="1219320"/>
            <a:ext cx="9144000" cy="5257440"/>
            <a:chOff x="0" y="1219320"/>
            <a:chExt cx="9144000" cy="5257440"/>
          </a:xfrm>
        </p:grpSpPr>
        <p:sp>
          <p:nvSpPr>
            <p:cNvPr id="57" name="AutoShape 14"/>
            <p:cNvSpPr/>
            <p:nvPr/>
          </p:nvSpPr>
          <p:spPr>
            <a:xfrm>
              <a:off x="0" y="1219320"/>
              <a:ext cx="9144000" cy="52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5"/>
            <p:cNvSpPr/>
            <p:nvPr/>
          </p:nvSpPr>
          <p:spPr>
            <a:xfrm>
              <a:off x="4170240" y="1219320"/>
              <a:ext cx="1226160" cy="162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B Nazanin"/>
                  <a:cs typeface="B Nazanin"/>
                </a:rPr>
                <a:t>اخلا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6"/>
            <p:cNvSpPr/>
            <p:nvPr/>
          </p:nvSpPr>
          <p:spPr>
            <a:xfrm>
              <a:off x="380880" y="3681360"/>
              <a:ext cx="3121920" cy="27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بُعد اجتماعی اخلاق (عمل</a:t>
              </a:r>
              <a:r>
                <a:rPr b="1" lang="fa-IR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ی): 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احساس مسئولیت و تعهد نسبت به "دیگران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B Nazanin"/>
                </a:rPr>
                <a:t>"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7"/>
            <p:cNvSpPr/>
            <p:nvPr/>
          </p:nvSpPr>
          <p:spPr>
            <a:xfrm>
              <a:off x="5953320" y="3681360"/>
              <a:ext cx="3069360" cy="27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بُعد فرهنگی اخلاق (نظری</a:t>
              </a:r>
              <a:r>
                <a:rPr b="1" lang="fa-IR" sz="2400" spc="-1" strike="noStrike">
                  <a:solidFill>
                    <a:srgbClr val="000000"/>
                  </a:solidFill>
                  <a:latin typeface="Times New Roman"/>
                  <a:ea typeface="B Nazanin"/>
                </a:rPr>
                <a:t>)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هنجارها و فرمان های اخلاقی مثل "دروغ نگو" و "انصاف داشته با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B Nazanin"/>
                </a:rPr>
                <a:t>"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8"/>
            <p:cNvSpPr/>
            <p:nvPr/>
          </p:nvSpPr>
          <p:spPr>
            <a:xfrm>
              <a:off x="3503160" y="3681360"/>
              <a:ext cx="2450160" cy="88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شروط کردن (تأمین انرژی عاطفی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9"/>
            <p:cNvSpPr/>
            <p:nvPr/>
          </p:nvSpPr>
          <p:spPr>
            <a:xfrm>
              <a:off x="3503160" y="5655960"/>
              <a:ext cx="2450160" cy="82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جهت دادن (تأمین اجتماع</a:t>
              </a:r>
              <a:r>
                <a:rPr b="0" lang="fa-IR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ی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0"/>
            <p:cNvSpPr/>
            <p:nvPr/>
          </p:nvSpPr>
          <p:spPr>
            <a:xfrm>
              <a:off x="3601440" y="4574160"/>
              <a:ext cx="2205000" cy="540360"/>
            </a:xfrm>
            <a:prstGeom prst="rightArrow">
              <a:avLst>
                <a:gd name="adj1" fmla="val 50000"/>
                <a:gd name="adj2" fmla="val 1020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21"/>
            <p:cNvSpPr/>
            <p:nvPr/>
          </p:nvSpPr>
          <p:spPr>
            <a:xfrm>
              <a:off x="3601440" y="5033520"/>
              <a:ext cx="2205000" cy="541080"/>
            </a:xfrm>
            <a:prstGeom prst="leftArrow">
              <a:avLst>
                <a:gd name="adj1" fmla="val 50000"/>
                <a:gd name="adj2" fmla="val 10188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AutoShape 22"/>
            <p:cNvCxnSpPr>
              <a:stCxn id="58" idx="3"/>
              <a:endCxn id="60" idx="0"/>
            </p:cNvCxnSpPr>
            <p:nvPr/>
          </p:nvCxnSpPr>
          <p:spPr>
            <a:xfrm>
              <a:off x="5396400" y="2031120"/>
              <a:ext cx="2092680" cy="1650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" name="AutoShape 23"/>
            <p:cNvCxnSpPr>
              <a:stCxn id="58" idx="1"/>
              <a:endCxn id="59" idx="0"/>
            </p:cNvCxnSpPr>
            <p:nvPr/>
          </p:nvCxnSpPr>
          <p:spPr>
            <a:xfrm flipV="1" rot="10800000">
              <a:off x="1941120" y="2030760"/>
              <a:ext cx="2228760" cy="1650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نظریه نظم اجتماع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ش تعهد (وجه عملی اخلاق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تعلیم و تربیت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خانوا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مدرس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محل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رسا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ش کدامیک مهمتر است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نقش کدامیک از عوامل تربیتی مهمتر است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مدرسه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) امکان روابط همسان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) فارغ از تعلق به گروه های اولیه، هنجارهای اخلاقی را در مورد دیگران رعایت کنند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) امکان ارتباط با دیگر اعیان اجتماعی و فرهنگی (سف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B Nazanin"/>
              </a:rPr>
              <a:t>←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وصل به اجتماع کل (اجتماع جامعه ا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پرسش های تحقی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چگونه می توان در مدرسه یک اجتماع سازمانی تولید کرد؟ بطوریکه تعهد دانش آموزان شکل عام گرا بگیرد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عوامل مؤثر بر تقویت تعهد تعمیم یافته کدامند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انتخاب نمونه: دبیرستان ولای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افت تحصیلی شدی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تمرد شدید از اولیای خانه و مدرس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خشونت مدرسه ای و خیابان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درگیری با اولیای مدرس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تشکیل گروه بندی های نسبتاً متخاص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از طرف دیگ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نگاه منفی آموزش و پرورش منطق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امکانات بسیار محدود مالی مدرس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توان مالی پایین اولیای دانش آموز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اقدامات انجام شده در مدرسه ولای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مشاوره گروهی (کلاسی) به دانش آموزان: هویت محله ای، هویت دانش آموزی، روابط اجتماعی، حق و وظیفه، نیازها و خواسته ها، رسیدگی به پرسشها و مسائ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مشاوره فردی به دانش آموز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اداره نشست های انجمن اولیا و مربیان: نیازها و خواسته ها، روابط اجتماعی درون گروهی (جوانان)، روابط اجتماعی محله ا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مشاوره گروهی خانوا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مشاوره فردی خانوا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B Nazanin"/>
              </a:rPr>
              <a:t>←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افزایش شرکت کنندگان؛ تشکیل روابط اجتماعی؛ کاهش شدید کجرفتاری های جوانان؛ افزایش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11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درصدی قبولی خردا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Nazanin"/>
              </a:rPr>
              <a:t>تحقیق کمی: فرضیه های عوامل مؤثر بر تعهد تعمیم یافت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381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jmeh soltani nejad</dc:creator>
  <dc:description/>
  <dc:language>en-US</dc:language>
  <cp:lastModifiedBy>najmeh soltani nejad</cp:lastModifiedBy>
  <dcterms:modified xsi:type="dcterms:W3CDTF">2019-01-20T10:38:34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