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035B-A2A7-43C3-8466-469C450A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863-8D98-42A5-85DD-E9567E2A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E7D3-A1D5-4A12-AA91-A74586A88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0DC-6E77-44C9-A2CF-CBD64884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1A7-F03D-4F0C-9BD9-2BF675B1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9CF-AAE2-4E46-ACE5-0393AEFD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FAB-E6F9-4C30-82ED-7DABCEF5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D0DC-D8BC-4BE5-9A59-01E7A61C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6301-B910-4E70-8F7C-8D0C12F5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365-0A32-436B-8ADA-F7102B9A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C28-99B7-40E2-B20F-6A93B80D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9D1E-133F-4D94-A855-50480DF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A60B-E116-48E3-A06B-166EA64999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ّحمن الرّحی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لیل تجربی اخلاق عملی با تأکید بر تعهد تعمیم یافته به مثابه وجه عملی اخلاق اجتماع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حید نقد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ادیار گروه علوم اجتماعی دانشگاه فرهنگیان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ضو بنیاد ملی نخبگان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رس مدعو دانشگاه شهید بهشت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مؤلفه های تعه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66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816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نمونه های تحقی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6104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عوامل مؤثر بر تعهد عام گ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6320" y="1363680"/>
            <a:ext cx="891540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عوامل مؤثر بر تعهد خاص گر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جمع بند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خانواد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رعایت انص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شارکت در اجرا و تصمیم گی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رفتار فردگرایانه متوله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فردگرایی خودخواهانه (افراطی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عام گرای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خاص گرای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درس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هویت رابطه ای مدرسه ا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شعاع محد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تقویت هویت مل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تعریض افق هنجار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نجمن اولیا و مربیان: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نفوذ اجتماع طبیعی در اجتماع سازمانی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رتقای دانش و مهارت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قدام پژوهی: توزیع نتای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جمع بند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سطح کلا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احساس نابرابری (شرایط عادلانه توزیع مزای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حمایت های بالادست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رسانه (آموزش غیرمستقیم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هر اقدامی معطوف به فرد، موقتی، و شکنن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دانشگاه فرهنگیان: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جذب دانشجویان قوی و پرانگیز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تقویت وجوه مددکاری در نظام شخصیت دانشجومعل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Nazanin"/>
              </a:rPr>
              <a:t>پایان  </a:t>
            </a:r>
            <a:br>
              <a:rPr sz="4800"/>
            </a:br>
            <a:br>
              <a:rPr sz="4800"/>
            </a:b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تشکر از حوصله شما سروران محتر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رح مسأل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یوع انحرافات؛ تضعیف اخلا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اختلاس و ارتشاء، خشونت خیابانی، خشونت مدرسه ای، سوء مصرف سیگار و انواع دیگر دخانی، مشروب خواری، کجروی های جنسی، دزدی،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عایت هنجارهای اجتماع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کجروی اجتماعی.........................................  اخلاق اجتماع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1219320"/>
            <a:ext cx="9144000" cy="5257440"/>
            <a:chOff x="0" y="1219320"/>
            <a:chExt cx="9144000" cy="5257440"/>
          </a:xfrm>
        </p:grpSpPr>
        <p:sp>
          <p:nvSpPr>
            <p:cNvPr id="46" name="AutoShape 3"/>
            <p:cNvSpPr/>
            <p:nvPr/>
          </p:nvSpPr>
          <p:spPr>
            <a:xfrm>
              <a:off x="0" y="1219320"/>
              <a:ext cx="9144000" cy="52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4"/>
            <p:cNvSpPr/>
            <p:nvPr/>
          </p:nvSpPr>
          <p:spPr>
            <a:xfrm>
              <a:off x="4170240" y="1219320"/>
              <a:ext cx="1226160" cy="162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B Nazanin"/>
                  <a:cs typeface="B Nazanin"/>
                </a:rPr>
                <a:t>اخلا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380880" y="3681360"/>
              <a:ext cx="312192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اجتماعی اخلاق (عمل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ی):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احساس مسئولیت و تعهد نسبت به "دیگرا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6"/>
            <p:cNvSpPr/>
            <p:nvPr/>
          </p:nvSpPr>
          <p:spPr>
            <a:xfrm>
              <a:off x="5953320" y="3681360"/>
              <a:ext cx="306936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فرهنگی اخلاق (نظری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)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هنجارها و فرمان های اخلاقی مثل "دروغ نگو" و "انصاف داشته با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7"/>
            <p:cNvSpPr/>
            <p:nvPr/>
          </p:nvSpPr>
          <p:spPr>
            <a:xfrm>
              <a:off x="3503160" y="3681360"/>
              <a:ext cx="2450160" cy="88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شروط کردن (تأمین انرژی عاطف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3503160" y="5655960"/>
              <a:ext cx="2450160" cy="82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جهت دادن (تأمین اجتماع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9"/>
            <p:cNvSpPr/>
            <p:nvPr/>
          </p:nvSpPr>
          <p:spPr>
            <a:xfrm>
              <a:off x="3601440" y="4574160"/>
              <a:ext cx="2205000" cy="540360"/>
            </a:xfrm>
            <a:prstGeom prst="rightArrow">
              <a:avLst>
                <a:gd name="adj1" fmla="val 50000"/>
                <a:gd name="adj2" fmla="val 102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10"/>
            <p:cNvSpPr/>
            <p:nvPr/>
          </p:nvSpPr>
          <p:spPr>
            <a:xfrm>
              <a:off x="3601440" y="5033520"/>
              <a:ext cx="2205000" cy="541080"/>
            </a:xfrm>
            <a:prstGeom prst="leftArrow">
              <a:avLst>
                <a:gd name="adj1" fmla="val 50000"/>
                <a:gd name="adj2" fmla="val 1018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AutoShape 11"/>
            <p:cNvCxnSpPr>
              <a:stCxn id="47" idx="3"/>
              <a:endCxn id="49" idx="0"/>
            </p:cNvCxnSpPr>
            <p:nvPr/>
          </p:nvCxnSpPr>
          <p:spPr>
            <a:xfrm>
              <a:off x="5396400" y="2031120"/>
              <a:ext cx="209268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AutoShape 12"/>
            <p:cNvCxnSpPr>
              <a:stCxn id="47" idx="1"/>
              <a:endCxn id="48" idx="0"/>
            </p:cNvCxnSpPr>
            <p:nvPr/>
          </p:nvCxnSpPr>
          <p:spPr>
            <a:xfrm flipV="1" rot="10800000">
              <a:off x="1941120" y="2030760"/>
              <a:ext cx="222876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3"/>
          <p:cNvGrpSpPr/>
          <p:nvPr/>
        </p:nvGrpSpPr>
        <p:grpSpPr>
          <a:xfrm>
            <a:off x="0" y="1219320"/>
            <a:ext cx="9144000" cy="5257440"/>
            <a:chOff x="0" y="1219320"/>
            <a:chExt cx="9144000" cy="5257440"/>
          </a:xfrm>
        </p:grpSpPr>
        <p:sp>
          <p:nvSpPr>
            <p:cNvPr id="57" name="AutoShape 14"/>
            <p:cNvSpPr/>
            <p:nvPr/>
          </p:nvSpPr>
          <p:spPr>
            <a:xfrm>
              <a:off x="0" y="1219320"/>
              <a:ext cx="9144000" cy="52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5"/>
            <p:cNvSpPr/>
            <p:nvPr/>
          </p:nvSpPr>
          <p:spPr>
            <a:xfrm>
              <a:off x="4170240" y="1219320"/>
              <a:ext cx="1226160" cy="162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B Nazanin"/>
                  <a:cs typeface="B Nazanin"/>
                </a:rPr>
                <a:t>اخلا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6"/>
            <p:cNvSpPr/>
            <p:nvPr/>
          </p:nvSpPr>
          <p:spPr>
            <a:xfrm>
              <a:off x="380880" y="3681360"/>
              <a:ext cx="312192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اجتماعی اخلاق (عمل</a:t>
              </a: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ی): </a:t>
              </a: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احساس مسئولیت و تعهد نسبت به "دیگران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7"/>
            <p:cNvSpPr/>
            <p:nvPr/>
          </p:nvSpPr>
          <p:spPr>
            <a:xfrm>
              <a:off x="5953320" y="3681360"/>
              <a:ext cx="3069360" cy="279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بُعد فرهنگی اخلاق (نظری</a:t>
              </a: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)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B Nazanin"/>
                </a:rPr>
                <a:t>هنجارها و فرمان های اخلاقی مثل "دروغ نگو" و "انصاف داشته باش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B Nazanin"/>
                </a:rPr>
                <a:t>"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8"/>
            <p:cNvSpPr/>
            <p:nvPr/>
          </p:nvSpPr>
          <p:spPr>
            <a:xfrm>
              <a:off x="3503160" y="3681360"/>
              <a:ext cx="2450160" cy="88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شروط کردن (تأمین انرژی عاطفی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9"/>
            <p:cNvSpPr/>
            <p:nvPr/>
          </p:nvSpPr>
          <p:spPr>
            <a:xfrm>
              <a:off x="3503160" y="5655960"/>
              <a:ext cx="2450160" cy="82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جهت دادن (تأمین اجتماع</a:t>
              </a:r>
              <a:r>
                <a:rPr b="0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0"/>
            <p:cNvSpPr/>
            <p:nvPr/>
          </p:nvSpPr>
          <p:spPr>
            <a:xfrm>
              <a:off x="3601440" y="4574160"/>
              <a:ext cx="2205000" cy="540360"/>
            </a:xfrm>
            <a:prstGeom prst="rightArrow">
              <a:avLst>
                <a:gd name="adj1" fmla="val 50000"/>
                <a:gd name="adj2" fmla="val 1020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1"/>
            <p:cNvSpPr/>
            <p:nvPr/>
          </p:nvSpPr>
          <p:spPr>
            <a:xfrm>
              <a:off x="3601440" y="5033520"/>
              <a:ext cx="2205000" cy="541080"/>
            </a:xfrm>
            <a:prstGeom prst="leftArrow">
              <a:avLst>
                <a:gd name="adj1" fmla="val 50000"/>
                <a:gd name="adj2" fmla="val 1018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" name="AutoShape 22"/>
            <p:cNvCxnSpPr>
              <a:stCxn id="58" idx="3"/>
              <a:endCxn id="60" idx="0"/>
            </p:cNvCxnSpPr>
            <p:nvPr/>
          </p:nvCxnSpPr>
          <p:spPr>
            <a:xfrm>
              <a:off x="5396400" y="2031120"/>
              <a:ext cx="209268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" name="AutoShape 23"/>
            <p:cNvCxnSpPr>
              <a:stCxn id="58" idx="1"/>
              <a:endCxn id="59" idx="0"/>
            </p:cNvCxnSpPr>
            <p:nvPr/>
          </p:nvCxnSpPr>
          <p:spPr>
            <a:xfrm flipV="1" rot="10800000">
              <a:off x="1941120" y="2030760"/>
              <a:ext cx="2228760" cy="1650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نظریه نظم اجتماع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پرورش تعهد (وجه عملی اخلاق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وامل تعلیم و تربیت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خانواد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مدرس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مح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رسا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قش کدامیک مهمتر اس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نقش کدامیک از عوامل تربیتی مهمتر است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درسه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امکان روابط همسان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فارغ از تعلق به گروه های اولیه، هنجارهای اخلاقی را در مورد دیگران رعایت کنند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) امکان ارتباط با دیگر اعیان اجتماعی و فرهنگی (سف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وصل به اجتماع کل (اجتماع جامعه ا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رسش های تحقی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90680" indent="-4906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چگونه می توان در مدرسه یک اجتماع سازمانی تولید کرد؟ بطوریکه تعهد دانش آموزان شکل عام گرا بگیر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 algn="r" rtl="1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عوامل مؤثر بر تقویت تعهد تعمیم یافته کدامن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نتخاب نمونه: دبیرستان ولای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فت تحصیلی شدی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تمرد شدید از اولیای خانه و مدر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خشونت مدرسه ای و خیابان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درگیری با اولیای مدرس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تشکیل گروه بندی های نسبتاً متخاص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از طرف دیگ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نگاه منفی آموزش و پرورش منطق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مکانات بسیار محدود مالی مدرس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توان مالی پایین اولیای دانش آموز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قدامات انجام شده در مدرسه ولای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گروهی (کلاسی) به دانش آموزان: هویت محله ای، هویت دانش آموزی، روابط اجتماعی، حق و وظیفه، نیازها و خواسته ها، رسیدگی به پرسشها و مسائ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فردی به دانش آموز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اداره نشست های انجمن اولیا و مربیان: نیازها و خواسته ها، روابط اجتماعی درون گروهی (جوانان)، روابط اجتماعی محله ا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گروهی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   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) مشاوره فردی خانواد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B Nazanin"/>
              </a:rPr>
              <a:t>←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افزایش شرکت کنندگان؛ تشکیل روابط اجتماعی؛ کاهش شدید کجرفتاری های جوانان؛ افزایش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1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درصدی قبولی خر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000000"/>
                </a:solidFill>
                <a:latin typeface="Arial"/>
                <a:cs typeface="B Nazanin"/>
              </a:rPr>
              <a:t>تحقیق کمی: فرضیه های عوامل مؤثر بر تعهد تعمیم یافت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381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jmeh soltani nejad</dc:creator>
  <dc:description/>
  <dc:language>en-US</dc:language>
  <cp:lastModifiedBy>najmeh soltani nejad</cp:lastModifiedBy>
  <dcterms:modified xsi:type="dcterms:W3CDTF">2019-01-20T10:38:34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