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145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145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2CC5-A7A8-499E-A3A5-A11BC10CB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9B87-CC5A-4A42-8E29-22E675F30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4CB6-D689-4801-A84C-75D2D491C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C74B-D769-43AD-9603-39EE2112B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0AFB-69E5-4929-A14D-D913CCD7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D3AA-82BE-4B0A-9E1C-B55690EE3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BE1E-46DF-4BE2-8F33-98FF5E22B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C99E-9F4E-4E6F-88F9-2821166FB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4090-25EF-489B-9735-E7D73A29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769A-66EB-4317-B9DC-874F7EBC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DE5E-7AC1-4F9B-828E-0AF4A99C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A291-EA4D-425A-BD67-F18F8037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4B800-DDF8-45AC-95F8-040B0A70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1A98-9CB9-44BD-A8C2-8B45F658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7F15-E682-4C77-9307-A1ED7C78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58FE-E1B8-43D6-A436-0D9EEBAB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2E0F-E7CB-4EEE-877B-0DBEBC88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7ED3-AD18-4A6E-9F4A-38095EB5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508D-7DA9-4D26-B1EA-69D825802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351E-F889-4156-920C-A73A2EF93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429DB-9A15-4216-874F-479AA78CE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A0447-B4A4-44CA-ACB6-14929FBF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91302-B8E8-41E6-9314-888FA5DF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F6B39-A5A4-4527-81DC-74B21F16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B88F6-49C9-4491-92F6-36C914E6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09B7-575F-4895-A82D-8E7F2E26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91C09-246A-4A28-885E-AAF102B0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F1BB0-8A07-4AF0-B5F1-35726471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E40A5-70F0-4A6F-B032-76D647E3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74FE4-7030-4F1E-A168-FBC93DD7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760BE-E52C-4803-BACE-589DB126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DFB53-3E39-4FA6-9BEF-F8EFE7C58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1CDF0-74DD-4EB0-8E1B-3F96FC61F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69268-3478-407A-8111-F1E8CDFEF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46EF9-2D28-49EE-8ACE-038D2ABC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0AB3A-5278-4CE5-9058-33E2330D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9662-9198-49D1-BBB2-6E0AFA44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42112-BE41-483C-AFF1-C27FB517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15470-D959-45EB-957A-039BA6B7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F4EBE-9EFF-4597-8422-B6536557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61275-AC7F-4E80-9EFD-0F72029D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DDD96-5D2E-47C5-9129-935A5CEF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106C1-7D7D-4DF3-8A51-48E5562E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532F5-4700-4581-A4A2-A56852EB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1A0C1-0642-4149-BEED-C6A40993A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47DFD-7806-41E8-8E91-F1C7A4AAE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145A-1BD6-4DAC-88B0-EADA3B9A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237D-736D-4CBC-A63C-64471044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2F45-C188-4D8E-A9E0-CA1CC471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7A6F-0E65-4A49-A268-82FA93B3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348D-D6C7-43A4-8644-62D1714B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CAEE-1C9A-4198-B207-9F7C6FB168E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D59E-913B-43ED-9340-B67940DFE98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3CDE-5898-4B03-820D-4633441978C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38F7-907B-4DB4-91A4-FD49BD570AE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3429000" y="91440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262626"/>
                </a:solidFill>
                <a:latin typeface="Constantia"/>
                <a:cs typeface="B Titr"/>
              </a:rPr>
              <a:t>باسمه تعال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4"/>
          <p:cNvSpPr/>
          <p:nvPr/>
        </p:nvSpPr>
        <p:spPr>
          <a:xfrm>
            <a:off x="609480" y="1981080"/>
            <a:ext cx="746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262626"/>
                </a:solidFill>
                <a:latin typeface="Constantia"/>
                <a:cs typeface="2  Titr"/>
              </a:rPr>
              <a:t>برنامه سازمان سازی دانشگاه فرهنگیان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1143000" y="3962520"/>
            <a:ext cx="6477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262626"/>
                </a:solidFill>
                <a:latin typeface="Constantia"/>
                <a:cs typeface="2  Mitra"/>
              </a:rPr>
              <a:t>تهیه و تنظیم : یوسف نجف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262626"/>
                </a:solidFill>
                <a:latin typeface="Constantia"/>
                <a:cs typeface="2  Mitra"/>
              </a:rPr>
              <a:t>تیر ماه </a:t>
            </a:r>
            <a:r>
              <a:rPr b="1" lang="fa-IR" sz="3200" spc="-1" strike="noStrike">
                <a:solidFill>
                  <a:srgbClr val="262626"/>
                </a:solidFill>
                <a:latin typeface="Constantia"/>
                <a:ea typeface="2  Mitra"/>
              </a:rPr>
              <a:t>13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4617b"/>
                </a:solidFill>
                <a:latin typeface="Calibri"/>
                <a:cs typeface="B Titr"/>
              </a:rPr>
              <a:t>فضایل دانشجو معلمان: 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914400" y="1934640"/>
            <a:ext cx="777240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 rtl="1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 در این فضا دانشجو معلمان مفتخر به هویت اسلامی ـ ایرانی، متعهد به ارزش های انقلابی، خودباور، دارای انگیزه و نشاط، آگاه و حساس به مسائل جامعه، مسؤولیت پذیر، قانون مدار، نقدپذیر، خلاق، کارآفرین، نوآور، جویای علم و برخوردار از سلامت فر دی، اجتماعی و روانی و امیدوار به آینده خواهند بود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3"/>
          <p:cNvSpPr/>
          <p:nvPr/>
        </p:nvSpPr>
        <p:spPr>
          <a:xfrm>
            <a:off x="0" y="13716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1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B Mitra"/>
              </a:rPr>
              <a:t>سند چشم انداز بیست ساله کشو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4"/>
          <p:cNvSpPr/>
          <p:nvPr/>
        </p:nvSpPr>
        <p:spPr>
          <a:xfrm>
            <a:off x="2514600" y="762120"/>
            <a:ext cx="5943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Constantia"/>
                <a:cs typeface="B Titr"/>
              </a:rPr>
              <a:t>اسناد بالا دست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5"/>
          <p:cNvSpPr/>
          <p:nvPr/>
        </p:nvSpPr>
        <p:spPr>
          <a:xfrm>
            <a:off x="0" y="19051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2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B Mitra"/>
              </a:rPr>
              <a:t>سند نقشه جامع علمی کشو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76320" y="24382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3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B Mitra"/>
              </a:rPr>
              <a:t>احکام برنامه پنجم توسع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7"/>
          <p:cNvSpPr/>
          <p:nvPr/>
        </p:nvSpPr>
        <p:spPr>
          <a:xfrm>
            <a:off x="76320" y="29718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4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B Mitra"/>
              </a:rPr>
              <a:t>برنامه پنجم توسعه آموزش و پرور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8"/>
          <p:cNvSpPr/>
          <p:nvPr/>
        </p:nvSpPr>
        <p:spPr>
          <a:xfrm>
            <a:off x="76320" y="35812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5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B Mitra"/>
              </a:rPr>
              <a:t>برنامه پنجم توسعه وزارت علوم ، تحقیقات و فن آور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9"/>
          <p:cNvSpPr/>
          <p:nvPr/>
        </p:nvSpPr>
        <p:spPr>
          <a:xfrm>
            <a:off x="0" y="41911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6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B Mitra"/>
              </a:rPr>
              <a:t>سند تحول بنیادین آموزش و پرور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0"/>
          <p:cNvSpPr/>
          <p:nvPr/>
        </p:nvSpPr>
        <p:spPr>
          <a:xfrm>
            <a:off x="76320" y="47242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7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B Mitra"/>
              </a:rPr>
              <a:t>سند نظام جامع تربیت معلم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1"/>
          <p:cNvSpPr/>
          <p:nvPr/>
        </p:nvSpPr>
        <p:spPr>
          <a:xfrm>
            <a:off x="76320" y="53341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8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B Mitra"/>
              </a:rPr>
              <a:t>اساسنامه دانشگا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2"/>
          <p:cNvSpPr/>
          <p:nvPr/>
        </p:nvSpPr>
        <p:spPr>
          <a:xfrm>
            <a:off x="0" y="58672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9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B Mitra"/>
              </a:rPr>
              <a:t>اسناد راهبردی بخشی وزارتین ( علوم – آموزش و پرور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4"/>
          <p:cNvSpPr/>
          <p:nvPr/>
        </p:nvSpPr>
        <p:spPr>
          <a:xfrm>
            <a:off x="990720" y="838080"/>
            <a:ext cx="6933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Constantia"/>
                <a:cs typeface="B Titr"/>
              </a:rPr>
              <a:t>مراجع بالا دستی قانون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6"/>
          <p:cNvSpPr/>
          <p:nvPr/>
        </p:nvSpPr>
        <p:spPr>
          <a:xfrm>
            <a:off x="0" y="13716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1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B Mitra"/>
              </a:rPr>
              <a:t>مصوبات شورای عالی انقلاب فرهنگ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7"/>
          <p:cNvSpPr/>
          <p:nvPr/>
        </p:nvSpPr>
        <p:spPr>
          <a:xfrm>
            <a:off x="0" y="19051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2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B Mitra"/>
              </a:rPr>
              <a:t>مصوبات مجلس شورای اسلامی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8"/>
          <p:cNvSpPr/>
          <p:nvPr/>
        </p:nvSpPr>
        <p:spPr>
          <a:xfrm>
            <a:off x="76320" y="24382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3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B Mitra"/>
              </a:rPr>
              <a:t>مصوبات شورای عالی آموزش عالی کشو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9"/>
          <p:cNvSpPr/>
          <p:nvPr/>
        </p:nvSpPr>
        <p:spPr>
          <a:xfrm>
            <a:off x="76320" y="29718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4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B Mitra"/>
              </a:rPr>
              <a:t>مصوبات شورای عالی آموزش و پرور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0"/>
          <p:cNvSpPr/>
          <p:nvPr/>
        </p:nvSpPr>
        <p:spPr>
          <a:xfrm>
            <a:off x="76320" y="35812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5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B Mitra"/>
              </a:rPr>
              <a:t>مصوبات هیات امناء دانشگا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4"/>
          <p:cNvSpPr/>
          <p:nvPr/>
        </p:nvSpPr>
        <p:spPr>
          <a:xfrm>
            <a:off x="380880" y="76212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Constantia"/>
                <a:ea typeface="B Titr"/>
              </a:rPr>
              <a:t> برنامه های راه اندازی دانشگا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5"/>
          <p:cNvSpPr/>
          <p:nvPr/>
        </p:nvSpPr>
        <p:spPr>
          <a:xfrm>
            <a:off x="304920" y="36576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4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B Mitra"/>
              </a:rPr>
              <a:t>تدوین ساختار پژوهشی و آیین نامه های مربوط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7"/>
          <p:cNvSpPr/>
          <p:nvPr/>
        </p:nvSpPr>
        <p:spPr>
          <a:xfrm>
            <a:off x="304920" y="480060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6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B Mitra"/>
              </a:rPr>
              <a:t>تدوین برنامه اخذ مجوز نشریه علمی دانشگاه ( مجوز نشریه علمی – پژوهشی مطالعات آموزشی تربیتی فرهنگیان نهایی شده است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9"/>
          <p:cNvSpPr/>
          <p:nvPr/>
        </p:nvSpPr>
        <p:spPr>
          <a:xfrm>
            <a:off x="304920" y="426708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5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B Mitra"/>
              </a:rPr>
              <a:t>تدوین برنامه دوره تحصیلات تکمیلی و دکتری (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6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B Mitra"/>
              </a:rPr>
              <a:t>رشته در حال نهایی شدن است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1"/>
          <p:cNvSpPr/>
          <p:nvPr/>
        </p:nvSpPr>
        <p:spPr>
          <a:xfrm>
            <a:off x="0" y="3124080"/>
            <a:ext cx="8686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3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-تدوین برنامه آموزش کوتاه مدت </a:t>
            </a:r>
            <a:r>
              <a:rPr b="1" lang="fa-IR" sz="1800" spc="-1" strike="noStrike">
                <a:solidFill>
                  <a:srgbClr val="000000"/>
                </a:solidFill>
                <a:latin typeface="Constantia"/>
                <a:ea typeface="B Mitra"/>
              </a:rPr>
              <a:t>( توانمند سازی فرهنگیان)(در تعامل با آموزش و پرورش نوشته شود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5"/>
          <p:cNvSpPr/>
          <p:nvPr/>
        </p:nvSpPr>
        <p:spPr>
          <a:xfrm>
            <a:off x="304920" y="144792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1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B Mitra"/>
              </a:rPr>
              <a:t>تدوین و تصویب نمودار، ساختار و تشکیلات تفضیلی،شرح وظایف،شرایط احراز و انتصاب دانشگاه ( سازمان مرکزی ، پردیس ها و سایر مراک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9"/>
          <p:cNvSpPr/>
          <p:nvPr/>
        </p:nvSpPr>
        <p:spPr>
          <a:xfrm>
            <a:off x="0" y="2133720"/>
            <a:ext cx="868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2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B Mitra"/>
              </a:rPr>
              <a:t>تدوین و تصویب آیین نامه های ( آموزشی - پژوهشی - دانشجویی - فرهنگی - تربیتی و انضباطی - اجرایی - علمی -مالی - معاملاتی - استخدامی ( اعضاء هیات علمی و غیر هیات علمی)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3"/>
          <p:cNvSpPr/>
          <p:nvPr/>
        </p:nvSpPr>
        <p:spPr>
          <a:xfrm>
            <a:off x="685800" y="33526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11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-تعیین شرایط و ضوابط تحصیل دانشج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-76320" y="406404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12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- تدوین ساختار و شرح وظایف کمیته های استانی هیات امناء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5"/>
          <p:cNvSpPr/>
          <p:nvPr/>
        </p:nvSpPr>
        <p:spPr>
          <a:xfrm>
            <a:off x="-76320" y="4724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13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- آئین نامه داخلی هیات امناء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0"/>
          <p:cNvSpPr/>
          <p:nvPr/>
        </p:nvSpPr>
        <p:spPr>
          <a:xfrm>
            <a:off x="304920" y="8380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7-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تدوین برنامه کارآموزی و کارورزی مناس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1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8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تدوین استانداردهای پردیس و سایر مراکز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2"/>
          <p:cNvSpPr/>
          <p:nvPr/>
        </p:nvSpPr>
        <p:spPr>
          <a:xfrm>
            <a:off x="304920" y="20574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9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تدوین آئین نامه داخلی هیات رئیسه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3"/>
          <p:cNvSpPr/>
          <p:nvPr/>
        </p:nvSpPr>
        <p:spPr>
          <a:xfrm>
            <a:off x="380880" y="269244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10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تدوین آئین نامه داخلی شورای دانشگاه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4"/>
          <p:cNvSpPr/>
          <p:nvPr/>
        </p:nvSpPr>
        <p:spPr>
          <a:xfrm>
            <a:off x="-76320" y="52578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14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- آئین نامه سفرهای علمی – بورس تحصیلی – فرصت های مطالعات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3"/>
          <p:cNvSpPr/>
          <p:nvPr/>
        </p:nvSpPr>
        <p:spPr>
          <a:xfrm>
            <a:off x="-76320" y="28195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18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-  آئین نامه شورای مشورتی دانشگاه( هنوز نهایی نشده است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4"/>
          <p:cNvSpPr/>
          <p:nvPr/>
        </p:nvSpPr>
        <p:spPr>
          <a:xfrm>
            <a:off x="-76320" y="33526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19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- آئین نامه  انضباطی دانشگا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5"/>
          <p:cNvSpPr/>
          <p:nvPr/>
        </p:nvSpPr>
        <p:spPr>
          <a:xfrm>
            <a:off x="-76320" y="380988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20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- تقویم فعالیت های ( تربیتی دانشجویی- فرهنگی - اجتماعی – سیاسی - تربیت بدنی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2"/>
          <p:cNvSpPr/>
          <p:nvPr/>
        </p:nvSpPr>
        <p:spPr>
          <a:xfrm>
            <a:off x="-152280" y="11430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15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- شیوه نامه تدوین دوره ها و رشته های تحصیلی( شورای برنامه ریزی آموزشی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3"/>
          <p:cNvSpPr/>
          <p:nvPr/>
        </p:nvSpPr>
        <p:spPr>
          <a:xfrm>
            <a:off x="-152280" y="17017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16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-  شیوه نامه نحوه وصول در آمدها اختصاصی و هزینه کرد آ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4"/>
          <p:cNvSpPr/>
          <p:nvPr/>
        </p:nvSpPr>
        <p:spPr>
          <a:xfrm>
            <a:off x="-76320" y="2286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17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-آئین نامه های( حق پژوهانه – آموزانه- ترجمانه- نویسانه و...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6"/>
          <p:cNvSpPr/>
          <p:nvPr/>
        </p:nvSpPr>
        <p:spPr>
          <a:xfrm>
            <a:off x="-76320" y="43434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21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- تدوین وظایف و اختیارات روسای پردیس ها و سایر مراک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Box 3"/>
          <p:cNvSpPr/>
          <p:nvPr/>
        </p:nvSpPr>
        <p:spPr>
          <a:xfrm>
            <a:off x="0" y="259092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25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-تدوین دروس معارف دینی و تعلیم و تربیت اسلامی در تعامل با حوزه (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8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 واحد نهایی شده است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4"/>
          <p:cNvSpPr/>
          <p:nvPr/>
        </p:nvSpPr>
        <p:spPr>
          <a:xfrm>
            <a:off x="0" y="327672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26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- تدوین دوره یکساله مهارت آموزی برای استخدام از سایر دانشگاه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5"/>
          <p:cNvSpPr/>
          <p:nvPr/>
        </p:nvSpPr>
        <p:spPr>
          <a:xfrm>
            <a:off x="76320" y="39625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27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- کار گروه بررسی اصلاح اساسنام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6"/>
          <p:cNvSpPr/>
          <p:nvPr/>
        </p:nvSpPr>
        <p:spPr>
          <a:xfrm>
            <a:off x="-76320" y="6094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22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- تدوین نحوه ادامه تحصیل فرهنگیان باهمکاری آموزش و پرور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7"/>
          <p:cNvSpPr/>
          <p:nvPr/>
        </p:nvSpPr>
        <p:spPr>
          <a:xfrm>
            <a:off x="-76320" y="116856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23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-  شیوه نامه تدوین برنامه های آموزش و سرفصل دروس(شورای برنامه ریزی درس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8"/>
          <p:cNvSpPr/>
          <p:nvPr/>
        </p:nvSpPr>
        <p:spPr>
          <a:xfrm>
            <a:off x="0" y="185436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24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- تدوین برنامه آموزشی – پژوهشی – تربیتی دانشگا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3"/>
          <p:cNvSpPr/>
          <p:nvPr/>
        </p:nvSpPr>
        <p:spPr>
          <a:xfrm>
            <a:off x="533520" y="609480"/>
            <a:ext cx="8001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5"/>
          <p:cNvSpPr/>
          <p:nvPr/>
        </p:nvSpPr>
        <p:spPr>
          <a:xfrm>
            <a:off x="1143000" y="167652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28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 - دستورالعمل اعطای ترفیع سالیانه اعضاء هیات علمی آموزشی و پژوهشی ابلاغی از سوی وزارت علو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6"/>
          <p:cNvSpPr/>
          <p:nvPr/>
        </p:nvSpPr>
        <p:spPr>
          <a:xfrm>
            <a:off x="304920" y="21337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29-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آیین نامه ارتقاء مرتبه علمی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7"/>
          <p:cNvSpPr/>
          <p:nvPr/>
        </p:nvSpPr>
        <p:spPr>
          <a:xfrm>
            <a:off x="380880" y="264780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30-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دستورالعمل خدمت اعضاء به شیوه نیمه حضور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8"/>
          <p:cNvSpPr/>
          <p:nvPr/>
        </p:nvSpPr>
        <p:spPr>
          <a:xfrm>
            <a:off x="76320" y="32004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31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کمیته تعیین صلاحیت مدرسی( ماده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33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) آئین نامه استخدامی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9"/>
          <p:cNvSpPr/>
          <p:nvPr/>
        </p:nvSpPr>
        <p:spPr>
          <a:xfrm>
            <a:off x="76320" y="37339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32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دستورالعمل اجرایی قانون حمایت قضایی از اعضاء هیات علمی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0"/>
          <p:cNvSpPr/>
          <p:nvPr/>
        </p:nvSpPr>
        <p:spPr>
          <a:xfrm>
            <a:off x="152280" y="43434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33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آیین نامه استفاده از فرصت های مطالعات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1"/>
          <p:cNvSpPr/>
          <p:nvPr/>
        </p:nvSpPr>
        <p:spPr>
          <a:xfrm>
            <a:off x="152280" y="48769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34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ماموریت پژوهشی – ماموریت آموزش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3"/>
          <p:cNvSpPr/>
          <p:nvPr/>
        </p:nvSpPr>
        <p:spPr>
          <a:xfrm>
            <a:off x="0" y="9144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35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آئین نامه اعطای بورس تحصیلی داخل کشور وخارج از کشور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4"/>
          <p:cNvSpPr/>
          <p:nvPr/>
        </p:nvSpPr>
        <p:spPr>
          <a:xfrm>
            <a:off x="0" y="14479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36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دستور العمل پرداخت کمک های رفاه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0" y="19810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37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دستورالعمل نحوه انتخاب استاد ممتاز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6"/>
          <p:cNvSpPr/>
          <p:nvPr/>
        </p:nvSpPr>
        <p:spPr>
          <a:xfrm>
            <a:off x="0" y="299736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39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اجرای آئین نامه استخدامی اعضای غیر هیات علمی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6"/>
          <p:cNvSpPr/>
          <p:nvPr/>
        </p:nvSpPr>
        <p:spPr>
          <a:xfrm>
            <a:off x="0" y="3429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40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اجرای آئین نامه استخدامی اعضای هیات علم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6"/>
          <p:cNvSpPr/>
          <p:nvPr/>
        </p:nvSpPr>
        <p:spPr>
          <a:xfrm>
            <a:off x="0" y="3886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41 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تشکیل هیات اجرایی جذ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6"/>
          <p:cNvSpPr/>
          <p:nvPr/>
        </p:nvSpPr>
        <p:spPr>
          <a:xfrm>
            <a:off x="0" y="48769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43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تشکیل دبیرخانه هیات اجرایی جذ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6"/>
          <p:cNvSpPr/>
          <p:nvPr/>
        </p:nvSpPr>
        <p:spPr>
          <a:xfrm>
            <a:off x="0" y="53341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44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راه اندازی بسیج دانشجویی – بسیج اساتید و کارکن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6"/>
          <p:cNvSpPr/>
          <p:nvPr/>
        </p:nvSpPr>
        <p:spPr>
          <a:xfrm>
            <a:off x="0" y="5791320"/>
            <a:ext cx="868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45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راه اندازی نهاد نمایندگی مقام معظم رهبر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46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ـ راه اندازی دفتر دانشگاه پژوه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6"/>
          <p:cNvSpPr/>
          <p:nvPr/>
        </p:nvSpPr>
        <p:spPr>
          <a:xfrm>
            <a:off x="0" y="43434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42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تشکیل کار گروه بررسی صلاحیت عموم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6"/>
          <p:cNvSpPr/>
          <p:nvPr/>
        </p:nvSpPr>
        <p:spPr>
          <a:xfrm>
            <a:off x="0" y="2514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38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دستورالعمل بکارگیری عضو وابسته در دانشگا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Box 3"/>
          <p:cNvSpPr/>
          <p:nvPr/>
        </p:nvSpPr>
        <p:spPr>
          <a:xfrm>
            <a:off x="152280" y="15811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1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B Mitra"/>
              </a:rPr>
              <a:t>هیات امنا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4"/>
          <p:cNvSpPr/>
          <p:nvPr/>
        </p:nvSpPr>
        <p:spPr>
          <a:xfrm>
            <a:off x="380880" y="99072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Constantia"/>
                <a:ea typeface="B Titr"/>
              </a:rPr>
              <a:t> </a:t>
            </a:r>
            <a:r>
              <a:rPr b="0" lang="fa-IR" sz="2600" spc="-1" strike="noStrike">
                <a:solidFill>
                  <a:srgbClr val="000000"/>
                </a:solidFill>
                <a:latin typeface="Constantia"/>
                <a:cs typeface="B Titr"/>
              </a:rPr>
              <a:t>تشکیل شوراها و کارگروههای علمی - اجرای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6"/>
          <p:cNvSpPr/>
          <p:nvPr/>
        </p:nvSpPr>
        <p:spPr>
          <a:xfrm>
            <a:off x="152280" y="21337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2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کمیسیون دائمی هیات امنا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7"/>
          <p:cNvSpPr/>
          <p:nvPr/>
        </p:nvSpPr>
        <p:spPr>
          <a:xfrm>
            <a:off x="152280" y="28195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3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هیات رئیس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8"/>
          <p:cNvSpPr/>
          <p:nvPr/>
        </p:nvSpPr>
        <p:spPr>
          <a:xfrm>
            <a:off x="152280" y="35053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4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شورای دانشگاه ( پردیس – مرکز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9"/>
          <p:cNvSpPr/>
          <p:nvPr/>
        </p:nvSpPr>
        <p:spPr>
          <a:xfrm>
            <a:off x="228600" y="42670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5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هیات ممیزه ( درخواست شده است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0"/>
          <p:cNvSpPr/>
          <p:nvPr/>
        </p:nvSpPr>
        <p:spPr>
          <a:xfrm>
            <a:off x="228600" y="48769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6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کمیسیون تخصصی هیات ممیز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4617b"/>
                </a:solidFill>
                <a:latin typeface="2  Titr"/>
                <a:cs typeface="B Titr"/>
              </a:rPr>
              <a:t>مدیریت و رهبری تأسیسی: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2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onstantia"/>
                <a:cs typeface="B Mitra"/>
              </a:rPr>
              <a:t>به مدیریتی که نقش آن سازمان سازی یا تحول اساسی در سازمانهای موجود است، مدیریت و رهبری تاسیسی می گویند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914400" y="2819520"/>
            <a:ext cx="784872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4617b"/>
                </a:solidFill>
                <a:latin typeface="2  Titr"/>
                <a:cs typeface="B Titr"/>
              </a:rPr>
              <a:t>انواع سازمان سازی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457200" y="365760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B Mitra"/>
              </a:rPr>
              <a:t>1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B Mitra"/>
              </a:rPr>
              <a:t>ـ سازمان سازی تکراری(براساس الگوی مشابه ساخته می شود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B Mitra"/>
              </a:rPr>
              <a:t>2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B Mitra"/>
              </a:rPr>
              <a:t>ـ سازمان سازی جدید (هیچ الگوی مشابه وجود ندارد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B Mitra"/>
              </a:rPr>
              <a:t>3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B Mitra"/>
              </a:rPr>
              <a:t>ـ سازمان سازی توسعه ـ تکرار واره (تکامل یافته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B Mitra"/>
              </a:rPr>
              <a:t>در نوع اول: مدیریت باید قوی باشد ولی رهبری ضعیف هم می تواند نقش داشته باشد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B Mitra"/>
              </a:rPr>
              <a:t>در نوع دوم: هم رهبری و هم مدیریت، هر دو قوی و باید مبتکرانه باش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B Mitra"/>
              </a:rPr>
              <a:t>در نوع سوم: هم رهبری و هم مدیریت هر دو قوی و مبتکرانه و مبتنی بر دانش تجربه باشد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3"/>
          <p:cNvSpPr/>
          <p:nvPr/>
        </p:nvSpPr>
        <p:spPr>
          <a:xfrm>
            <a:off x="0" y="7621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7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کمیته ترفیع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4"/>
          <p:cNvSpPr/>
          <p:nvPr/>
        </p:nvSpPr>
        <p:spPr>
          <a:xfrm>
            <a:off x="0" y="132084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8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هیات اجرایی جذب  اعضاء هیات علم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5"/>
          <p:cNvSpPr/>
          <p:nvPr/>
        </p:nvSpPr>
        <p:spPr>
          <a:xfrm>
            <a:off x="0" y="19051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9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کمیسیون تخصصی جذ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6"/>
          <p:cNvSpPr/>
          <p:nvPr/>
        </p:nvSpPr>
        <p:spPr>
          <a:xfrm>
            <a:off x="152280" y="2514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10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دبیرخانه هیات اجرایی جذ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7"/>
          <p:cNvSpPr/>
          <p:nvPr/>
        </p:nvSpPr>
        <p:spPr>
          <a:xfrm>
            <a:off x="152280" y="30733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11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کمیته تعیین صلاحیت مدرسی( ماده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33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8"/>
          <p:cNvSpPr/>
          <p:nvPr/>
        </p:nvSpPr>
        <p:spPr>
          <a:xfrm>
            <a:off x="152280" y="3657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12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کمیسیون پزشکی دانشگاه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9"/>
          <p:cNvSpPr/>
          <p:nvPr/>
        </p:nvSpPr>
        <p:spPr>
          <a:xfrm>
            <a:off x="76320" y="41911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13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کمیته رفاهی و ورزش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0"/>
          <p:cNvSpPr/>
          <p:nvPr/>
        </p:nvSpPr>
        <p:spPr>
          <a:xfrm>
            <a:off x="76320" y="4724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14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- هیات اجرایی منابع انسانی( اعضاء غیر هیات علمی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1"/>
          <p:cNvSpPr/>
          <p:nvPr/>
        </p:nvSpPr>
        <p:spPr>
          <a:xfrm>
            <a:off x="76320" y="53341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15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تاسیس هسته گزینش( در حال انجام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2"/>
          <p:cNvSpPr/>
          <p:nvPr/>
        </p:nvSpPr>
        <p:spPr>
          <a:xfrm>
            <a:off x="0" y="5943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16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تاسیس هیات بدوی رسیدگی به تخلفات اداری( در حال انجا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7"/>
          <p:cNvSpPr/>
          <p:nvPr/>
        </p:nvSpPr>
        <p:spPr>
          <a:xfrm>
            <a:off x="152280" y="1143000"/>
            <a:ext cx="8686800" cy="61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17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B Mitra"/>
              </a:rPr>
              <a:t>کمیته رکود علمی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18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B Mitra"/>
              </a:rPr>
              <a:t>شورای مشورتی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19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B Mitra"/>
              </a:rPr>
              <a:t>شورای تخصصی معاونت ها( آموزشی و تحصیلات تکمیلی – پژوهشی و فن آوری- فرهنگ و تربیتی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20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- شورای راهبردی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B Mitra"/>
              </a:rPr>
              <a:t>ict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21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- شورای کار آفرین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22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- شورای فرهنگی استان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23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- کمیته هیات امناء استانی دانشگاه فرهنگی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24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- شورای مالی دانشگا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onstantia"/>
                <a:ea typeface="2  Mitr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3"/>
          <p:cNvSpPr/>
          <p:nvPr/>
        </p:nvSpPr>
        <p:spPr>
          <a:xfrm>
            <a:off x="533520" y="990720"/>
            <a:ext cx="8153280" cy="75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000000"/>
                </a:solidFill>
                <a:latin typeface="Constantia"/>
                <a:ea typeface="2  Titr"/>
              </a:rPr>
              <a:t> با سپاس مجدد از حسن توجه </a:t>
            </a:r>
            <a:r>
              <a:rPr b="0" lang="fa-IR" sz="7200" spc="-1" strike="noStrike">
                <a:solidFill>
                  <a:srgbClr val="000000"/>
                </a:solidFill>
                <a:latin typeface="Constantia"/>
                <a:cs typeface="2  Titr"/>
              </a:rPr>
              <a:t>شما</a:t>
            </a:r>
            <a:r>
              <a:rPr b="0" lang="fa-IR" sz="2400" spc="-1" strike="noStrike">
                <a:solidFill>
                  <a:srgbClr val="000000"/>
                </a:solidFill>
                <a:latin typeface="Constantia"/>
                <a:ea typeface="2  Tit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000000"/>
                </a:solidFill>
                <a:latin typeface="Constantia"/>
                <a:cs typeface="2  Titr"/>
              </a:rPr>
              <a:t>موفق باشی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onstantia"/>
                <a:ea typeface="2  Tit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onstantia"/>
                <a:ea typeface="2  Titr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onstantia"/>
                <a:ea typeface="2  Titr"/>
              </a:rPr>
              <a:t> </a:t>
            </a:r>
            <a:r>
              <a:rPr b="1" lang="fa-IR" sz="4400" spc="-1" strike="noStrike">
                <a:solidFill>
                  <a:srgbClr val="000000"/>
                </a:solidFill>
                <a:latin typeface="Constantia"/>
                <a:cs typeface="2  Titr"/>
              </a:rPr>
              <a:t>خدایا چنان کن سر انجام  کار      تو خشنود باشی ما رستگا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onstantia"/>
                <a:cs typeface="B Titr"/>
              </a:rPr>
              <a:t>یوسف نجفی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 rtl="1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onstantia"/>
                <a:ea typeface="B Mitra"/>
              </a:rPr>
              <a:t>1</a:t>
            </a:r>
            <a:r>
              <a:rPr b="1" lang="fa-IR" sz="1800" spc="-1" strike="noStrike">
                <a:solidFill>
                  <a:srgbClr val="000000"/>
                </a:solidFill>
                <a:latin typeface="Constantia"/>
                <a:cs typeface="B Mitra"/>
              </a:rPr>
              <a:t>ـ توانایی تحول در بنیادها و پایه های سازمانی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 rtl="1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onstantia"/>
                <a:ea typeface="B Mitra"/>
              </a:rPr>
              <a:t>2</a:t>
            </a:r>
            <a:r>
              <a:rPr b="1" lang="fa-IR" sz="1800" spc="-1" strike="noStrike">
                <a:solidFill>
                  <a:srgbClr val="000000"/>
                </a:solidFill>
                <a:latin typeface="Constantia"/>
                <a:cs typeface="B Mitra"/>
              </a:rPr>
              <a:t>ـ خلاقیت سازمانی و قدرت ابتکار عمل کلان و پایه ای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 rtl="1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onstantia"/>
                <a:ea typeface="B Mitra"/>
              </a:rPr>
              <a:t>3</a:t>
            </a:r>
            <a:r>
              <a:rPr b="1" lang="fa-IR" sz="1800" spc="-1" strike="noStrike">
                <a:solidFill>
                  <a:srgbClr val="000000"/>
                </a:solidFill>
                <a:latin typeface="Constantia"/>
                <a:cs typeface="B Mitra"/>
              </a:rPr>
              <a:t>ـ داشتن دانش تجربی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 rtl="1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onstantia"/>
                <a:ea typeface="B Mitra"/>
              </a:rPr>
              <a:t>4</a:t>
            </a:r>
            <a:r>
              <a:rPr b="1" lang="fa-IR" sz="1800" spc="-1" strike="noStrike">
                <a:solidFill>
                  <a:srgbClr val="000000"/>
                </a:solidFill>
                <a:latin typeface="Constantia"/>
                <a:cs typeface="B Mitra"/>
              </a:rPr>
              <a:t>ـ توانایی بالای تعامل بیرونی (نهادهای پیش برنده)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 rtl="1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onstantia"/>
                <a:ea typeface="B Mitra"/>
              </a:rPr>
              <a:t>5</a:t>
            </a:r>
            <a:r>
              <a:rPr b="1" lang="fa-IR" sz="1800" spc="-1" strike="noStrike">
                <a:solidFill>
                  <a:srgbClr val="000000"/>
                </a:solidFill>
                <a:latin typeface="Constantia"/>
                <a:cs typeface="B Mitra"/>
              </a:rPr>
              <a:t>ـ داشتن تیم مبتکر، برنامه ریز و با دانش تجربی و روحیه تیم کاری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 rtl="1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onstantia"/>
                <a:ea typeface="B Mitra"/>
              </a:rPr>
              <a:t>6</a:t>
            </a:r>
            <a:r>
              <a:rPr b="1" lang="fa-IR" sz="1800" spc="-1" strike="noStrike">
                <a:solidFill>
                  <a:srgbClr val="000000"/>
                </a:solidFill>
                <a:latin typeface="Constantia"/>
                <a:cs typeface="B Mitra"/>
              </a:rPr>
              <a:t>ـ پی گیری مستمر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 rtl="1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onstantia"/>
                <a:ea typeface="B Mitra"/>
              </a:rPr>
              <a:t>7</a:t>
            </a:r>
            <a:r>
              <a:rPr b="1" lang="fa-IR" sz="1800" spc="-1" strike="noStrike">
                <a:solidFill>
                  <a:srgbClr val="000000"/>
                </a:solidFill>
                <a:latin typeface="Constantia"/>
                <a:cs typeface="B Mitra"/>
              </a:rPr>
              <a:t>ـ داشتن تفکر آرمانی با پرهیز از وعده های غیر واقع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 rtl="1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onstantia"/>
                <a:ea typeface="B Mitra"/>
              </a:rPr>
              <a:t>8</a:t>
            </a:r>
            <a:r>
              <a:rPr b="1" lang="fa-IR" sz="1800" spc="-1" strike="noStrike">
                <a:solidFill>
                  <a:srgbClr val="000000"/>
                </a:solidFill>
                <a:latin typeface="Constantia"/>
                <a:cs typeface="B Mitra"/>
              </a:rPr>
              <a:t>ـ داشتن اقتدار مدیریتی ( قانونی ـ پاداشی ـ تنبیهی ـ تخصصی ـ شخصیتی)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 rtl="1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4617b"/>
                </a:solidFill>
                <a:latin typeface="2  Titr"/>
                <a:cs typeface="B Titr"/>
              </a:rPr>
              <a:t>ویژگی مدیران تاسیسی: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500" spc="-1" strike="noStrike">
                <a:solidFill>
                  <a:srgbClr val="04617b"/>
                </a:solidFill>
                <a:latin typeface="Calibri"/>
                <a:cs typeface="B Mitra"/>
              </a:rPr>
              <a:t>شئونات رهبری تاسیسی: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914400" y="193464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 rtl="1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onstantia"/>
                <a:cs typeface="B Mitra"/>
              </a:rPr>
              <a:t>سازمان سازی، یکی از شئونات مدیریت و رهبری تاسیسی است که علاوه از نیاز به دانش مدیریتی، مبتنی بر دانش تجربه هم می باشد؛ لذا ایجاد و تاسیس هر سازمانی چه بصورت تاسیس کاملاً جدید و چه تکراری و چه تکاملی یکی از سخت ترین و حساس ترین مدیریتها است؛ زیرا بنیان موسسه (سازمان ) براساس افق های مدیر تاسیسی شکل می گیرد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 rtl="1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onstantia"/>
                <a:cs typeface="B Mitra"/>
              </a:rPr>
              <a:t>یکی از وظایف رهبری تاسیسی، در کنار سازمان سازی براساس اسناد بالا دستی و مصوبات مراجع قانونی بویژه اساسنامه مصوب، تهیه اسناد راهبردی به شرح ذیل می باشد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algn="r" rtl="1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2  Titr"/>
                <a:cs typeface="B Titr"/>
              </a:rPr>
              <a:t>تدوین و تصویب چشم انداز دانشگاه  </a:t>
            </a:r>
            <a:br>
              <a:rPr sz="2000"/>
            </a:br>
            <a:r>
              <a:rPr b="0" lang="fa-IR" sz="2000" spc="-1" strike="noStrike">
                <a:solidFill>
                  <a:srgbClr val="000000"/>
                </a:solidFill>
                <a:latin typeface="2  Titr"/>
                <a:cs typeface="B Titr"/>
              </a:rPr>
              <a:t>تدوین و تصویب ماموریت (رسالت) دانشگاه </a:t>
            </a:r>
            <a:br>
              <a:rPr sz="2000"/>
            </a:br>
            <a:r>
              <a:rPr b="0" lang="fa-IR" sz="2000" spc="-1" strike="noStrike">
                <a:solidFill>
                  <a:srgbClr val="000000"/>
                </a:solidFill>
                <a:latin typeface="2  Titr"/>
                <a:cs typeface="B Titr"/>
              </a:rPr>
              <a:t>تدوین و تصویب استراتژی ( سیاست راهبردی) دانشگاه </a:t>
            </a:r>
            <a:br>
              <a:rPr sz="2000"/>
            </a:br>
            <a:r>
              <a:rPr b="0" lang="fa-IR" sz="2000" spc="-1" strike="noStrike">
                <a:solidFill>
                  <a:srgbClr val="000000"/>
                </a:solidFill>
                <a:latin typeface="2  Titr"/>
                <a:cs typeface="B Titr"/>
              </a:rPr>
              <a:t>تدوین و تصویب برنامه راهبردی دانشگاه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34286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2  Titr"/>
                <a:cs typeface="B Titr"/>
              </a:rPr>
              <a:t>تدوین و تصویب خط مشی کلی بخشها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2  Titr"/>
                <a:cs typeface="B Titr"/>
              </a:rPr>
              <a:t>تدوین و تصویب خط مشی اجرایی بخشها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2  Titr"/>
                <a:cs typeface="B Titr"/>
              </a:rPr>
              <a:t>تدوین و تصویب سیاست های کلان بخشی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2  Titr"/>
                <a:ea typeface="B Titr"/>
              </a:rPr>
              <a:t>(آموزشی ـ پژوهشی ـ فرهنگی ـ تربیتی ـ دانشجویی ـ توسعه مدیریت و منابع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11"/>
          <p:cNvSpPr/>
          <p:nvPr/>
        </p:nvSpPr>
        <p:spPr>
          <a:xfrm>
            <a:off x="838080" y="121932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2  Titr"/>
                <a:cs typeface="B Titr"/>
              </a:rPr>
              <a:t>به استناد ماده یک اساسنام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2"/>
          <p:cNvSpPr/>
          <p:nvPr/>
        </p:nvSpPr>
        <p:spPr>
          <a:xfrm>
            <a:off x="685800" y="1676520"/>
            <a:ext cx="769608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2  Mitra"/>
                <a:cs typeface="B Mitra"/>
              </a:rPr>
              <a:t>دانشگاه فرهنگیان ، دانشگاهی است پیشرو در آموزش، پژوهش ، تولید و ترویج علم نافع مورد نیاز آموزش و پرورش ، سرآمد در آموزش و شایستگی های حرفه ای و تخصصی تربیت محور ، توانمند در بهره گیری از فناوری های نوین آموزشی و تربیتی در انجام ماموریت های مبتنی بر معیارهای نظام اسلامی ، توانمند در زمینه سازی برای شکوفایی فطرت، استعدادها و شکل گیری هویت یکپارچه اسلامی – ایرانی – انقلابی دانشجو معلمان ، برخوردار از هیات علمی و مدیران مومن،آراسته به فضائل اخلاق اسلامی ، عامل به عمل صالح، تعالی جو و تحول آفرین ، باورمند به جامعه عدل جهنی ( جامعه مهدوی ) که در جلسه </a:t>
            </a:r>
            <a:r>
              <a:rPr b="1" lang="fa-IR" sz="1800" spc="-1" strike="noStrike">
                <a:solidFill>
                  <a:srgbClr val="000000"/>
                </a:solidFill>
                <a:latin typeface="2  Mitra"/>
                <a:ea typeface="B Mitra"/>
              </a:rPr>
              <a:t>704</a:t>
            </a:r>
            <a:r>
              <a:rPr b="1" lang="fa-IR" sz="1800" spc="-1" strike="noStrike">
                <a:solidFill>
                  <a:srgbClr val="000000"/>
                </a:solidFill>
                <a:latin typeface="2  Mitra"/>
                <a:ea typeface="B Mitra"/>
              </a:rPr>
              <a:t> مورخ </a:t>
            </a:r>
            <a:r>
              <a:rPr b="1" lang="fa-IR" sz="1800" spc="-1" strike="noStrike">
                <a:solidFill>
                  <a:srgbClr val="000000"/>
                </a:solidFill>
                <a:latin typeface="2  Mitra"/>
                <a:ea typeface="B Mitra"/>
              </a:rPr>
              <a:t>90/10/6</a:t>
            </a:r>
            <a:r>
              <a:rPr b="1" lang="fa-IR" sz="1800" spc="-1" strike="noStrike">
                <a:solidFill>
                  <a:srgbClr val="000000"/>
                </a:solidFill>
                <a:latin typeface="2  Mitra"/>
                <a:ea typeface="B Mitra"/>
              </a:rPr>
              <a:t> شورای عالی انقلاب فرهنگی و بنا به پیشنهاد مورخ </a:t>
            </a:r>
            <a:r>
              <a:rPr b="1" lang="fa-IR" sz="1800" spc="-1" strike="noStrike">
                <a:solidFill>
                  <a:srgbClr val="000000"/>
                </a:solidFill>
                <a:latin typeface="2  Mitra"/>
                <a:ea typeface="B Mitra"/>
              </a:rPr>
              <a:t>90/06/28</a:t>
            </a:r>
            <a:r>
              <a:rPr b="1" lang="fa-IR" sz="1800" spc="-1" strike="noStrike">
                <a:solidFill>
                  <a:srgbClr val="000000"/>
                </a:solidFill>
                <a:latin typeface="2  Mitra"/>
                <a:ea typeface="B Mitra"/>
              </a:rPr>
              <a:t> وزیر آموزش و پرورش به تصویب رسیده است، و در تاریخ اول اسفند ماه </a:t>
            </a:r>
            <a:r>
              <a:rPr b="1" lang="fa-IR" sz="1800" spc="-1" strike="noStrike">
                <a:solidFill>
                  <a:srgbClr val="000000"/>
                </a:solidFill>
                <a:latin typeface="2  Mitra"/>
                <a:ea typeface="B Mitra"/>
              </a:rPr>
              <a:t>1390</a:t>
            </a:r>
            <a:r>
              <a:rPr b="1" lang="fa-IR" sz="1800" spc="-1" strike="noStrike">
                <a:solidFill>
                  <a:srgbClr val="000000"/>
                </a:solidFill>
                <a:latin typeface="2  Mitra"/>
                <a:ea typeface="B Mitra"/>
              </a:rPr>
              <a:t> با امضاِ رئیس جمهور محترم ابلاغ شد و دانشگاه ماموریت خود را با انتخاب اولین سرپرست دانشگاه به تاریخ </a:t>
            </a:r>
            <a:r>
              <a:rPr b="1" lang="fa-IR" sz="1800" spc="-1" strike="noStrike">
                <a:solidFill>
                  <a:srgbClr val="000000"/>
                </a:solidFill>
                <a:latin typeface="2  Mitra"/>
                <a:ea typeface="B Mitra"/>
              </a:rPr>
              <a:t>91/3/10</a:t>
            </a:r>
            <a:r>
              <a:rPr b="1" lang="fa-IR" sz="1800" spc="-1" strike="noStrike">
                <a:solidFill>
                  <a:srgbClr val="000000"/>
                </a:solidFill>
                <a:latin typeface="2  Mitra"/>
                <a:ea typeface="B Mitra"/>
              </a:rPr>
              <a:t> از سوی وزیر محترم آموزش و پرورش بطور رسمی آغاز نمو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11"/>
          <p:cNvSpPr/>
          <p:nvPr/>
        </p:nvSpPr>
        <p:spPr>
          <a:xfrm>
            <a:off x="762120" y="11430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2  Titr"/>
                <a:cs typeface="B Titr"/>
              </a:rPr>
              <a:t>ماموریت دانشگ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2"/>
          <p:cNvSpPr/>
          <p:nvPr/>
        </p:nvSpPr>
        <p:spPr>
          <a:xfrm>
            <a:off x="685800" y="1676520"/>
            <a:ext cx="7696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2  Mitra"/>
                <a:cs typeface="B Mitra"/>
              </a:rPr>
              <a:t>به استناد ماده یک اساسنامه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2  Mitra"/>
                <a:cs typeface="B Mitra"/>
              </a:rPr>
              <a:t>دانشگاه فرهنگیان ، دانشگاهی است؛ برای تامین ، تربیت و توانمندسازی منابع انسانی وزارت آموزش و پرورش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3"/>
          <p:cNvSpPr/>
          <p:nvPr/>
        </p:nvSpPr>
        <p:spPr>
          <a:xfrm>
            <a:off x="4343400" y="6324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685800" y="32767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2  Titr"/>
                <a:ea typeface="B Titr"/>
              </a:rPr>
              <a:t> شخصیت حقوقی و ساماندهی دانشگ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6"/>
          <p:cNvSpPr/>
          <p:nvPr/>
        </p:nvSpPr>
        <p:spPr>
          <a:xfrm>
            <a:off x="609480" y="3962520"/>
            <a:ext cx="7696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2  Mitra"/>
                <a:cs typeface="B Mitra"/>
              </a:rPr>
              <a:t>به استناد ماده </a:t>
            </a:r>
            <a:r>
              <a:rPr b="1" lang="fa-IR" sz="1800" spc="-1" strike="noStrike">
                <a:solidFill>
                  <a:srgbClr val="000000"/>
                </a:solidFill>
                <a:latin typeface="2  Mitra"/>
                <a:ea typeface="B Mitra"/>
              </a:rPr>
              <a:t>4</a:t>
            </a:r>
            <a:r>
              <a:rPr b="1" lang="fa-IR" sz="1800" spc="-1" strike="noStrike">
                <a:solidFill>
                  <a:srgbClr val="000000"/>
                </a:solidFill>
                <a:latin typeface="2  Mitra"/>
                <a:ea typeface="B Mitra"/>
              </a:rPr>
              <a:t> و ماده </a:t>
            </a:r>
            <a:r>
              <a:rPr b="1" lang="fa-IR" sz="1800" spc="-1" strike="noStrike">
                <a:solidFill>
                  <a:srgbClr val="000000"/>
                </a:solidFill>
                <a:latin typeface="2  Mitra"/>
                <a:ea typeface="B Mitra"/>
              </a:rPr>
              <a:t>5</a:t>
            </a:r>
            <a:r>
              <a:rPr b="1" lang="fa-IR" sz="1800" spc="-1" strike="noStrike">
                <a:solidFill>
                  <a:srgbClr val="000000"/>
                </a:solidFill>
                <a:latin typeface="2  Mitra"/>
                <a:ea typeface="B Mitra"/>
              </a:rPr>
              <a:t> اساسنامه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2  Mitra"/>
                <a:cs typeface="B Mitra"/>
              </a:rPr>
              <a:t>دانشگاه دارای شخصیت حقوقی و استقلال اداری و مالی بوده و با تاسیس آن مجتمع آموزش عالی پیامبر اعظم (ص) و مراکز تربیت معلم در قالب </a:t>
            </a:r>
            <a:r>
              <a:rPr b="1" lang="fa-IR" sz="1800" spc="-1" strike="noStrike">
                <a:solidFill>
                  <a:srgbClr val="000000"/>
                </a:solidFill>
                <a:latin typeface="2  Mitra"/>
                <a:ea typeface="B Mitra"/>
              </a:rPr>
              <a:t>64</a:t>
            </a:r>
            <a:r>
              <a:rPr b="1" lang="fa-IR" sz="1800" spc="-1" strike="noStrike">
                <a:solidFill>
                  <a:srgbClr val="000000"/>
                </a:solidFill>
                <a:latin typeface="2  Mitra"/>
                <a:ea typeface="B Mitra"/>
              </a:rPr>
              <a:t> پردیس ( خواهران و برادران ) و با سازمان مرکزی مستقر در تهران ساماندهی شد و کلیه نیروی انسانی موجود ( کارکنان- مدرسان) در دانشگاه فرهنگیان سازماندهی گردی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2  Mitra"/>
                <a:cs typeface="B Mitra"/>
              </a:rPr>
              <a:t>بنابراین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2  Mitra"/>
                <a:cs typeface="B Mitra"/>
              </a:rPr>
              <a:t>با اتکال به ذات لایزال الهی و در پرتو ایمان و الهام از آموزه های راستین اسلام، تلاش و تدبیر و با توجه به سرمایه های عظیم مادی و معنوی و در مسیر نیل به دانشگاه فرهنگ و</a:t>
            </a:r>
            <a:br>
              <a:rPr sz="2000"/>
            </a:br>
            <a:r>
              <a:rPr b="1" lang="fa-IR" sz="2000" spc="-1" strike="noStrike">
                <a:solidFill>
                  <a:srgbClr val="000000"/>
                </a:solidFill>
                <a:latin typeface="2  Mitra"/>
                <a:ea typeface="B Mitra"/>
              </a:rPr>
              <a:t> تمدن ساز، در افق سند چشم انداز جمهوری اسلامی ایران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546422"/>
                </a:solidFill>
                <a:latin typeface="2  Mitra"/>
                <a:ea typeface="B Mitra"/>
              </a:rPr>
              <a:t>”دانشگاه فرهنگیان نهادی تربیت محور، فرهنگ و تمدن ساز و اثربخش در مسیر جنبش نرم افزاری، تولید علم، جامعه پذیری فرهنگی و پویا در زمینه آزاد اندیشی و نظریه پردازی بویژه علوم تربیتی مبتنی بر تعلیم و تربیت اسلامی است. ”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4617b"/>
                </a:solidFill>
                <a:latin typeface="Calibri"/>
                <a:cs typeface="B Titr"/>
              </a:rPr>
              <a:t>رسالت اساتید دانشگاه :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14400" y="193464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 rtl="1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onstantia"/>
                <a:cs typeface="B Mitra"/>
              </a:rPr>
              <a:t>استاتید متعهد، متخصص، آشنا به نیازها، دارای تعامل سازنده و مثبت با دانشجومعلمان و ایفاگر نقش تربیتی ـ فرهنگی و انسان سازی در محیط دانشگاه هستند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06:20:15Z</dcterms:created>
  <dc:creator>sayyaf</dc:creator>
  <dc:description/>
  <dc:language>en-US</dc:language>
  <cp:lastModifiedBy>najafi</cp:lastModifiedBy>
  <dcterms:modified xsi:type="dcterms:W3CDTF">2013-02-25T11:54:09Z</dcterms:modified>
  <cp:revision>103</cp:revision>
  <dc:subject/>
  <dc:title>Slide 1</dc:title>
</cp:coreProperties>
</file>