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875-C0C1-4E18-BBAD-5638F5BD1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0F12-E3C8-4755-B6EF-6DEF8B8FF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EAA-63AB-42DE-837E-1C6A9456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405-25B8-4680-87B1-B5E42142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F8B-548F-4570-A2AF-846ADE3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9D9-A18E-4949-8CC4-6BDC5603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1CA-0C68-42A7-B775-5714DD33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47C-6D44-4217-85D1-4DF37AA4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5E44-E85C-4AD6-A592-729C22D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F97-7D84-4BE7-8A5A-91B22111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5CEE-CF57-4238-AF6F-32A90AD8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2664-BD33-4867-ACBC-41CB782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D03F-3509-4B95-AED6-805BCAA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D34-0278-4213-8CF3-8529BA8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20E-B6E9-43A5-BA06-13734E1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8010-63EB-47AF-9AFA-0F1702C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6DA-9526-40B7-B75D-526C74C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2221-EF89-4317-856B-686590B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6DD-12CF-4286-9FB2-9923D8BF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0E74-C5BD-4A96-93F3-0640DE54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CFB6-C4A3-4D6C-8FF4-6C3EC129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CB41-E1A4-4D58-A9E7-038C8E4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B2B5-1AD7-48B4-8EA5-653E36A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354B-7046-45ED-8C4A-296D8E2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C81F-0B65-413C-A63A-974FE6C5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32E-55FA-4C3D-AE81-2F2C242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FD9D-A5E6-44B3-BBE8-54D1D10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F4EE-69E8-4024-A8FF-0B0C54A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A134-732A-4E36-AB95-D593EB0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1329-BE08-4D84-A598-8EE2FC9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F7C3-BAC9-46A7-AF34-D84E434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9C24-9DFB-4834-890F-5E6DFB3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61CC-6EC1-4929-99B7-853D9AF3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3923-C705-40F9-B8A4-D735B097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B2FD-27AD-4881-B840-A1D62C87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719C-CC08-4833-9CAB-0523BF3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686-0A4E-4973-8D18-6BBA2FE8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DBAE-E9A8-4589-8906-6FC62EE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831D-2936-433D-87E6-60D59BD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297F-8BC4-4F00-8A94-A171364F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AAAA-E499-49E8-8839-B4AB812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AF5D-77A8-4C66-956A-9B1922E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2F7C-2D94-4600-A9B2-D4A8923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3071-EFA9-4B03-8D83-1FBEB460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BDC1-0A85-4B93-8769-728F9C05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6BEA-5E47-45FA-8FFE-2F19F4FD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E51-2349-44FE-B77D-7EB9523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5C5-2DD1-452C-B3D9-43A1546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77E-17B0-4F2A-BC64-FDEBD84B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D87-762E-480D-AADD-46A132E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574-922B-4760-ACFD-EA03332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AEC3-007A-40A1-B02E-81200AC6BC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706F-D5DC-4B68-827B-68786E88CF7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48A-A6B0-419D-ACFC-ED655D9D56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75F-83A1-4D37-A5CB-10C97872C6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3429000" y="9144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262626"/>
                </a:solidFill>
                <a:latin typeface="Constantia"/>
                <a:cs typeface="B Titr"/>
              </a:rPr>
              <a:t>باسمه تعال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609480" y="19810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262626"/>
                </a:solidFill>
                <a:latin typeface="Constantia"/>
                <a:cs typeface="2  Titr"/>
              </a:rPr>
              <a:t>برنامه سازمان سازی دانشگاه فرهنگیا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1143000" y="3962520"/>
            <a:ext cx="6477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262626"/>
                </a:solidFill>
                <a:latin typeface="Constantia"/>
                <a:cs typeface="2  Mitra"/>
              </a:rPr>
              <a:t>تهیه و تنظیم : یوسف نجف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262626"/>
                </a:solidFill>
                <a:latin typeface="Constantia"/>
                <a:cs typeface="2  Mitra"/>
              </a:rPr>
              <a:t>تیر ماه </a:t>
            </a:r>
            <a:r>
              <a:rPr b="1" lang="fa-IR" sz="3200" spc="-1" strike="noStrike">
                <a:solidFill>
                  <a:srgbClr val="262626"/>
                </a:solidFill>
                <a:latin typeface="Constantia"/>
                <a:ea typeface="2  Mitra"/>
              </a:rPr>
              <a:t>13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4617b"/>
                </a:solidFill>
                <a:latin typeface="Calibri"/>
                <a:cs typeface="B Titr"/>
              </a:rPr>
              <a:t>فضایل دانشجو معلمان: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14400" y="193464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در این فضا دانشجو معلمان مفتخر به هویت اسلامی ـ ایرانی، متعهد به ارزش های انقلابی، خودباور، دارای انگیزه و نشاط، آگاه و حساس به مسائل جامعه، مسؤولیت پذیر، قانون مدار، نقدپذیر، خلاق، کارآفرین، نوآور، جویای علم و برخوردار از سلامت فر دی، اجتماعی و روانی و امیدوار به آینده خواهند بود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0" y="1371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چشم انداز بیست ساله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514600" y="762120"/>
            <a:ext cx="594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اسناد بالا دس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نقشه جامع علمی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6320" y="243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حکام برنامه پنجم توس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763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برنامه پنجم توسعه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7632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برنامه پنجم توسعه وزارت علوم ، تحقیقات و فن آو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0" y="4191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تحول بنیادین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76320" y="4724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سند نظام جامع تربیت معلم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763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ساسنامه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0" y="5867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اسناد راهبردی بخشی وزارتین ( علوم – آموزش و پرور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4"/>
          <p:cNvSpPr/>
          <p:nvPr/>
        </p:nvSpPr>
        <p:spPr>
          <a:xfrm>
            <a:off x="990720" y="838080"/>
            <a:ext cx="693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مراجع بالا دستی قانون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0" y="1371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انقلاب فرهنگ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مجلس شورای اسلا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76320" y="2438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آموزش عالی کش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763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شورای عالی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7632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مصوبات هیات امناء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4"/>
          <p:cNvSpPr/>
          <p:nvPr/>
        </p:nvSpPr>
        <p:spPr>
          <a:xfrm>
            <a:off x="380880" y="762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Titr"/>
              </a:rPr>
              <a:t> برنامه های راه اندازی دانشگا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304920" y="3657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ساختار پژوهشی و آیین نامه های مربوط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304920" y="4800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برنامه اخذ مجوز نشریه علمی دانشگاه ( مجوز نشریه علمی – پژوهشی مطالعات آموزشی تربیتی فرهنگیان نهایی شده است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304920" y="4267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برنامه دوره تحصیلات تکمیلی و دکتری (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رشته در حال نهایی شدن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1"/>
          <p:cNvSpPr/>
          <p:nvPr/>
        </p:nvSpPr>
        <p:spPr>
          <a:xfrm>
            <a:off x="0" y="31240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تدوین برنامه آموزش کوتاه مدت 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( توانمند سازی فرهنگیان)(در تعامل با آموزش و پرورش نوشته شو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304920" y="14479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و تصویب نمودار، ساختار و تشکیلات تفضیلی،شرح وظایف،شرایط احراز و انتصاب دانشگاه ( سازمان مرکزی ، پردیس ها و سایر مراک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0" y="213372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تدوین و تصویب آیین نامه های ( آموزشی - پژوهشی - دانشجویی - فرهنگی - تربیتی و انضباطی - اجرایی - علمی -مالی - معاملاتی - استخدامی ( اعضاء هیات علمی و غیر هیات علمی)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685800" y="3352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تعیین شرایط و ضوابط تحصیل دانشج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-76320" y="40640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ساختار و شرح وظایف کمیته های استانی هیات امن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-763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داخلی هیات امن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304920" y="838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7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برنامه کارآموزی و کارورزی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استانداردهای پردیس و سایر مراکز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304920" y="2057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آئین نامه داخلی هیات رئیس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380880" y="26924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دوین آئین نامه داخلی شورای دانشگا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-76320" y="5257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سفرهای علمی – بورس تحصیلی – فرصت های مطالعات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-7632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آئین نامه شورای مشورتی دانشگاه( هنوز نهایی نشده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-76320" y="3352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9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آئین نامه  انضباطی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-76320" y="3809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0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قویم فعالیت های ( تربیتی دانشجویی- فرهنگی - اجتماعی – سیاسی - تربیت بدنی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-152280" y="1143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5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شیوه نامه تدوین دوره ها و رشته های تحصیلی( شورای برنامه ریزی آموزش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-152280" y="1701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شیوه نامه نحوه وصول در آمدها اختصاصی و هزینه کرد 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"/>
          <p:cNvSpPr/>
          <p:nvPr/>
        </p:nvSpPr>
        <p:spPr>
          <a:xfrm>
            <a:off x="-7632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7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آئین نامه های( حق پژوهانه – آموزانه- ترجمانه- نویسانه و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-7632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وظایف و اختیارات روسای پردیس ها و سایر مراک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0" y="2590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5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تدوین دروس معارف دینی و تعلیم و تربیت اسلامی در تعامل با حوزه (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واحد نهایی شده است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0" y="3276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دوره یکساله مهارت آموزی برای استخدام از سایر دانشگاه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76320" y="3962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7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کار گروه بررسی اصلاح اساسنام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-76320" y="609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نحوه ادامه تحصیل فرهنگیان باهمکاری آموزش و پرور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-76320" y="11685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 شیوه نامه تدوین برنامه های آموزش و سرفصل دروس(شورای برنامه ریزی درس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0" y="1854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تدوین برنامه آموزشی – پژوهشی – تربیتی دانشگا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533520" y="609480"/>
            <a:ext cx="800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1143000" y="16765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- دستورالعمل اعطای ترفیع سالیانه اعضاء هیات علمی آموزشی و پژوهشی ابلاغی از سوی وزارت علو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04920" y="2133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9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یین نامه ارتقاء مرتبه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380880" y="26478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0-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خدمت اعضاء به شیوه نیمه حضو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76320" y="3200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عیین صلاحیت مدرسی( ماده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) آئین نامه استخدا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76320" y="3733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اجرایی قانون حمایت قضایی از اعضاء هیات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15228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یین نامه استفاده از فرصت های مطالعات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15228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ماموریت پژوهشی – ماموریت آموزش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3"/>
          <p:cNvSpPr/>
          <p:nvPr/>
        </p:nvSpPr>
        <p:spPr>
          <a:xfrm>
            <a:off x="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آئین نامه اعطای بورس تحصیلی داخل کشور وخارج از کشور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0" y="1447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 العمل پرداخت کمک های رفاه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0" y="1981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نحوه انتخاب استاد ممتاز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0" y="299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اجرای آئین نامه استخدامی اعضای غیر هیات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0" y="342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اجرای آئین نامه استخدامی اعضای هیات عل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1 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دبیرخانه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0" y="5334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راه اندازی بسیج دانشجویی – بسیج اساتید و کارکن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0" y="57913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راه اندازی نهاد نمایندگی مقام معظم رهبر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6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ـ راه اندازی دفتر دانشگاه پژوه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شکیل کار گروه بررسی صلاحیت عمو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ستورالعمل بکارگیری عضو وابسته در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152280" y="1581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هیات امن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380880" y="9907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onstantia"/>
                <a:ea typeface="B Titr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Constantia"/>
                <a:cs typeface="B Titr"/>
              </a:rPr>
              <a:t>تشکیل شوراها و کارگروههای علمی - اجرای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5228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دائمی هیات امن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5228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رئیس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152280" y="3505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4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شورای دانشگاه ( پردیس – مرکز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9"/>
          <p:cNvSpPr/>
          <p:nvPr/>
        </p:nvSpPr>
        <p:spPr>
          <a:xfrm>
            <a:off x="228600" y="4267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ممیزه ( درخواست شده اس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تخصصی هیات ممیز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مدیریت و رهبری تأسیسی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2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به مدیریتی که نقش آن سازمان سازی یا تحول اساسی در سازمانهای موجود است، مدیریت و رهبری تاسیسی می گوین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914400" y="2819520"/>
            <a:ext cx="7848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انواع سازمان سازی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57200" y="36576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تکراری(براساس الگوی مشابه ساخته می شو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جدید (هیچ الگوی مشابه وجود ندارد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B Mitr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ـ سازمان سازی توسعه ـ تکرار واره (تکامل یافته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اول: مدیریت باید قوی باشد ولی رهبری ضعیف هم می تواند نقش داشته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دوم: هم رهبری و هم مدیریت، هر دو قوی و باید مبتکرانه باش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در نوع سوم: هم رهبری و هم مدیریت هر دو قوی و مبتکرانه و مبتنی بر دانش تجربه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0" y="762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رفی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13208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هیات اجرایی جذب  اعضاء هیات عل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0" y="1905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تخصص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5228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0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دبیرخانه هیات اجرایی جذ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152280" y="3073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1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تعیین صلاحیت مدرسی( ماده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3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15228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2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سیون پزشکی دانشگاه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76320" y="4191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3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کمیته رفاهی و ورزش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763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- هیات اجرایی منابع انسانی( اعضاء غیر هیات علمی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76320" y="5334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5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اسیس هسته گزینش( در حال انجام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0" y="5943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2  Mitra"/>
              </a:rPr>
              <a:t>16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2  Mitra"/>
              </a:rPr>
              <a:t>تاسیس هیات بدوی رسیدگی به تخلفات اداری( در حال انجا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7"/>
          <p:cNvSpPr/>
          <p:nvPr/>
        </p:nvSpPr>
        <p:spPr>
          <a:xfrm>
            <a:off x="152280" y="1143000"/>
            <a:ext cx="868680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7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کمیته رکود علم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8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شورای مشورتی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19- 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cs typeface="B Mitra"/>
              </a:rPr>
              <a:t>شورای تخصصی معاونت ها( آموزشی و تحصیلات تکمیلی – پژوهشی و فن آوری- فرهنگ و تربیت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0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راهبردی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B Mitra"/>
              </a:rPr>
              <a:t>ict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1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کار آفرین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2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فرهنگی استا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3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کمیته هیات امناء استانی دانشگاه فرهنگی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24</a:t>
            </a:r>
            <a:r>
              <a:rPr b="1" lang="fa-IR" sz="2000" spc="-1" strike="noStrike">
                <a:solidFill>
                  <a:srgbClr val="000000"/>
                </a:solidFill>
                <a:latin typeface="Constantia"/>
                <a:ea typeface="B Mitra"/>
              </a:rPr>
              <a:t>- شورای مالی دانشگ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onstantia"/>
                <a:ea typeface="2 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533520" y="990720"/>
            <a:ext cx="8153280" cy="75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onstantia"/>
                <a:ea typeface="2  Titr"/>
              </a:rPr>
              <a:t> با سپاس مجدد از حسن توجه </a:t>
            </a:r>
            <a:r>
              <a:rPr b="0" lang="fa-IR" sz="7200" spc="-1" strike="noStrike">
                <a:solidFill>
                  <a:srgbClr val="000000"/>
                </a:solidFill>
                <a:latin typeface="Constantia"/>
                <a:cs typeface="2  Titr"/>
              </a:rPr>
              <a:t>شما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onstantia"/>
                <a:cs typeface="2  Titr"/>
              </a:rPr>
              <a:t>موفق باشی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2  Tit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2  Titr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onstantia"/>
                <a:cs typeface="2  Titr"/>
              </a:rPr>
              <a:t>خدایا چنان کن سر انجام  کار      تو خشنود باشی ما رستگ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onstantia"/>
                <a:cs typeface="B Titr"/>
              </a:rPr>
              <a:t>یوسف نجف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توانایی تحول در بنیادها و پایه های سازمان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خلاقیت سازمانی و قدرت ابتکار عمل کلان و پایه ا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دانش تجرب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توانایی بالای تعامل بیرونی (نهادهای پیش برنده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تیم مبتکر، برنامه ریز و با دانش تجربی و روحیه تیم کار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پی گیری مستمر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تفکر آرمانی با پرهیز از وعده های غیر واق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ea typeface="B Mitra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ـ داشتن اقتدار مدیریتی ( قانونی ـ پاداشی ـ تنبیهی ـ تخصصی ـ شخصیتی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4617b"/>
                </a:solidFill>
                <a:latin typeface="2  Titr"/>
                <a:cs typeface="B Titr"/>
              </a:rPr>
              <a:t>ویژگی مدیران تاسیسی: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500" spc="-1" strike="noStrike">
                <a:solidFill>
                  <a:srgbClr val="04617b"/>
                </a:solidFill>
                <a:latin typeface="Calibri"/>
                <a:cs typeface="B Mitra"/>
              </a:rPr>
              <a:t>شئونات رهبری تاسیسی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سازمان سازی، یکی از شئونات مدیریت و رهبری تاسیسی است که علاوه از نیاز به دانش مدیریتی، مبتنی بر دانش تجربه هم می باشد؛ لذا ایجاد و تاسیس هر سازمانی چه بصورت تاسیس کاملاً جدید و چه تکراری و چه تکاملی یکی از سخت ترین و حساس ترین مدیریتها است؛ زیرا بنیان موسسه (سازمان ) براساس افق های مدیر تاسیسی شکل می گیر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onstantia"/>
                <a:cs typeface="B Mitra"/>
              </a:rPr>
              <a:t>یکی از وظایف رهبری تاسیسی، در کنار سازمان سازی براساس اسناد بالا دستی و مصوبات مراجع قانونی بویژه اساسنامه مصوب، تهیه اسناد راهبردی به شرح ذیل می باشد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چشم انداز دانشگاه 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ماموریت (رسالت) دانشگاه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استراتژی ( سیاست راهبردی) دانشگاه </a:t>
            </a:r>
            <a:br>
              <a:rPr sz="2000"/>
            </a:b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برنامه راهبردی دانشگاه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خط مشی کلی بخش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خط مشی اجرایی بخش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cs typeface="B Titr"/>
              </a:rPr>
              <a:t>تدوین و تصویب سیاست های کلان بخش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2  Titr"/>
                <a:ea typeface="B Titr"/>
              </a:rPr>
              <a:t>(آموزشی ـ پژوهشی ـ فرهنگی ـ تربیتی ـ دانشجویی ـ توسعه مدیریت و منابع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1"/>
          <p:cNvSpPr/>
          <p:nvPr/>
        </p:nvSpPr>
        <p:spPr>
          <a:xfrm>
            <a:off x="838080" y="12193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cs typeface="B Titr"/>
              </a:rPr>
              <a:t>به استناد ماده یک اساسنام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685800" y="1676520"/>
            <a:ext cx="7696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فرهنگیان ، دانشگاهی است پیشرو در آموزش، پژوهش ، تولید و ترویج علم نافع مورد نیاز آموزش و پرورش ، سرآمد در آموزش و شایستگی های حرفه ای و تخصصی تربیت محور ، توانمند در بهره گیری از فناوری های نوین آموزشی و تربیتی در انجام ماموریت های مبتنی بر معیارهای نظام اسلامی ، توانمند در زمینه سازی برای شکوفایی فطرت، استعدادها و شکل گیری هویت یکپارچه اسلامی – ایرانی – انقلابی دانشجو معلمان ، برخوردار از هیات علمی و مدیران مومن،آراسته به فضائل اخلاق اسلامی ، عامل به عمل صالح، تعالی جو و تحول آفرین ، باورمند به جامعه عدل جهنی ( جامعه مهدوی ) که در جلس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70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مور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0/10/6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شورای عالی انقلاب فرهنگی و بنا به پیشنهاد مور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0/06/28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وزیر آموزش و پرورش به تصویب رسیده است، و در تاریخ اول اسفند ما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1390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با امضاِ رئیس جمهور محترم ابلاغ شد و دانشگاه ماموریت خود را با انتخاب اولین سرپرست دانشگاه به تاریخ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91/3/10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از سوی وزیر محترم آموزش و پرورش بطور رسمی آغاز نم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1"/>
          <p:cNvSpPr/>
          <p:nvPr/>
        </p:nvSpPr>
        <p:spPr>
          <a:xfrm>
            <a:off x="762120" y="1143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cs typeface="B Titr"/>
              </a:rPr>
              <a:t>ماموریت دانش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685800" y="1676520"/>
            <a:ext cx="7696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به استناد ماده یک اساسنام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فرهنگیان ، دانشگاهی است؛ برای تامین ، تربیت و توانمندسازی منابع انسانی وزارت آموزش و پرورش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4343400" y="6324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85800" y="3276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2  Titr"/>
                <a:ea typeface="B Titr"/>
              </a:rPr>
              <a:t> شخصیت حقوقی و ساماندهی دانش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09480" y="396252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به استناد ماد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و ماده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اساسنام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Mitra"/>
                <a:cs typeface="B Mitra"/>
              </a:rPr>
              <a:t>دانشگاه دارای شخصیت حقوقی و استقلال اداری و مالی بوده و با تاسیس آن مجتمع آموزش عالی پیامبر اعظم (ص) و مراکز تربیت معلم در قالب 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64</a:t>
            </a:r>
            <a:r>
              <a:rPr b="1" lang="fa-IR" sz="1800" spc="-1" strike="noStrike">
                <a:solidFill>
                  <a:srgbClr val="000000"/>
                </a:solidFill>
                <a:latin typeface="2  Mitra"/>
                <a:ea typeface="B Mitra"/>
              </a:rPr>
              <a:t> پردیس ( خواهران و برادران ) و با سازمان مرکزی مستقر در تهران ساماندهی شد و کلیه نیروی انسانی موجود ( کارکنان- مدرسان) در دانشگاه فرهنگیان سازماندهی گرد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2  Mitra"/>
                <a:cs typeface="B Mitra"/>
              </a:rPr>
              <a:t>بنابراین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2  Mitra"/>
                <a:cs typeface="B Mitra"/>
              </a:rPr>
              <a:t>با اتکال به ذات لایزال الهی و در پرتو ایمان و الهام از آموزه های راستین اسلام، تلاش و تدبیر و با توجه به سرمایه های عظیم مادی و معنوی و در مسیر نیل به دانشگاه فرهنگ و</a:t>
            </a:r>
            <a:br>
              <a:rPr sz="2000"/>
            </a:br>
            <a:r>
              <a:rPr b="1" lang="fa-IR" sz="2000" spc="-1" strike="noStrike">
                <a:solidFill>
                  <a:srgbClr val="000000"/>
                </a:solidFill>
                <a:latin typeface="2  Mitra"/>
                <a:ea typeface="B Mitra"/>
              </a:rPr>
              <a:t> تمدن ساز، در افق سند چشم انداز جمهوری اسلامی ایران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546422"/>
                </a:solidFill>
                <a:latin typeface="2  Mitra"/>
                <a:ea typeface="B Mitra"/>
              </a:rPr>
              <a:t>”دانشگاه فرهنگیان نهادی تربیت محور، فرهنگ و تمدن ساز و اثربخش در مسیر جنبش نرم افزاری، تولید علم، جامعه پذیری فرهنگی و پویا در زمینه آزاد اندیشی و نظریه پردازی بویژه علوم تربیتی مبتنی بر تعلیم و تربیت اسلامی است. 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4617b"/>
                </a:solidFill>
                <a:latin typeface="Calibri"/>
                <a:cs typeface="B Titr"/>
              </a:rPr>
              <a:t>رسالت اساتید دانشگاه 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19346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onstantia"/>
                <a:cs typeface="B Mitra"/>
              </a:rPr>
              <a:t>استاتید متعهد، متخصص، آشنا به نیازها، دارای تعامل سازنده و مثبت با دانشجومعلمان و ایفاگر نقش تربیتی ـ فرهنگی و انسان سازی در محیط دانشگاه هستند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6:20:15Z</dcterms:created>
  <dc:creator>sayyaf</dc:creator>
  <dc:description/>
  <dc:language>en-US</dc:language>
  <cp:lastModifiedBy>najafi</cp:lastModifiedBy>
  <dcterms:modified xsi:type="dcterms:W3CDTF">2013-02-25T11:54:09Z</dcterms:modified>
  <cp:revision>103</cp:revision>
  <dc:subject/>
  <dc:title>Slide 1</dc:title>
</cp:coreProperties>
</file>